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24650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24800" cy="98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3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9880" y="-360"/>
            <a:ext cx="2913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8560" y="738000"/>
            <a:ext cx="4927680" cy="36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59640"/>
            <a:ext cx="2913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09880" y="9359640"/>
            <a:ext cx="2913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C133-F269-4F0E-85C1-B7B2137BE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1432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ountries: 1.2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132-7054-4C2D-B362-D91F7A7F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178-2DFE-4E0D-A81C-CB598672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86C-DD40-4A7D-9A9C-02DFFF07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179-5E25-4A57-82DA-5C28B8B6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19F-94D2-4F6F-AE5F-466E38D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17B-773D-4F21-B06B-86EEC8FA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B79-C312-43E8-AE3F-0FC24C8C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8C7-3F6F-437D-BFBD-75E028DF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CBB-9E64-4678-957E-F7C0FCBE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298-CECD-427B-A6E1-C320F56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577-CBA8-4E02-9487-7B75A969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E22-71FA-479D-949C-1746379C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E955-8C8A-4D96-B32B-52B28E719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2400" y="1600200"/>
            <a:ext cx="8425440" cy="411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Times New Roman"/>
              </a:rPr>
              <a:t>European Communit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Times New Roman"/>
              </a:rPr>
              <a:t>Development Polic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EB3-15DD-4D92-A23B-67B1D09DC79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Council/Commission’s 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Joint Statement 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of 10 November 200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Times New Roman"/>
              </a:rPr>
              <a:t>New orientations for EC development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7B4-4553-4579-803A-58C5842FEE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Principl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Sustainable, equitable and participatory  human and soci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Human Rights, democracy, rule of law, good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7E7-D7EA-440A-821E-347DD60248BF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Refocus on poverty re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Economical, social, environmental, commercial, institutional aspects, conflict preven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wnership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- participation, dialogue,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291-6E75-493C-8F99-7B7165A75A76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Refocusing of EC’s activiti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Princi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Maximise EC’s imp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Objective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EC added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Six are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Three horizontal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Synergies with other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A10-2627-432B-A075-2B974308CB4A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BA5A-77BC-45A6-A9B9-5AB4F9871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522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grated framework of EC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447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Central objective : poverty re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4920" y="2362320"/>
            <a:ext cx="8001000" cy="3886200"/>
            <a:chOff x="304920" y="2362320"/>
            <a:chExt cx="8001000" cy="3886200"/>
          </a:xfrm>
        </p:grpSpPr>
        <p:sp>
          <p:nvSpPr>
            <p:cNvPr id="99" name=""/>
            <p:cNvSpPr/>
            <p:nvPr/>
          </p:nvSpPr>
          <p:spPr>
            <a:xfrm>
              <a:off x="838440" y="2362320"/>
              <a:ext cx="6924600" cy="18288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cb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Trade and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Regional integration and co-op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Macro-economical and social sector support (Health, Educa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Food security and sustainable rural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Institutional capacity-building (governanc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440" y="5410080"/>
              <a:ext cx="7010280" cy="8384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cb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Human Right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Gender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925040" y="3657600"/>
              <a:ext cx="380880" cy="2133360"/>
              <a:chOff x="7925040" y="3657600"/>
              <a:chExt cx="380880" cy="2133360"/>
            </a:xfrm>
          </p:grpSpPr>
          <p:sp>
            <p:nvSpPr>
              <p:cNvPr id="102" name=""/>
              <p:cNvSpPr/>
              <p:nvPr/>
            </p:nvSpPr>
            <p:spPr>
              <a:xfrm>
                <a:off x="7925040" y="5790960"/>
                <a:ext cx="380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8305920" y="3657600"/>
                <a:ext cx="0" cy="21333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7925040" y="3657600"/>
                <a:ext cx="380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V="1">
              <a:off x="4648320" y="4419720"/>
              <a:ext cx="0" cy="838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4920" y="3581280"/>
              <a:ext cx="457200" cy="2285280"/>
              <a:chOff x="304920" y="3581280"/>
              <a:chExt cx="457200" cy="2285280"/>
            </a:xfrm>
          </p:grpSpPr>
          <p:sp>
            <p:nvSpPr>
              <p:cNvPr id="107" name=""/>
              <p:cNvSpPr/>
              <p:nvPr/>
            </p:nvSpPr>
            <p:spPr>
              <a:xfrm>
                <a:off x="304920" y="4435560"/>
                <a:ext cx="228600" cy="1431000"/>
              </a:xfrm>
              <a:custGeom>
                <a:avLst/>
                <a:gdLst/>
                <a:ahLst/>
                <a:rect l="l" t="t" r="r" b="b"/>
                <a:pathLst>
                  <a:path w="144" h="752">
                    <a:moveTo>
                      <a:pt x="144" y="751"/>
                    </a:moveTo>
                    <a:lnTo>
                      <a:pt x="65" y="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81240" y="5682240"/>
                <a:ext cx="380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381240" y="3581280"/>
                <a:ext cx="0" cy="21009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1240" y="3581280"/>
                <a:ext cx="380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Other aspects / Global issues / Synergi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ction against communicable diseases / health and development, trade,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01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nformation society - access to Internet and institutional co-oper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1379200">
            <a:off x="1980720" y="137160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DBF-984C-44CF-B1FF-D075D3141FDD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crease efficiency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Reform of external aid</a:t>
            </a:r>
            <a:r>
              <a:rPr b="0" i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strengthening of country strategies an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creation of EuropeAid Co-operation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deconcentration and decentr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Needs and performance, direct aid to  budget, sectoral programmes,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Relief/rehabilitation/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1379200">
            <a:off x="1980720" y="114300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24D-F714-4F6D-A8DF-220F29797A0A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crease efficiency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Co-ordination, Complementarit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Country Strategy Pa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Operational co-ord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International framework (“PRSP, CDF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379200">
            <a:off x="1828440" y="1447560"/>
            <a:ext cx="655308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DFA-52A1-47EE-80F0-DA4AE0089949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crease efficiency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U Policy Coherence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void negative external effects of domestic EU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ore attention / new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griculture (reform of C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isheries (reform of CF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eventing illicit arms 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ig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379200">
            <a:off x="1752120" y="160020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F22-FA9B-40F0-89C4-073B82A3A3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crease efficiency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Better Governanc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Ensure good governance at all levels and within al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ore attention / new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nstitutional capacit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ight against co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Global environmental &amp; social gover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379200">
            <a:off x="1752120" y="16765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30B-4E43-4CE0-AC61-81487CA755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GENERAL CONTEXT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world-wide.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Trade and investment liber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Technological revolution - Information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Movement of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Respon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Global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Poverty reduction Strateg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Integration of developing countries into world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D0C-D4EE-4E08-ADE1-D2BFAAF88222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Population on less than 1€/da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veloping countries:  1.2 bill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outh Asia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522 million   (40% 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frica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291 million   (46% +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ast Asia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278 million   (15%  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outh America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78 million   (16% 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entral Asia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24 million   ( 5% +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1D4-32D3-4260-9A43-28EB4556B5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rnational Framework</a:t>
            </a:r>
            <a:br>
              <a:rPr sz="40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Millennium Development Goals</a:t>
            </a: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alve the proportion of people living in extreme poverty by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hieve universal Primary education by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romote Gender equality and empower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educe by 2/3 the under-5 children mortality rate by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educe by 3/4 the maternal mortality rate by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ave halted by 2015 and begun to reverse the spread of HIV/AIDS and the incidence of malaria and other major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nsure environmental sus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velop a global partnership for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7D5-518C-4482-A0EE-E16E64411435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rnational Framework </a:t>
            </a:r>
            <a:br>
              <a:rPr sz="40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Financing for  develop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Generate sufficient funds to finance international development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Times New Roman"/>
              </a:rPr>
              <a:t>More attention / new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UN long term goal: 0,7% ODA/G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EU commitment to reach 0.39% ODA/GNI by 200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Debt relief (extended HI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Untying of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8620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379200">
            <a:off x="1905120" y="1523880"/>
            <a:ext cx="6559560" cy="38268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B2D-0DA3-4676-847A-209381D2CF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rnational Framework</a:t>
            </a:r>
            <a:br>
              <a:rPr sz="40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Doha Development Agenda</a:t>
            </a: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just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ustainable globalisation: ensure equitable integration of developing countries in 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 algn="just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Setting objectives that embrace environmental and consumer concerns and social development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 algn="just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Capacity building and technical ass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 algn="just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Global governance: active co-operation with ILO, UNEP and other relevant international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just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379200">
            <a:off x="1905120" y="1523880"/>
            <a:ext cx="6559560" cy="38268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E44-BFE7-419A-B761-1C0A6E15AE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rnational Framework</a:t>
            </a:r>
            <a:br>
              <a:rPr sz="4000"/>
            </a:b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ustainable Development Summit, Johannesbur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ommitments, partnerships, programmes and action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Poverty Era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Water and san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Sustainable production and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Management of natural resource base (water, oceans and fisheries, atmosphere, biodiversity, fore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Corporate respons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1379200">
            <a:off x="1905120" y="1523880"/>
            <a:ext cx="6559560" cy="38268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997-0DFB-446D-A3AF-DF89168A3A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EU and developing countries :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some statistics..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C and Member States : 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25 bn USD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 in 2000 - 0.32% GNI (DAC 0.2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C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4.9 bn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 (10% international to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C = 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argest donor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 of humanitarian aid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principal trade partner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 for man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94A-589E-4F9C-B127-5004F6623BD2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DA 200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9040" y="2054160"/>
          <a:ext cx="776448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54160"/>
                    <a:ext cx="776448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398-DBAC-45D1-AD63-4EF7B82547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5:03:50Z</dcterms:created>
  <dc:creator>thorfce</dc:creator>
  <dc:description/>
  <dc:language>en-US</dc:language>
  <cp:lastModifiedBy>Piera Calcinaghi</cp:lastModifiedBy>
  <cp:lastPrinted>2002-11-05T14:33:40Z</cp:lastPrinted>
  <dcterms:modified xsi:type="dcterms:W3CDTF">2002-11-06T11:48:50Z</dcterms:modified>
  <cp:revision>93</cp:revision>
  <dc:subject/>
  <dc:title>No Slide Title</dc:title>
</cp:coreProperties>
</file>