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24650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248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9880" y="-36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8560" y="738000"/>
            <a:ext cx="492768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5964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09880" y="9359640"/>
            <a:ext cx="2913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183D-46ED-4C6E-B149-3099EAAA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1432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ountries: 1.2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96400" y="4680000"/>
            <a:ext cx="4929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results of co-operation under Lomé have been mixed (loss of market shares, impa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aid etc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ime of particularly turbulent transition (globalisation, technological chang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ew geopolitical landscape,  demographic developments, environmental pressures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cesses from which the poorest countries risk to be excluded or which create 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terdependenci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rop in the aid effort of the OECD countries’ indica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loss of legitimacy of ai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 transition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3E0-61AC-4810-A770-ECD2DF31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E94-B86B-4663-8F5D-83AD0537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297-4EA3-47CE-930E-B9194053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6FC-3344-4992-9E2F-EB43ECE2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8AD-C7A2-45B0-A686-89B19E41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B7B-4D84-4A22-988E-21EB85DD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743-0DB5-4DBD-82C7-6DFC2CED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0B1-EA6C-42F3-AD15-1AFEF5BB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06E-A7A8-45DF-B628-D509B3E6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300-6142-40C2-9010-AF1B140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581-1EC3-4327-8CD0-297BD68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E0C-3FC3-4299-A603-532474B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C305-E546-410A-AE9B-2C10E9308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2400" y="1600200"/>
            <a:ext cx="8425440" cy="411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Times New Roman"/>
              </a:rPr>
              <a:t>European Communit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Times New Roman"/>
              </a:rPr>
              <a:t>Development Polic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215-FCD7-4833-BAD9-C7FD7B12026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Council/Commission’s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Joint Statement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of 10 November 200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Times New Roman"/>
              </a:rPr>
              <a:t>New orientations for EC development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971-5AD5-41BA-838D-56AC77689E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Principl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Sustainable, equitable and participatory  human and soci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Human Rights, democracy, rule of law, good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6B3-F242-4D70-AC3F-9B1B322F2E79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Refocus on poverty re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Economical, social, environmental, commercial, institutional aspects, conflict preven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wnership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 - participation, dialogue,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21D-46B4-4228-8DD5-5E6403560978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Refocusing of EC’s activiti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Princi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Maximise EC’s imp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Objective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EC added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Six are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Three horizontal t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Synergies with othe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336-DC77-4EE5-A582-057FDBA6EEEA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D85A-EFC6-47CD-BD43-6984DCB09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522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grated framework of EC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447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Central objective : poverty re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4920" y="2362320"/>
            <a:ext cx="8001000" cy="3886200"/>
            <a:chOff x="304920" y="2362320"/>
            <a:chExt cx="8001000" cy="3886200"/>
          </a:xfrm>
        </p:grpSpPr>
        <p:sp>
          <p:nvSpPr>
            <p:cNvPr id="99" name=""/>
            <p:cNvSpPr/>
            <p:nvPr/>
          </p:nvSpPr>
          <p:spPr>
            <a:xfrm>
              <a:off x="838440" y="2362320"/>
              <a:ext cx="6924600" cy="18288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cb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Trade and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Regional integration and co-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Macro-economical and social sector support (Health, Educ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Food security and sustainable rural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Institutional capacity-building (governan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440" y="5410080"/>
              <a:ext cx="7010280" cy="838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cb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Human Right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Gender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925040" y="3657600"/>
              <a:ext cx="380880" cy="2133360"/>
              <a:chOff x="7925040" y="3657600"/>
              <a:chExt cx="380880" cy="2133360"/>
            </a:xfrm>
          </p:grpSpPr>
          <p:sp>
            <p:nvSpPr>
              <p:cNvPr id="102" name=""/>
              <p:cNvSpPr/>
              <p:nvPr/>
            </p:nvSpPr>
            <p:spPr>
              <a:xfrm>
                <a:off x="7925040" y="579096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8305920" y="3657600"/>
                <a:ext cx="0" cy="21333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7925040" y="365760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flipV="1">
              <a:off x="4648320" y="4419720"/>
              <a:ext cx="0" cy="838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4920" y="3581280"/>
              <a:ext cx="457200" cy="2285280"/>
              <a:chOff x="304920" y="3581280"/>
              <a:chExt cx="457200" cy="2285280"/>
            </a:xfrm>
          </p:grpSpPr>
          <p:sp>
            <p:nvSpPr>
              <p:cNvPr id="107" name=""/>
              <p:cNvSpPr/>
              <p:nvPr/>
            </p:nvSpPr>
            <p:spPr>
              <a:xfrm>
                <a:off x="304920" y="4435560"/>
                <a:ext cx="228600" cy="1431000"/>
              </a:xfrm>
              <a:custGeom>
                <a:avLst/>
                <a:gdLst/>
                <a:ahLst/>
                <a:rect l="l" t="t" r="r" b="b"/>
                <a:pathLst>
                  <a:path w="144" h="752">
                    <a:moveTo>
                      <a:pt x="144" y="751"/>
                    </a:moveTo>
                    <a:lnTo>
                      <a:pt x="65" y="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81240" y="568224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381240" y="3581280"/>
                <a:ext cx="0" cy="21009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1240" y="3581280"/>
                <a:ext cx="3808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Other aspects / Global issues / Synergi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599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ction against communicable diseases / health and development, trade,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nformation society - access to Internet and institutional co-oper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379200">
            <a:off x="1980720" y="137160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A2E-D86A-48BF-B961-6A13074E95FC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Reform of external aid</a:t>
            </a:r>
            <a:r>
              <a:rPr b="0" i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strengthening of country strategies an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creation of EuropeAid Co-operation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deconcentration and decentr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Needs and performance, direct aid to  budget, sectoral programmes,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Relief/rehabilitation/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1379200">
            <a:off x="1980720" y="114300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E8D-7FB9-450A-BEDC-4144144E5716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Co-ordination, Complementarit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Country Strategy Pa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Operational co-ord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spcAft>
                <a:spcPts val="18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ff"/>
                </a:solidFill>
                <a:latin typeface="Times New Roman"/>
              </a:rPr>
              <a:t>International framework (“PRSP, CDF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379200">
            <a:off x="1828440" y="1447560"/>
            <a:ext cx="655308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1B5-4BBF-4E15-90C7-5D785C072E14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U Policy Coherence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void negative external effects of domestic EU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ore attention / new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griculture (reform of C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isheries (reform of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eventing illicit arms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ig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1379200">
            <a:off x="1752120" y="160020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269-2F6B-459E-8C69-6006987B9F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crease efficienc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etter Governanc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nsure good governance at all levels and within al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ore attention / new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nstitutional capacit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ight against 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lobal environmental &amp; social go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379200">
            <a:off x="1752120" y="16765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760-1EBC-46E1-82B2-3437334672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GENERAL CONTEXT</a:t>
            </a:r>
            <a:br>
              <a:rPr sz="4000"/>
            </a:b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world-wide.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Trade and investment liber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Technological revolution - Information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Movement of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Respon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Global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Poverty reduction Strateg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Integration of developing countries into world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52B-2C28-4CC8-9202-69543D694995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Population on less than 1€/da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veloping countries:  1.2 bill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uth Asi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522 million   (40% 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fric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291 million   (46% +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ast Asi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278 million   (15%  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uth America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78 million   (16% 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entral Asia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24 million   ( 5% +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D7F-851C-4A69-BE6C-E253F0D46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</a:t>
            </a:r>
            <a:br>
              <a:rPr sz="40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Millennium Development Goals</a:t>
            </a: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alve the proportion of people living in extreme poverty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hieve universal Primary education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omote Gender equality and empowe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educe by 2/3 the under-5 children mortality rate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educe by 3/4 the maternal mortality rate by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ave halted by 2015 and begun to reverse the spread of HIV/AIDS and the incidence of malaria and other major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nsure environmental sus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velop a global partnership for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86D-1080-4F41-98FB-1C7DB760AFF4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 </a:t>
            </a:r>
            <a:br>
              <a:rPr sz="40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Financing for  develop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ff"/>
                </a:solidFill>
                <a:latin typeface="Times New Roman"/>
              </a:rPr>
              <a:t>Generate sufficient funds to finance international development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Times New Roman"/>
              </a:rPr>
              <a:t>More attention / new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UN long term goal: 0,7% ODA/G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EU commitment to reach 0.39% ODA/GNI by 20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Debt relief (extended HI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285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ff"/>
                </a:solidFill>
                <a:latin typeface="Times New Roman"/>
              </a:rPr>
              <a:t>Untying of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8620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379200">
            <a:off x="1905120" y="1523880"/>
            <a:ext cx="6559560" cy="38268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779-91CF-479C-8C1D-BB36F52B8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</a:t>
            </a:r>
            <a:br>
              <a:rPr sz="4000"/>
            </a:b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The Doha Development Agenda</a:t>
            </a: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ustainable globalisation: ensure equitable integration of developing countries in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Setting objectives that embrace environmental and consumer concerns and social development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Capacity building and technical assi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 algn="just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Global governance: active co-operation with ILO, UNEP and other relevant international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 algn="just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379200">
            <a:off x="1905120" y="1523880"/>
            <a:ext cx="6559560" cy="38268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44A-8A68-4D57-8373-B4BF6F4DC4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International Framework</a:t>
            </a:r>
            <a:br>
              <a:rPr sz="4000"/>
            </a:b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ustainable Development Summit, Johannesbur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ommitments, partnerships, programmes and action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Poverty Era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Water and san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Sustainable production and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Management of natural resource base (water, oceans and fisheries, atmosphere, biodiversity, for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Corporate respons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1379200">
            <a:off x="1905120" y="1523880"/>
            <a:ext cx="6559560" cy="38268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D0A-1EE9-4128-8545-7B185F80A2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1413000" cy="944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EU and developing countries :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some statistics..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C and Member States :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25 bn USD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in 2000 - 0.32% GNI (DAC 0.2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C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4.9 bn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(10% international to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C = 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argest donor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of humanitarian aid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EU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principal trade partner</a:t>
            </a:r>
            <a:r>
              <a:rPr b="1" i="1" lang="en-GB" sz="2800" spc="-1" strike="noStrike">
                <a:solidFill>
                  <a:srgbClr val="0000ff"/>
                </a:solidFill>
                <a:latin typeface="Times New Roman"/>
              </a:rPr>
              <a:t> for man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1379200">
            <a:off x="1980720" y="1219320"/>
            <a:ext cx="6553440" cy="457200"/>
          </a:xfrm>
          <a:prstGeom prst="lightningBol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B81-EE96-4FDE-9F40-878866E728E3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DA 200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9040" y="2054160"/>
          <a:ext cx="776448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54160"/>
                    <a:ext cx="77644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582-F658-42C7-BEB7-CE430CD93E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5:03:50Z</dcterms:created>
  <dc:creator>thorfce</dc:creator>
  <dc:description/>
  <dc:language>en-US</dc:language>
  <cp:lastModifiedBy>Piera Calcinaghi</cp:lastModifiedBy>
  <cp:lastPrinted>2002-11-05T14:33:40Z</cp:lastPrinted>
  <dcterms:modified xsi:type="dcterms:W3CDTF">2002-11-06T11:48:50Z</dcterms:modified>
  <cp:revision>93</cp:revision>
  <dc:subject/>
  <dc:title>No Slide Title</dc:title>
</cp:coreProperties>
</file>