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a004e"/>
              </a:gs>
              <a:gs pos="50000">
                <a:srgbClr val="500093"/>
              </a:gs>
              <a:gs pos="100000">
                <a:srgbClr val="2a004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03040" y="276120"/>
            <a:ext cx="1259640" cy="1600920"/>
            <a:chOff x="203040" y="276120"/>
            <a:chExt cx="1259640" cy="1600920"/>
          </a:xfrm>
        </p:grpSpPr>
        <p:grpSp>
          <p:nvGrpSpPr>
            <p:cNvPr id="2" name=""/>
            <p:cNvGrpSpPr/>
            <p:nvPr/>
          </p:nvGrpSpPr>
          <p:grpSpPr>
            <a:xfrm>
              <a:off x="203040" y="276120"/>
              <a:ext cx="1168920" cy="1600920"/>
              <a:chOff x="203040" y="276120"/>
              <a:chExt cx="1168920" cy="1600920"/>
            </a:xfrm>
          </p:grpSpPr>
          <p:sp>
            <p:nvSpPr>
              <p:cNvPr id="3" name=""/>
              <p:cNvSpPr/>
              <p:nvPr/>
            </p:nvSpPr>
            <p:spPr>
              <a:xfrm>
                <a:off x="312840" y="431640"/>
                <a:ext cx="949680" cy="1292760"/>
              </a:xfrm>
              <a:custGeom>
                <a:avLst/>
                <a:gdLst/>
                <a:ahLst/>
                <a:rect l="0" t="0" r="r" b="b"/>
                <a:pathLst>
                  <a:path w="2638" h="3591">
                    <a:moveTo>
                      <a:pt x="1318" y="0"/>
                    </a:moveTo>
                    <a:lnTo>
                      <a:pt x="0" y="1795"/>
                    </a:lnTo>
                    <a:lnTo>
                      <a:pt x="1318" y="3591"/>
                    </a:lnTo>
                    <a:lnTo>
                      <a:pt x="2638" y="1795"/>
                    </a:lnTo>
                    <a:lnTo>
                      <a:pt x="13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203040" y="276120"/>
                <a:ext cx="1168920" cy="800640"/>
                <a:chOff x="203040" y="276120"/>
                <a:chExt cx="1168920" cy="80064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787320" y="27612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0" y="440"/>
                      </a:moveTo>
                      <a:lnTo>
                        <a:pt x="0" y="0"/>
                      </a:lnTo>
                      <a:lnTo>
                        <a:pt x="1624" y="2224"/>
                      </a:lnTo>
                      <a:lnTo>
                        <a:pt x="1302" y="2224"/>
                      </a:lnTo>
                      <a:lnTo>
                        <a:pt x="0" y="440"/>
                      </a:lnTo>
                      <a:close/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03040" y="27612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1624" y="0"/>
                      </a:moveTo>
                      <a:lnTo>
                        <a:pt x="1624" y="440"/>
                      </a:lnTo>
                      <a:lnTo>
                        <a:pt x="321" y="2224"/>
                      </a:lnTo>
                      <a:lnTo>
                        <a:pt x="0" y="2224"/>
                      </a:lnTo>
                      <a:lnTo>
                        <a:pt x="1624" y="0"/>
                      </a:lnTo>
                      <a:close/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" name=""/>
              <p:cNvGrpSpPr/>
              <p:nvPr/>
            </p:nvGrpSpPr>
            <p:grpSpPr>
              <a:xfrm>
                <a:off x="203040" y="1076400"/>
                <a:ext cx="1168920" cy="800640"/>
                <a:chOff x="203040" y="1076400"/>
                <a:chExt cx="1168920" cy="80064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787320" y="107640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1302" y="0"/>
                      </a:moveTo>
                      <a:lnTo>
                        <a:pt x="1624" y="0"/>
                      </a:lnTo>
                      <a:lnTo>
                        <a:pt x="0" y="2224"/>
                      </a:lnTo>
                      <a:lnTo>
                        <a:pt x="0" y="1783"/>
                      </a:lnTo>
                      <a:lnTo>
                        <a:pt x="1302" y="0"/>
                      </a:lnTo>
                      <a:close/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203040" y="107640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321" y="0"/>
                      </a:moveTo>
                      <a:lnTo>
                        <a:pt x="1624" y="1783"/>
                      </a:lnTo>
                      <a:lnTo>
                        <a:pt x="1624" y="2224"/>
                      </a:lnTo>
                      <a:lnTo>
                        <a:pt x="0" y="0"/>
                      </a:lnTo>
                      <a:lnTo>
                        <a:pt x="321" y="0"/>
                      </a:lnTo>
                      <a:close/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" name=""/>
            <p:cNvGrpSpPr/>
            <p:nvPr/>
          </p:nvGrpSpPr>
          <p:grpSpPr>
            <a:xfrm>
              <a:off x="630360" y="334800"/>
              <a:ext cx="832320" cy="760680"/>
              <a:chOff x="630360" y="334800"/>
              <a:chExt cx="832320" cy="760680"/>
            </a:xfrm>
          </p:grpSpPr>
          <p:sp>
            <p:nvSpPr>
              <p:cNvPr id="11" name=""/>
              <p:cNvSpPr/>
              <p:nvPr/>
            </p:nvSpPr>
            <p:spPr>
              <a:xfrm>
                <a:off x="630360" y="334800"/>
                <a:ext cx="832320" cy="760680"/>
              </a:xfrm>
              <a:custGeom>
                <a:avLst/>
                <a:gdLst/>
                <a:ahLst/>
                <a:rect l="0" t="0" r="r" b="b"/>
                <a:pathLst>
                  <a:path w="2312" h="2113">
                    <a:moveTo>
                      <a:pt x="993" y="956"/>
                    </a:moveTo>
                    <a:lnTo>
                      <a:pt x="587" y="0"/>
                    </a:lnTo>
                    <a:lnTo>
                      <a:pt x="1160" y="851"/>
                    </a:lnTo>
                    <a:lnTo>
                      <a:pt x="1735" y="0"/>
                    </a:lnTo>
                    <a:lnTo>
                      <a:pt x="1319" y="956"/>
                    </a:lnTo>
                    <a:lnTo>
                      <a:pt x="2312" y="1059"/>
                    </a:lnTo>
                    <a:lnTo>
                      <a:pt x="1315" y="1156"/>
                    </a:lnTo>
                    <a:lnTo>
                      <a:pt x="1735" y="2113"/>
                    </a:lnTo>
                    <a:lnTo>
                      <a:pt x="1160" y="1262"/>
                    </a:lnTo>
                    <a:lnTo>
                      <a:pt x="587" y="2113"/>
                    </a:lnTo>
                    <a:lnTo>
                      <a:pt x="988" y="1160"/>
                    </a:lnTo>
                    <a:lnTo>
                      <a:pt x="0" y="1059"/>
                    </a:lnTo>
                    <a:lnTo>
                      <a:pt x="993" y="9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44480" y="438120"/>
                <a:ext cx="605160" cy="554400"/>
              </a:xfrm>
              <a:custGeom>
                <a:avLst/>
                <a:gdLst/>
                <a:ahLst/>
                <a:rect l="0" t="0" r="r" b="b"/>
                <a:pathLst>
                  <a:path w="1681" h="1540">
                    <a:moveTo>
                      <a:pt x="674" y="675"/>
                    </a:moveTo>
                    <a:lnTo>
                      <a:pt x="418" y="0"/>
                    </a:lnTo>
                    <a:lnTo>
                      <a:pt x="843" y="565"/>
                    </a:lnTo>
                    <a:lnTo>
                      <a:pt x="1253" y="0"/>
                    </a:lnTo>
                    <a:lnTo>
                      <a:pt x="1002" y="675"/>
                    </a:lnTo>
                    <a:lnTo>
                      <a:pt x="1681" y="772"/>
                    </a:lnTo>
                    <a:lnTo>
                      <a:pt x="997" y="865"/>
                    </a:lnTo>
                    <a:lnTo>
                      <a:pt x="1253" y="1540"/>
                    </a:lnTo>
                    <a:lnTo>
                      <a:pt x="843" y="975"/>
                    </a:lnTo>
                    <a:lnTo>
                      <a:pt x="418" y="1540"/>
                    </a:lnTo>
                    <a:lnTo>
                      <a:pt x="670" y="874"/>
                    </a:lnTo>
                    <a:lnTo>
                      <a:pt x="0" y="772"/>
                    </a:lnTo>
                    <a:lnTo>
                      <a:pt x="674" y="6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33400" y="452520"/>
                <a:ext cx="427320" cy="525960"/>
              </a:xfrm>
              <a:custGeom>
                <a:avLst/>
                <a:gdLst/>
                <a:ahLst/>
                <a:rect l="0" t="0" r="r" b="b"/>
                <a:pathLst>
                  <a:path w="1187" h="1461">
                    <a:moveTo>
                      <a:pt x="0" y="371"/>
                    </a:moveTo>
                    <a:lnTo>
                      <a:pt x="537" y="631"/>
                    </a:lnTo>
                    <a:lnTo>
                      <a:pt x="596" y="0"/>
                    </a:lnTo>
                    <a:lnTo>
                      <a:pt x="649" y="631"/>
                    </a:lnTo>
                    <a:lnTo>
                      <a:pt x="1182" y="361"/>
                    </a:lnTo>
                    <a:lnTo>
                      <a:pt x="702" y="733"/>
                    </a:lnTo>
                    <a:lnTo>
                      <a:pt x="1187" y="1100"/>
                    </a:lnTo>
                    <a:lnTo>
                      <a:pt x="649" y="834"/>
                    </a:lnTo>
                    <a:lnTo>
                      <a:pt x="596" y="1461"/>
                    </a:lnTo>
                    <a:lnTo>
                      <a:pt x="537" y="834"/>
                    </a:lnTo>
                    <a:lnTo>
                      <a:pt x="0" y="1100"/>
                    </a:lnTo>
                    <a:lnTo>
                      <a:pt x="485" y="733"/>
                    </a:lnTo>
                    <a:lnTo>
                      <a:pt x="0" y="3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93600" y="647640"/>
                <a:ext cx="106560" cy="133560"/>
              </a:xfrm>
              <a:custGeom>
                <a:avLst/>
                <a:gdLst/>
                <a:ahLst/>
                <a:rect l="0" t="0" r="r" b="b"/>
                <a:pathLst>
                  <a:path w="296" h="371">
                    <a:moveTo>
                      <a:pt x="0" y="90"/>
                    </a:moveTo>
                    <a:lnTo>
                      <a:pt x="123" y="135"/>
                    </a:lnTo>
                    <a:lnTo>
                      <a:pt x="149" y="0"/>
                    </a:lnTo>
                    <a:lnTo>
                      <a:pt x="173" y="135"/>
                    </a:lnTo>
                    <a:lnTo>
                      <a:pt x="296" y="90"/>
                    </a:lnTo>
                    <a:lnTo>
                      <a:pt x="200" y="186"/>
                    </a:lnTo>
                    <a:lnTo>
                      <a:pt x="296" y="276"/>
                    </a:lnTo>
                    <a:lnTo>
                      <a:pt x="173" y="233"/>
                    </a:lnTo>
                    <a:lnTo>
                      <a:pt x="149" y="371"/>
                    </a:lnTo>
                    <a:lnTo>
                      <a:pt x="123" y="233"/>
                    </a:lnTo>
                    <a:lnTo>
                      <a:pt x="0" y="276"/>
                    </a:lnTo>
                    <a:lnTo>
                      <a:pt x="95" y="186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a004e"/>
              </a:gs>
              <a:gs pos="50000">
                <a:srgbClr val="500093"/>
              </a:gs>
              <a:gs pos="100000">
                <a:srgbClr val="2a004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2280" y="2286000"/>
            <a:ext cx="1462680" cy="2181240"/>
            <a:chOff x="152280" y="2286000"/>
            <a:chExt cx="1462680" cy="2181240"/>
          </a:xfrm>
        </p:grpSpPr>
        <p:grpSp>
          <p:nvGrpSpPr>
            <p:cNvPr id="55" name=""/>
            <p:cNvGrpSpPr/>
            <p:nvPr/>
          </p:nvGrpSpPr>
          <p:grpSpPr>
            <a:xfrm>
              <a:off x="152280" y="2286000"/>
              <a:ext cx="1448280" cy="2181240"/>
              <a:chOff x="152280" y="2286000"/>
              <a:chExt cx="1448280" cy="2181240"/>
            </a:xfrm>
          </p:grpSpPr>
          <p:sp>
            <p:nvSpPr>
              <p:cNvPr id="56" name=""/>
              <p:cNvSpPr/>
              <p:nvPr/>
            </p:nvSpPr>
            <p:spPr>
              <a:xfrm>
                <a:off x="287280" y="2498760"/>
                <a:ext cx="1176840" cy="1760760"/>
              </a:xfrm>
              <a:custGeom>
                <a:avLst/>
                <a:gdLst/>
                <a:ahLst/>
                <a:rect l="0" t="0" r="r" b="b"/>
                <a:pathLst>
                  <a:path w="3269" h="4891">
                    <a:moveTo>
                      <a:pt x="1634" y="0"/>
                    </a:moveTo>
                    <a:lnTo>
                      <a:pt x="0" y="2446"/>
                    </a:lnTo>
                    <a:lnTo>
                      <a:pt x="1634" y="4891"/>
                    </a:lnTo>
                    <a:lnTo>
                      <a:pt x="3269" y="2446"/>
                    </a:lnTo>
                    <a:lnTo>
                      <a:pt x="163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280" y="2286000"/>
                <a:ext cx="1448280" cy="1090800"/>
                <a:chOff x="152280" y="2286000"/>
                <a:chExt cx="1448280" cy="109080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876240" y="2286000"/>
                  <a:ext cx="724320" cy="1090800"/>
                </a:xfrm>
                <a:custGeom>
                  <a:avLst/>
                  <a:gdLst/>
                  <a:ahLst/>
                  <a:rect l="0" t="0" r="r" b="b"/>
                  <a:pathLst>
                    <a:path w="2012" h="3030">
                      <a:moveTo>
                        <a:pt x="0" y="601"/>
                      </a:moveTo>
                      <a:lnTo>
                        <a:pt x="0" y="0"/>
                      </a:lnTo>
                      <a:lnTo>
                        <a:pt x="2012" y="3030"/>
                      </a:lnTo>
                      <a:lnTo>
                        <a:pt x="1613" y="3030"/>
                      </a:lnTo>
                      <a:lnTo>
                        <a:pt x="0" y="601"/>
                      </a:lnTo>
                      <a:close/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52280" y="2286000"/>
                  <a:ext cx="724320" cy="1090800"/>
                </a:xfrm>
                <a:custGeom>
                  <a:avLst/>
                  <a:gdLst/>
                  <a:ahLst/>
                  <a:rect l="0" t="0" r="r" b="b"/>
                  <a:pathLst>
                    <a:path w="2012" h="3030">
                      <a:moveTo>
                        <a:pt x="2012" y="0"/>
                      </a:moveTo>
                      <a:lnTo>
                        <a:pt x="2012" y="601"/>
                      </a:lnTo>
                      <a:lnTo>
                        <a:pt x="398" y="3030"/>
                      </a:lnTo>
                      <a:lnTo>
                        <a:pt x="0" y="3030"/>
                      </a:lnTo>
                      <a:lnTo>
                        <a:pt x="2012" y="0"/>
                      </a:lnTo>
                      <a:close/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52280" y="3376440"/>
                <a:ext cx="1448280" cy="1090800"/>
                <a:chOff x="152280" y="3376440"/>
                <a:chExt cx="1448280" cy="10908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76240" y="3376440"/>
                  <a:ext cx="724320" cy="1090800"/>
                </a:xfrm>
                <a:custGeom>
                  <a:avLst/>
                  <a:gdLst/>
                  <a:ahLst/>
                  <a:rect l="0" t="0" r="r" b="b"/>
                  <a:pathLst>
                    <a:path w="2012" h="3030">
                      <a:moveTo>
                        <a:pt x="1613" y="0"/>
                      </a:moveTo>
                      <a:lnTo>
                        <a:pt x="2012" y="0"/>
                      </a:lnTo>
                      <a:lnTo>
                        <a:pt x="0" y="3030"/>
                      </a:lnTo>
                      <a:lnTo>
                        <a:pt x="0" y="2429"/>
                      </a:lnTo>
                      <a:lnTo>
                        <a:pt x="1613" y="0"/>
                      </a:lnTo>
                      <a:close/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52280" y="3376440"/>
                  <a:ext cx="724320" cy="1090800"/>
                </a:xfrm>
                <a:custGeom>
                  <a:avLst/>
                  <a:gdLst/>
                  <a:ahLst/>
                  <a:rect l="0" t="0" r="r" b="b"/>
                  <a:pathLst>
                    <a:path w="2012" h="3030">
                      <a:moveTo>
                        <a:pt x="398" y="0"/>
                      </a:moveTo>
                      <a:lnTo>
                        <a:pt x="2012" y="2429"/>
                      </a:lnTo>
                      <a:lnTo>
                        <a:pt x="2012" y="3030"/>
                      </a:lnTo>
                      <a:lnTo>
                        <a:pt x="0" y="0"/>
                      </a:lnTo>
                      <a:lnTo>
                        <a:pt x="398" y="0"/>
                      </a:lnTo>
                      <a:close/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" name=""/>
            <p:cNvGrpSpPr/>
            <p:nvPr/>
          </p:nvGrpSpPr>
          <p:grpSpPr>
            <a:xfrm>
              <a:off x="782640" y="2468520"/>
              <a:ext cx="832320" cy="760680"/>
              <a:chOff x="782640" y="2468520"/>
              <a:chExt cx="832320" cy="760680"/>
            </a:xfrm>
          </p:grpSpPr>
          <p:sp>
            <p:nvSpPr>
              <p:cNvPr id="64" name=""/>
              <p:cNvSpPr/>
              <p:nvPr/>
            </p:nvSpPr>
            <p:spPr>
              <a:xfrm>
                <a:off x="782640" y="2468520"/>
                <a:ext cx="832320" cy="760680"/>
              </a:xfrm>
              <a:custGeom>
                <a:avLst/>
                <a:gdLst/>
                <a:ahLst/>
                <a:rect l="0" t="0" r="r" b="b"/>
                <a:pathLst>
                  <a:path w="2312" h="2113">
                    <a:moveTo>
                      <a:pt x="993" y="956"/>
                    </a:moveTo>
                    <a:lnTo>
                      <a:pt x="587" y="0"/>
                    </a:lnTo>
                    <a:lnTo>
                      <a:pt x="1160" y="851"/>
                    </a:lnTo>
                    <a:lnTo>
                      <a:pt x="1735" y="0"/>
                    </a:lnTo>
                    <a:lnTo>
                      <a:pt x="1319" y="956"/>
                    </a:lnTo>
                    <a:lnTo>
                      <a:pt x="2312" y="1059"/>
                    </a:lnTo>
                    <a:lnTo>
                      <a:pt x="1315" y="1156"/>
                    </a:lnTo>
                    <a:lnTo>
                      <a:pt x="1735" y="2113"/>
                    </a:lnTo>
                    <a:lnTo>
                      <a:pt x="1160" y="1262"/>
                    </a:lnTo>
                    <a:lnTo>
                      <a:pt x="587" y="2113"/>
                    </a:lnTo>
                    <a:lnTo>
                      <a:pt x="988" y="1160"/>
                    </a:lnTo>
                    <a:lnTo>
                      <a:pt x="0" y="1059"/>
                    </a:lnTo>
                    <a:lnTo>
                      <a:pt x="993" y="9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6760" y="2571840"/>
                <a:ext cx="605160" cy="554400"/>
              </a:xfrm>
              <a:custGeom>
                <a:avLst/>
                <a:gdLst/>
                <a:ahLst/>
                <a:rect l="0" t="0" r="r" b="b"/>
                <a:pathLst>
                  <a:path w="1681" h="1540">
                    <a:moveTo>
                      <a:pt x="674" y="675"/>
                    </a:moveTo>
                    <a:lnTo>
                      <a:pt x="418" y="0"/>
                    </a:lnTo>
                    <a:lnTo>
                      <a:pt x="843" y="565"/>
                    </a:lnTo>
                    <a:lnTo>
                      <a:pt x="1253" y="0"/>
                    </a:lnTo>
                    <a:lnTo>
                      <a:pt x="1002" y="675"/>
                    </a:lnTo>
                    <a:lnTo>
                      <a:pt x="1681" y="772"/>
                    </a:lnTo>
                    <a:lnTo>
                      <a:pt x="997" y="865"/>
                    </a:lnTo>
                    <a:lnTo>
                      <a:pt x="1253" y="1540"/>
                    </a:lnTo>
                    <a:lnTo>
                      <a:pt x="843" y="975"/>
                    </a:lnTo>
                    <a:lnTo>
                      <a:pt x="418" y="1540"/>
                    </a:lnTo>
                    <a:lnTo>
                      <a:pt x="670" y="874"/>
                    </a:lnTo>
                    <a:lnTo>
                      <a:pt x="0" y="772"/>
                    </a:lnTo>
                    <a:lnTo>
                      <a:pt x="674" y="6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985680" y="2585880"/>
                <a:ext cx="427320" cy="525960"/>
              </a:xfrm>
              <a:custGeom>
                <a:avLst/>
                <a:gdLst/>
                <a:ahLst/>
                <a:rect l="0" t="0" r="r" b="b"/>
                <a:pathLst>
                  <a:path w="1187" h="1461">
                    <a:moveTo>
                      <a:pt x="0" y="371"/>
                    </a:moveTo>
                    <a:lnTo>
                      <a:pt x="537" y="631"/>
                    </a:lnTo>
                    <a:lnTo>
                      <a:pt x="596" y="0"/>
                    </a:lnTo>
                    <a:lnTo>
                      <a:pt x="649" y="631"/>
                    </a:lnTo>
                    <a:lnTo>
                      <a:pt x="1182" y="361"/>
                    </a:lnTo>
                    <a:lnTo>
                      <a:pt x="702" y="733"/>
                    </a:lnTo>
                    <a:lnTo>
                      <a:pt x="1187" y="1100"/>
                    </a:lnTo>
                    <a:lnTo>
                      <a:pt x="649" y="834"/>
                    </a:lnTo>
                    <a:lnTo>
                      <a:pt x="596" y="1461"/>
                    </a:lnTo>
                    <a:lnTo>
                      <a:pt x="537" y="834"/>
                    </a:lnTo>
                    <a:lnTo>
                      <a:pt x="0" y="1100"/>
                    </a:lnTo>
                    <a:lnTo>
                      <a:pt x="485" y="733"/>
                    </a:lnTo>
                    <a:lnTo>
                      <a:pt x="0" y="3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46240" y="2781360"/>
                <a:ext cx="106560" cy="133560"/>
              </a:xfrm>
              <a:custGeom>
                <a:avLst/>
                <a:gdLst/>
                <a:ahLst/>
                <a:rect l="0" t="0" r="r" b="b"/>
                <a:pathLst>
                  <a:path w="296" h="371">
                    <a:moveTo>
                      <a:pt x="0" y="90"/>
                    </a:moveTo>
                    <a:lnTo>
                      <a:pt x="123" y="135"/>
                    </a:lnTo>
                    <a:lnTo>
                      <a:pt x="149" y="0"/>
                    </a:lnTo>
                    <a:lnTo>
                      <a:pt x="173" y="135"/>
                    </a:lnTo>
                    <a:lnTo>
                      <a:pt x="296" y="90"/>
                    </a:lnTo>
                    <a:lnTo>
                      <a:pt x="200" y="186"/>
                    </a:lnTo>
                    <a:lnTo>
                      <a:pt x="296" y="276"/>
                    </a:lnTo>
                    <a:lnTo>
                      <a:pt x="173" y="233"/>
                    </a:lnTo>
                    <a:lnTo>
                      <a:pt x="149" y="371"/>
                    </a:lnTo>
                    <a:lnTo>
                      <a:pt x="123" y="233"/>
                    </a:lnTo>
                    <a:lnTo>
                      <a:pt x="0" y="276"/>
                    </a:lnTo>
                    <a:lnTo>
                      <a:pt x="95" y="186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370160" y="21337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Vredesopbouw en de Belgische Ontwikkelingssamen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e stagiair-attaché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mei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jzondere thema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lementen, armoedebestrijding, democratische cul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gangsjustitie en verzo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twapening, demobilisatie en reïntegratie ex-strij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nderen in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jd tegen anti-persoonsmij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jd tegen de verspreiding van kleine en lichte wa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ke, complementaire, budgetlij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dgetlijn vredesopbo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schikbaar budget 2002: 15 mio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mentariteitsbegin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grafische concentratie / Grote M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r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uriële hervormin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dgetlijn lokale NG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ds 2001, voorlopig in 7 partnerla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3. Case: Grote M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Context: OS en 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Vredesopbouw in de Belgische samenwerking: realisaties en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Case: regio van de Grote M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37160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1.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geven: +100 gewelddadige conflicten in 15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nl. MOL van Afrika en Azi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nl. binnenstatelijk, maar grensoverschrijdende dimens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ge menselijke ontwikkeling, eerder dan lage economische ontwikkeling houden verband met conflicten: vicieuze cir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xe conflicten, vaak getypeerd als identiteitsconflicten, maar gevoed door diepliggende ongelijkheden (structurele instabilite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ststelling: in een aantal door geweld getroffen partnerlanden of fragiele staten is duurzame armoedebestrijding nog niet aan de orde; er is nood aan een meer gemodeleerde, politiek gevoeligere aanp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tdaging voor OS: aanpassing van samenwerkingsmodaliteiten, aandachtspunten en hulpinstrumenta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twikkelingsgemeen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C richtlij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stre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preventie-een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Basisprinci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ken potentieel – en beperkingen – van externe invl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 h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el tijdig en soepel, langetermijnpersp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ief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uw ook in zwakke, falende staten partnerschappen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ken vrouwen al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kehold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an v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handel de gevolgen van oorlog op kinderen en jon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regionale dimensie van conflicten en vredesopbo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b oog voor de impact van activiteiten van het bedrijfsleven op conflictdynami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mper negatieve politiek-economische kr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2. VO in de Belgische 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t Internationale Samen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nerlanden bilaterale samen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nst Vredesopbo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te Meren: actieplan, strategienota’s, samenwerkingsprogram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egienota Vredesopbo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ke budgetlij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Geleerde le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satie Dienst Vredesopb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ikaal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rizontaal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graf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a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egische partnersc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gië,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laterale donoren, multilaterale agent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et-gouvernementele organis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Strategie en werk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stre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f Grote M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ere conflictlanden, regi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enstrategieë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aciteitsopbouw D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egische partnerschappen, hoofdzetels en terr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erken: DAC, C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gisch en Europees partnersch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rein: UNDP, WB, Unicef, Unif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grid</dc:creator>
  <dc:description/>
  <dc:language>en-US</dc:language>
  <cp:lastModifiedBy>ingrid</cp:lastModifiedBy>
  <cp:revision>0</cp:revision>
  <dc:subject/>
  <dc:title>Een produkt of idee verkopen</dc:title>
</cp:coreProperties>
</file>