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BCA-E313-4B17-9E4E-A158C71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FC7-BB57-491B-BE02-3940040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35B-C52A-41AD-A2C0-341A90B4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644-D895-4661-9CC4-F85A7FA5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646-8A0A-4958-850F-B6FA93A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D48-68C3-4A6A-9D8F-AE26057D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C79-0EC4-4043-80A6-0B89F7C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064-8C07-4E44-9836-9ABE6A3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8D8-C877-48C4-9799-59B1DD6C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F47-6CCF-4DD8-8795-CF9835A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23A-A8B1-4B6C-ACE6-A95B975F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F23-DAF9-4164-BE57-3CA153CC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5F6-F161-4A36-850D-3EC2FD54C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occu.org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Appui au Secteur Priv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Formation des Attaché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29 avril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Marché potentiel de la microf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Microcrédit summit 1997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tteindre 100 millions de familles pauvres en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Résultats en 2002 : 50 millions, dont 26 millions de famille pauv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En prévision de l’année Internationale des Nations Unies pour la microfinance en 2005:  on évoque le chiffre de 1 milliard d’individus qui seraient demandeurs de services financiers de proximit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Times New Roman"/>
              </a:rPr>
              <a:t>Bailleurs de fonds, investissement et microf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Question: quel rendement attendez-vous de vos investissements dans le secteur de la microfinanc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Financier , social, pérennisation IMF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Répondre aux objectifs fixés par le mandant ! Négociés dans des accords de partenaria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Le bailleurs de fonds investit dans la vision et l’orientation stratégique de l’IMF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Le financement repose sur l’accomplissement d’objectifs de performance institutionnelle et non sur des activités spécifiqu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Le retour sur investissement attendu par le bailleur de fonds doit correspondre aux prévisions de l’IMF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Times New Roman"/>
              </a:rPr>
              <a:t>Naissance et évolution de la microf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70 : prêts agricoles subventionn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80 : programmes de crédit aux micro-entreprises tributaires du financement des baill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90 les IMF privilégient la pérennit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Actuellement : diversité des modèles et des clientèles </a:t>
            </a: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(Réglementation induit les statuts mais toujours pour répondre à une dema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2000 : Secteurs financiers (y compris privés) offrent des services financiers au plus grand nomb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Question :  QUID de la cible initiale : les plus pauvres 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Instruments d’intervention dans une IM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Sub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Dotation en Capital (sans prises de participa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rê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Garan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rises de particip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Principaux domaines de pérennité d’une IMF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érennité Financiè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Efficacité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Qualité du porteufeu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Rentabilit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ccès au capital com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érennité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rodui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éthodolog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arché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orté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Principaux domaines de pérennité d’une IMF (suit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érennité de gestio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Stratégie et direc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Ressources humain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Systhèmes et procédures (MI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érennité Institutionn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adre réglementa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Statut léga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Gouvernance et composition du capita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Quelques RAT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Ratios de 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aux d’impayés = Montant des remboursements en retard / encours de cré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aux de remboursement simple = Montant remboursé (sans anticipés) / Total du montant d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aux de portefeuille à risque (PAR) = capital restant dû des crédits ayant des remboursement en retard / encours de créd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Ratios d’Efficacit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Efficacité opérationelle = Total des charges d’exploitations + dons en nature / encours de crédit moyens n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Efficacité administrative = Charges de personnel + charges administratives + dons en nature / encours de crédit moyens n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Quelques RATIO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Ratios de Rentabilité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Rendement retraité des actifs = résultat d’exploitation retraité / actifs totaux moy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Rendement retraité des fonds propres = résultats d’exploitation retraité / fonds propres moy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Autosuffisance opérationnelle = produits d’exploitation / Total des charges d’explo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Autosuffisance financière =  Produits d’exploitation /  Charges d’exploitation retraité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Rendement du porteufeuille =  Produits des intérêts et commissions sur crédits / Encours moyens de cré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Retraitement : </a:t>
            </a: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provisions pour créances douteuses et abandon de créance ; au titre des subventions et de l’inflation.  En vue de comparaison entre IMF (« Ratting »).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Quelques RATIOS (sui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« Ratting » : quelques agenc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icroRate :  www.microrat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CCION :  www.accio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-Cril : www.edarural.com/m-cril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icrofinanza : www.microfinanza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laNet Rating : www. planetrating.or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Ebony Consulting Internat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WOCCU : </a:t>
            </a:r>
            <a:r>
              <a:rPr b="0" lang="fr-B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woccu.org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« The microfinance gateway » : www.cga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Taux d’intérê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Une IMF est rentable lorsque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Les produits d’exploitation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ont supérieurs aux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Charges d’exploitations retraitées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L’équilibre se forme par le taux d’intérêt créditeur de l’IMF et il est donc définitivement exclu d’intervenir, comme bailleur, sur la détermination de celui-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Sommai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Eléments de contex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Appui au SP via le « Multilatéral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BIO 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Appui au SP via le « Bilatéral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Microfi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Eléments de 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as de Note Stratégique « Secteur Privé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HLM du CAD (22-23/04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ublic – Private –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GD </a:t>
            </a:r>
            <a:r>
              <a:rPr b="0" lang="fr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accroître et concentrer les moy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OCDE (23-26/04) Conf. Internat sur le commerce et l’investissement … (Best Prac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Coop. Belge a des actions mais en ordre dispersé (Multi – BIO – Bilat dir et indir) et de plus existe Fds de contrepartie - divers appuis au S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Existe un draft d’un cadre stratégique d’appui au S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Eléments de contexte (suit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Objectif Coop Belge : lutte contre la pauvreté … en partenariat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ME – secteur privé – création de richesses, moteur de la croissance, sans laquelle pas de lutte contre la pauvreté !!!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iens entre SP et politique de développement du (Gvmt) partenaire (PRSP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iens entre politique du partenaire et la coopération belge (Instrument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Liens entre coopération belge et appui au SP (Stratégie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Appui au secteur privé via le Mul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ar Philippe Gérard (D4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Appui au secteur privé via la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Société Belge d’Investissement dans les PVD.  BIOsa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ar Md. De Meuse (BIO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Appui au secteur privé via la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Coopération Bilatérale directe et indirecte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ar Dany Verspreet (CTB-BTC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Appui au secteur privé via la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Coopération Bilatérale directe et indirecte   (suite) </a:t>
            </a:r>
            <a:br>
              <a:rPr sz="4400"/>
            </a:b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MICROFI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Par Charles Tollenaere (D2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Microfinance : défini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Offre de services financiers de proximité aux populations et entrepreneurs qui n’ont pas accès aux services financiers « classiques 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</a:rPr>
              <a:t>La Coopération Belge considère, dans la note stratégique « Economie Sociale », la microfinance comme un instrument de lutte contre la pauvret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6:55:32Z</dcterms:created>
  <dc:creator>Tollenaere</dc:creator>
  <dc:description/>
  <dc:language>en-US</dc:language>
  <cp:lastModifiedBy>Tollenaere</cp:lastModifiedBy>
  <dcterms:modified xsi:type="dcterms:W3CDTF">2003-04-29T10:26:05Z</dcterms:modified>
  <cp:revision>1</cp:revision>
  <dc:subject/>
  <dc:title>Appui au Secteur Privé </dc:title>
</cp:coreProperties>
</file>