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34F-F0FB-4E68-A851-9540BE242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EA9-5A67-4BBA-B0E7-D9B7D26B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24F-2D1F-4CD4-96CE-CE1CCCB5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56A-D59C-4051-8DAE-EA56D7E1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BE9E-63B8-4B06-A998-FFBFEC84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7A3B-818E-4084-9DA6-88CBFA7A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8631-5F52-45DD-8153-DA108720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4A50-56A1-4FDA-8530-7DFE2CF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482C-2CAD-4196-8BFA-D89D96B1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2001-BCA3-4F34-BFC1-AB63646E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3466-B477-43E9-A190-C839C0A0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3C9-D877-4D25-AAEB-C3E9C1DD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F211-AF77-4CE2-8496-224CCD2B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6378-0AF4-4B5C-9796-586782CC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8203-6463-402D-8399-31375EE1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615E-9F1D-408B-AD5E-2DB408AA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F4EA-1D3E-4039-A046-ECCF9181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72B-5809-4CFD-B76A-12F08BF8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691-5F03-48C1-AF14-4C99BB2D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91E-355B-4C6B-A5D0-E660396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8F0-B80D-4C63-BBD2-DCA4148D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8E8-9F49-4AC6-BB40-E3A3B33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A34-6ECD-4D06-A14A-E752A744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00E-0213-422E-BA67-8719E871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BE9A-4B75-40E8-B71E-A513B64D99A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F97A-DD87-44D4-A100-AF34D5B4791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924280"/>
            <a:ext cx="8496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BE" sz="3600" spc="-1" strike="noStrike">
                <a:solidFill>
                  <a:srgbClr val="660066"/>
                </a:solidFill>
                <a:latin typeface="Tahoma"/>
              </a:rPr>
              <a:t>De vijfde uitbreiding</a:t>
            </a:r>
            <a:br>
              <a:rPr sz="3600"/>
            </a:br>
            <a:r>
              <a:rPr b="0" lang="nl-BE" sz="3600" spc="-1" strike="noStrike">
                <a:solidFill>
                  <a:srgbClr val="660066"/>
                </a:solidFill>
                <a:latin typeface="Tahoma"/>
              </a:rPr>
              <a:t>1989-2004</a:t>
            </a:r>
            <a:br>
              <a:rPr sz="3600"/>
            </a:br>
            <a:br>
              <a:rPr sz="3600"/>
            </a:b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Peter Bursens</a:t>
            </a:r>
            <a:br>
              <a:rPr sz="2400"/>
            </a:b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Universiteit Antwerp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 acqui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14400"/>
            <a:ext cx="845820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16000" y="1066680"/>
          <a:ext cx="6427800" cy="4913280"/>
        </p:xfrm>
        <a:graphic>
          <a:graphicData uri="http://schemas.openxmlformats.org/drawingml/2006/table">
            <a:tbl>
              <a:tblPr/>
              <a:tblGrid>
                <a:gridCol w="3313080"/>
                <a:gridCol w="31147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(december 2002)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afgesloten hoofdstukken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ypru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sjech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publieke opini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371600"/>
            <a:ext cx="845820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ublieke opin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.a.v. de uitbreiding </a:t>
            </a:r>
            <a:r>
              <a:rPr b="0" lang="nl-BE" sz="2000" spc="-1" strike="noStrike">
                <a:solidFill>
                  <a:srgbClr val="9595ff"/>
                </a:solidFill>
                <a:latin typeface="Tahoma"/>
              </a:rPr>
              <a:t>in de huidige lidsta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rote onderlinge verschillen tussen de lidsta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middeld is 50% vóór de uitbreiding (EB 57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rote verschillen m.b.t. de gewenste lan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rote onwetendheid over de uitbreiding (EB 56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ublieke opin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.a.v. de uitbreiding </a:t>
            </a:r>
            <a:r>
              <a:rPr b="0" lang="nl-BE" sz="2000" spc="-1" strike="noStrike">
                <a:solidFill>
                  <a:srgbClr val="9595ff"/>
                </a:solidFill>
                <a:latin typeface="Tahoma"/>
              </a:rPr>
              <a:t>in de kandidaat lidsta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rote onderlinge verschill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ver het algemeen weinig tegenkanting, maar de steun verminder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publieke opinie in de huidige lidsta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91440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90920" y="839880"/>
          <a:ext cx="4064040" cy="5800680"/>
        </p:xfrm>
        <a:graphic>
          <a:graphicData uri="http://schemas.openxmlformats.org/drawingml/2006/table">
            <a:tbl>
              <a:tblPr/>
              <a:tblGrid>
                <a:gridCol w="1981080"/>
                <a:gridCol w="208296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urobarometer 57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óór uitbreiding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enemarken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riekenland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panj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weden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Italië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rtugal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7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Nederland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Ierland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uxemburg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Finland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elgië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1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Oostenrijk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5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uitsland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Frankrijk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Verenigd Kon.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8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U Gemiddelde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publieke opinie over de kandidaat lidsta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91440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1066680"/>
          <a:ext cx="7848720" cy="54500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urobarometer 57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 </a:t>
                      </a: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oetreding gewenst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 </a:t>
                      </a: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oetreding niet gewenst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Zwits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Noorweg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ypru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sjech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urki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publieke opinie in de kandidaat lidsta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914400"/>
            <a:ext cx="84582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20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09480" y="1066680"/>
          <a:ext cx="8283600" cy="5494320"/>
        </p:xfrm>
        <a:graphic>
          <a:graphicData uri="http://schemas.openxmlformats.org/drawingml/2006/table">
            <a:tbl>
              <a:tblPr/>
              <a:tblGrid>
                <a:gridCol w="2306880"/>
                <a:gridCol w="3024000"/>
                <a:gridCol w="295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2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andidate Countries EB-2002</a:t>
                      </a:r>
                      <a:endParaRPr b="0" lang="en-US" sz="12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‘</a:t>
                      </a: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Ja’ in een referendum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‘</a:t>
                      </a: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Neen’ in een referendum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urkije</a:t>
                      </a:r>
                      <a:r>
                        <a:rPr b="1" lang="nl-NL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4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ypru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sjech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Gemiddeld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conomische aspec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9144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7640" y="1935000"/>
            <a:ext cx="7848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r zijn enorme economische verschillen tussen de huidige lidstaten en de kandidaat-lidstat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landbouw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 GLB-hervormingen, SAPAR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ilieu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implementatie van het acquis, transitieperiode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rij verkeer van werknemer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migratiestrom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udgettair / EMU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begrotingstekorten, inflati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conomische aspec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9144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20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1828800"/>
          <a:ext cx="7848360" cy="4348080"/>
        </p:xfrm>
        <a:graphic>
          <a:graphicData uri="http://schemas.openxmlformats.org/drawingml/2006/table">
            <a:tbl>
              <a:tblPr/>
              <a:tblGrid>
                <a:gridCol w="1569960"/>
                <a:gridCol w="1569960"/>
                <a:gridCol w="1568520"/>
                <a:gridCol w="1569960"/>
                <a:gridCol w="15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sjechië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1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0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647640" y="9144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oorspelling van het BNP per capita, als percentage van het huidige EU gemiddelde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uitbreiding met Turkij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914400"/>
            <a:ext cx="883908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urkije wil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zeer graag lid worden, d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 weet zich geen raa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Formele en informel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rgumen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criteria van Kopenha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opolitieke ligg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slamitisch, maar seculier land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ruk van de Verenigde Stat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Turkije is momenteel ‘kandidaat – kandidaat – lidstaat’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se Conferenti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 Londen (vanaf 1998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rondwetswijzigingen om de EU tegemoet te kome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2002)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se Raad Brussel 2002: geen datum voor de start van de onderhandelin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914400"/>
            <a:ext cx="8534160" cy="51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id-term Review’ van de uitbreidingsstrateg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oktober 2001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9595ff"/>
                </a:solidFill>
                <a:latin typeface="Tahoma"/>
              </a:rPr>
              <a:t>Vrij verkeer van person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problemen inzake vrij verkeer van werknemers (Oostenrijk, Duitsland, Malta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9595ff"/>
                </a:solidFill>
                <a:latin typeface="Tahoma"/>
              </a:rPr>
              <a:t>Vrij verkeer van goederen, diensten en kapitaal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transitieperiodes in twee richting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9595ff"/>
                </a:solidFill>
                <a:latin typeface="Tahoma"/>
              </a:rPr>
              <a:t>Milieubeleid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transitieperiodes waar investeringen en infrastructuurwerken noodzakelijk zij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Jaarlijks Rapport van de Europese Commissie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november 2001):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voor sommige landen de onderhandelingen eind 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2002 af te ron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van Laken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december 2001)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voor 10 met naam genoemd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landen de onderhandelingen eind 2002 af te rond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onderhandelingshoofdstukken afgerond zoals voorzi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914400"/>
            <a:ext cx="85341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van Sevilla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juni 2002)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Spaans voorzitterschap heeft de onderhandelingshoofdstukken afgerond zoals voorzi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laatste moeilijke hoofdstukken worden aangesneden: landbouw, cohesie en financië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voor 10 met naam genoemd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landen de onderhandelingen eind 2002 af te ron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de timing van ondertekening van de toetredingsverdragen te halen in de lente van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opstellen van een nieuwe timing voor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Bulgarije en Roemenië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en toezegging van extra pre-toetredingssteu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Cyprus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hereniging gewenst, maar niet noodzakelijk voor toetreding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Turkij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vooruitzicht van een nieuwe strategie op de ER van Kopenhagen (december 2002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en enorme uitdaging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76520"/>
            <a:ext cx="800100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9595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595ff"/>
                </a:solidFill>
                <a:latin typeface="Tahoma"/>
              </a:rPr>
              <a:t>Kwantitatieve uitdaging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12 + 1 kandidaat-lidsta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lovenië, Polen, Hongarije, Estland, Tsjechië, Cyprus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Malta, Letland, Litouwen, Slowakije, Roemenië, Bulgarij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urkije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9595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595ff"/>
                </a:solidFill>
                <a:latin typeface="Tahoma"/>
              </a:rPr>
              <a:t>Kwalitatieve uitdaging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Politieke noodwendigheid: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de vereniging van het Europese continent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maar tegelijk enorm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conomische, politieke en administratieve obstakel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914400"/>
            <a:ext cx="8534160" cy="50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van Brussel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oktober 2002)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spreking van het jaarlijks rapport van de Europese Commissie dat opnieuw aanbeveelt om eind 2002 de onderhandelingen met de 10 genoemde landen af te ron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voor de 10 met naam genoemd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landen de onderhandelingen af te ronden op de ER van Kopenhagen (december 2002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intentie om de timing van ondertekening van de toetredingsverdragen te halen in de lente van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kkoord over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monitoring van de kandidaat-lidstat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tot op de dag dat ze daadwerkelijk zullen toetre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Akkoord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over de het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standpunt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dat de 15 lidstaten zullen innemen bij de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onderhandeling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van de laatste hoofdstukken: 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landbouw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‘phasing in’ van directe inkomenssteu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financiering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‘plafonnering’ ‘van de landbouwuitgaven vanaf 2007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914400"/>
            <a:ext cx="8534160" cy="40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van Brussel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oktober 2002):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Opstellen van een nieuwe gedetailleerde timing voor </a:t>
            </a: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Bulgarije en Roemenië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met het oog op toetreding in 2007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Turkij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vooruitzicht van een nieuwe strategie, maar wellicht geen datum voor de start van de onderhandelingen, op de ER van Kopenhagen (december 2002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545472"/>
                </a:solidFill>
                <a:uFillTx/>
                <a:latin typeface="Tahoma"/>
              </a:rPr>
              <a:t>Cyprus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: hereniging gewenst, maar niet noodzakelijk voor toetreding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914400"/>
            <a:ext cx="8534160" cy="29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van Kopenhagen</a:t>
            </a:r>
            <a:r>
              <a:rPr b="1" lang="nl-BE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december 2002)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fronding van de onderhandeling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voorziene toetredingsdatum 1 mei 2004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vestiging van de monitoring van de kandidaat-lidstaten tot op de dag dat ze  toetred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914400"/>
            <a:ext cx="853416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Tijdspad voor de ‘10 van Kopenhagen’ vanaf 1 januari 2003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laatste wijziging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aan de toetredingsverdragen: afronding op 5 februari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definitieve versie van de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Europese Commissie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op 19 februari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instemming van het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Europees Parlement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op 9 april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instemming door de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Raad van Ministers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op 10/11 april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16 april 2003: plechtige ondertekening van de toetredingsverdragen op de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Europese Raad van Athene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2003-2004: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ratificaties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in alle lidstaten en kandidaat-lidstate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deelname aan de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Europese verkiezing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van juni 2004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volwaardige deelname aan de </a:t>
            </a: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IGC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van 2003 / 2004 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extra commissarissen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 vanaf 1 november 2004 (Verdrag van Nice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45472"/>
                </a:solidFill>
                <a:latin typeface="Tahoma"/>
              </a:rPr>
              <a:t>volwaardig lidmaatschap voor de tien op 1 mei 2004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referenda in de kandidaat-lidsta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979640" y="981000"/>
          <a:ext cx="5002200" cy="5112000"/>
        </p:xfrm>
        <a:graphic>
          <a:graphicData uri="http://schemas.openxmlformats.org/drawingml/2006/table">
            <a:tbl>
              <a:tblPr/>
              <a:tblGrid>
                <a:gridCol w="2163600"/>
                <a:gridCol w="2838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datum referendum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Roem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Hon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2 april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urkije</a:t>
                      </a:r>
                      <a:r>
                        <a:rPr b="1" lang="nl-NL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Bulgar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wakij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6-17 mei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Cypru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Pol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 juni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Tsjech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5-16 juni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itouwen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1 mei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Slovenië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3 maart 2003: OK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Malta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8 maart 2003: OK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Estlan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14 september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Letland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800" spc="-1" strike="noStrike">
                          <a:solidFill>
                            <a:srgbClr val="545472"/>
                          </a:solidFill>
                          <a:latin typeface="Arial"/>
                        </a:rPr>
                        <a:t>20 september 2003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914400"/>
            <a:ext cx="853416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Cyprus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standpunt van de EU is dat toetreding kan, maar liefst na hereniging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antwoord op het ‘Annan-plan’ verwacht vóór 10 maart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Bulgarije en Roemenië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streefdatum voor toetreding blijft 2007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intensivering van de onderhandelingen en de pre-toetredingssteun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waarnemers bij de IGC van 2003/2004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   </a:t>
            </a: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Turkije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Arial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beslissing over de eventuele start van de onderhandelingen op de ER van 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december 2004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stand van zak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20" y="914400"/>
            <a:ext cx="85341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nieuwe kandidaat-landen: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Kroatië: lidmaatschap aangevraagd op 21 februari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Macedonië: lidmaatschapaanvraag in de loop van 2003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Noorwegen: publieke opinie wordt meer pro-EU (49, 6% voor, 36, 4% tegen)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lvl="1" marL="958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gespannen verhoudingen tussen ‘Old Europe’ en ‘New Europe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expliciete steun van ‘New Europe’ aan het Amerikaanse Irak-beleid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0" lang="nl-BE" sz="1600" spc="-1" strike="noStrike">
                <a:solidFill>
                  <a:srgbClr val="545472"/>
                </a:solidFill>
                <a:latin typeface="Tahoma"/>
              </a:rPr>
              <a:t>New Europe’ niet uitgenodigd op de ER van Brussel (februari 2003) over de Irak-crisis</a:t>
            </a: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erst hulp en samenwerking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990720"/>
            <a:ext cx="883908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1989: star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HARE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Poland – Hungary: Actions for Economic Reconstruction)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1990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uitbreiding PHAR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naar Bulgarije, Tsjecho-Slowakije,          Oost-Duitsland en Joegoslavië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1991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uitbreiding PHAR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et de Baltische sta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1990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Bank voor Wederopbouw en Ontwikkelin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egin jaren ’90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andels- en samenwerkingsverdra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et alle Centraal en Oost-Europese lan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 steunt de vraag om toetreding, maar vertraagt het proces: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r waren eerst massale economische, institutionele en politieke hervormingen nodig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‘Europa-akkoorden’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914400"/>
            <a:ext cx="838224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a-akkoorden’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zeer verregaande akkoorden, eerst met de Visegrad-landen (1991) en later met de andere kandidaat-leden, als voorbereiding op het echte lidmaatschap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Uitbreiding was zeer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ontroversieel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bij de bestaande EU-le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B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uitbreiding goed voor verwatering van de E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uitslan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voor een kleine en tegen een grote uitbreiding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Frankrijk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angst voor de economische gevolg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Cohesielanden’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angst voor verlies van subsidies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63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bestaande lidstaten trachten de uitbreiding zoveel mogelijk t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ertra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et als argument dat er een degelijk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oorbereidin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oest zijn en vooral degelijke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rvorm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990720"/>
            <a:ext cx="8839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de Criteria van Kopenhagen en Madr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914400"/>
            <a:ext cx="83822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371600"/>
            <a:ext cx="8001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e16b0"/>
                </a:solidFill>
                <a:latin typeface="Tahoma"/>
              </a:rPr>
              <a:t>ER Kopenhagen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(1993): formulering van de voorwaarden waaraan kandidaat-lidstaten moeten voldo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politiek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stabiliteit, democratie, rechtsstaat, respect voor mensenrechten en bescherming van minderhed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economisch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een goed werkende markteconomie die de concurrentiedruk van de bestaande interne markt aan ka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ideologisch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de politieke, economische en monetaire doelstellingen van de Europese Unie onderschrijven 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e16b0"/>
                </a:solidFill>
                <a:latin typeface="Tahoma"/>
              </a:rPr>
              <a:t>ER Madrid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(1995): formulering van een extra voorwaard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administratief / juridisch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een volledige omzetting en toepassing van het ‘acquis communautaire’ van de Europese Unie 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uropese Raad van Luxemburg (1997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1268280"/>
            <a:ext cx="84582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Luxemburg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1997): bevestiging van de aanbeveling van de Commissie door het sluiten van ‘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oetredingspartnerschappen’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t de ‘Vijf plus één van Luxemburg’: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lovenië, Polen, Hongarije, Estland, Tsjechië en Cypru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russel (1998): Start van de toetredingsonderhandelingen me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lovenië, Polen, Hongarije, Estland, Tsjechië en Cypru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Europese Raad van Helsinki (1999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5280" y="1197000"/>
            <a:ext cx="84582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3e16b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e16b0"/>
                </a:solidFill>
                <a:latin typeface="Tahoma"/>
              </a:rPr>
              <a:t>ER Helsinki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1999)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 Toetred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pas mogelijk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en vroegste vanaf 2002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, d.w.z. na de institutionele hervormingen van 2000 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russel (2000) Start van de toetredingsonderhandelingen met </a:t>
            </a:r>
            <a:r>
              <a:rPr b="1" lang="nl-NL" sz="2000" spc="-1" strike="noStrike">
                <a:solidFill>
                  <a:srgbClr val="545472"/>
                </a:solidFill>
                <a:latin typeface="Tahoma"/>
              </a:rPr>
              <a:t>Roemenië, Slowakije, Letland, Litouwen, Bulgarije en Malta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‘Zes van Helsinki’ worden op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gelijke voe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behandeld als de ‘Vijf plus één van Luxemburg’: vanaf 2000 worden er dus twaalf parallelle onderhandelingen gevoer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urkije wordt ‘kandidaat – kandidaat – lidstaat’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erkend als kandidaat-lidstaat, maar nog geen onderhandeling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Problematische aspecte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197000"/>
            <a:ext cx="845820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implementatie van het ‘acquis communautaire’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houding van de publieke opinie in de bestaande lidstaten én in de kandidaat lidsta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kwestie Turkije en de kwestie Cyprus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economische aspec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timing en het verband met de lopende institutionele hervorming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3407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de uitbreiding</a:t>
            </a:r>
            <a:br>
              <a:rPr sz="2400"/>
            </a:br>
            <a:r>
              <a:rPr b="0" lang="nl-BE" sz="2400" spc="-1" strike="noStrike" u="sng">
                <a:solidFill>
                  <a:srgbClr val="660066"/>
                </a:solidFill>
                <a:uFillTx/>
                <a:latin typeface="Tahoma"/>
              </a:rPr>
              <a:t>implementatie van het acquis communautair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99072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990720"/>
            <a:ext cx="89154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914400"/>
            <a:ext cx="8534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3891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579600" indent="-389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914400"/>
            <a:ext cx="83818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838080"/>
            <a:ext cx="8382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914400"/>
            <a:ext cx="8458200" cy="54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onderhandelingen zijn opgesplitst i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30 hoofdstukk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In </a:t>
            </a:r>
            <a:r>
              <a:rPr b="0" lang="nl-BE" sz="2000" spc="-1" strike="noStrike">
                <a:solidFill>
                  <a:srgbClr val="9595ff"/>
                </a:solidFill>
                <a:latin typeface="Tahoma"/>
              </a:rPr>
              <a:t>princip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oeten alle hoofdstukken volledig afgerond zijn vóór de toetreding kan plaatsvind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In de </a:t>
            </a:r>
            <a:r>
              <a:rPr b="0" lang="nl-BE" sz="2000" spc="-1" strike="noStrike">
                <a:solidFill>
                  <a:srgbClr val="9595ff"/>
                </a:solidFill>
                <a:latin typeface="Tahoma"/>
              </a:rPr>
              <a:t>realiteit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worden er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ransitieperiode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voorzien  voor moeilijke hoofdstukken zoals milieu, landbouw, vrij verkeer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Commissie stel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welbepaalde voorwaard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beperkt in tijd en reikwijdte, met een duidelijk plan om eraan te verhelpen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ransitieperiodes werken i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twee richt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rij verkeer van werknemers naar de huidige EU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lvl="1" marL="662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ankoop vastgoed in de kandidaat-lidsta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ijdens de onderhandelingen waren er grote verschillen tussen de kandidaat-lidstaten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moeilijkste onderhandelingen werden pas erg laat aangevat: financiering en landbouwbeleid</a:t>
            </a:r>
            <a:endParaRPr b="0" lang="en-US" sz="2000" spc="-1" strike="noStrike">
              <a:solidFill>
                <a:srgbClr val="5454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5:27:28Z</dcterms:created>
  <dc:creator>Peter Bursens</dc:creator>
  <dc:description/>
  <dc:language>en-US</dc:language>
  <cp:lastModifiedBy>Peter Bursens</cp:lastModifiedBy>
  <dcterms:modified xsi:type="dcterms:W3CDTF">2003-04-07T11:39:18Z</dcterms:modified>
  <cp:revision>16</cp:revision>
  <dc:subject/>
  <dc:title>Beleid van de Europese Unie  De vijfde uitbreiding 1989-2004  Peter Bursens PSW-UA - 2002-200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95988191</vt:r8>
  </property>
  <property fmtid="{D5CDD505-2E9C-101B-9397-08002B2CF9AE}" pid="3" name="_AuthorEmail">
    <vt:lpwstr>bursens@uia.ac.be</vt:lpwstr>
  </property>
  <property fmtid="{D5CDD505-2E9C-101B-9397-08002B2CF9AE}" pid="4" name="_AuthorEmailDisplayName">
    <vt:lpwstr>Peter Bursens</vt:lpwstr>
  </property>
  <property fmtid="{D5CDD505-2E9C-101B-9397-08002B2CF9AE}" pid="5" name="_EmailSubject">
    <vt:lpwstr>OFO - Europese Unie - Stagiair-attachés OS.</vt:lpwstr>
  </property>
</Properties>
</file>