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B67-5BCC-40B4-9A21-B7312711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7FD-EBF0-4F32-960E-30AD227E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6FE-C37A-4DCD-A3BD-757BD4B0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B47-8B4E-4FF9-A6CE-1424867F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A3F8-9037-4488-9CBC-AF2CA1F2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D316-640B-4E51-A65A-7C377498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CFE-51FE-4FAC-9664-7DEB5C43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9D4F-6473-4C47-BD7E-F837B9D6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EDAE-2637-4AAD-A565-F6E2567E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D1CD-1889-4617-88E1-DC11FFE2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34C5-110F-45B3-B9C9-D80AAF8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168-63E5-4EE8-8C5B-0313B122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01B4-69D5-44F8-8DA0-14860D4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7806-C0FD-42F4-8E34-D7BFD11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8CC1-C967-4AF5-83D8-6CE276A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0C1D-FEC1-4E86-B315-AA11CFF7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5FCA-B884-46C8-9FF3-16A256D0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5D2-D5F2-45C8-9CB4-EB434FD7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95D-8C3E-41C7-8D1B-9FC62006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FE5-2CE4-4CF1-B28C-F6E06EF5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A5E-B214-4B9B-9109-B6BEBF13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2E7-EF89-4158-AFE6-014B2A76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873-2563-4B85-862D-71CD0052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316-F718-4A82-92B2-240BE91F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4AD-6D5D-4678-8600-422C3D871B5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BCC9-56EE-426B-8BA5-1DC6D91334E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924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BE" sz="3600" spc="-1" strike="noStrike">
                <a:solidFill>
                  <a:srgbClr val="660066"/>
                </a:solidFill>
                <a:latin typeface="Tahoma"/>
              </a:rPr>
              <a:t>De vijfde uitbreiding</a:t>
            </a:r>
            <a:br>
              <a:rPr sz="3600"/>
            </a:br>
            <a:r>
              <a:rPr b="0" lang="nl-BE" sz="3600" spc="-1" strike="noStrike">
                <a:solidFill>
                  <a:srgbClr val="660066"/>
                </a:solidFill>
                <a:latin typeface="Tahoma"/>
              </a:rPr>
              <a:t>1989-2004</a:t>
            </a:r>
            <a:br>
              <a:rPr sz="3600"/>
            </a:br>
            <a:br>
              <a:rPr sz="36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Peter Bursens</a:t>
            </a:r>
            <a:br>
              <a:rPr sz="24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Universiteit Antwerp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 acqui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45820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16000" y="1066680"/>
          <a:ext cx="6427800" cy="4913280"/>
        </p:xfrm>
        <a:graphic>
          <a:graphicData uri="http://schemas.openxmlformats.org/drawingml/2006/table">
            <a:tbl>
              <a:tblPr/>
              <a:tblGrid>
                <a:gridCol w="3313080"/>
                <a:gridCol w="3114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(december 2002)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afgesloten hoofdstukken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ublieke opin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71600"/>
            <a:ext cx="845820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ublieke opin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.a.v. de uitbreiding </a:t>
            </a:r>
            <a:r>
              <a:rPr b="0" lang="nl-BE" sz="2000" spc="-1" strike="noStrike">
                <a:solidFill>
                  <a:srgbClr val="9595ff"/>
                </a:solidFill>
                <a:latin typeface="Tahoma"/>
              </a:rPr>
              <a:t>in de huidige lidsta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te onderlinge verschillen tussen de lidsta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middeld is 50% vóór de uitbreiding (EB 57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te verschillen m.b.t. de gewenste lan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te onwetendheid over de uitbreiding (EB 56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ublieke opin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.a.v. de uitbreiding </a:t>
            </a:r>
            <a:r>
              <a:rPr b="0" lang="nl-BE" sz="2000" spc="-1" strike="noStrike">
                <a:solidFill>
                  <a:srgbClr val="9595ff"/>
                </a:solidFill>
                <a:latin typeface="Tahoma"/>
              </a:rPr>
              <a:t>in de kandidaat lidsta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te onderlinge verschill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ver het algemeen weinig tegenkanting, maar de steun verminder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ublieke opinie in de huidige lids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440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90920" y="839880"/>
          <a:ext cx="4064040" cy="5800680"/>
        </p:xfrm>
        <a:graphic>
          <a:graphicData uri="http://schemas.openxmlformats.org/drawingml/2006/table">
            <a:tbl>
              <a:tblPr/>
              <a:tblGrid>
                <a:gridCol w="1981080"/>
                <a:gridCol w="20829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urobarometer 57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óór uitbreiding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enemarken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rieken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panj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weden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Italië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eder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Ier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uxemburg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elgië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Oostenrijk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uits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Frankrijk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erenigd Kon.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U Gemiddeld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ublieke opinie over de kandidaat lids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91440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1066680"/>
          <a:ext cx="7848720" cy="54500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urobarometer 57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 </a:t>
                      </a: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etreding gewenst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 </a:t>
                      </a: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etreding niet gewenst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wits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oorweg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urki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ublieke opinie in de kandidaat lids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91440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09480" y="1066680"/>
          <a:ext cx="8283600" cy="5494320"/>
        </p:xfrm>
        <a:graphic>
          <a:graphicData uri="http://schemas.openxmlformats.org/drawingml/2006/table">
            <a:tbl>
              <a:tblPr/>
              <a:tblGrid>
                <a:gridCol w="2306880"/>
                <a:gridCol w="3024000"/>
                <a:gridCol w="29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andidate Countries EB-2002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‘</a:t>
                      </a: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Ja’ in een referendum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‘</a:t>
                      </a: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een’ in een referendum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urkije</a:t>
                      </a:r>
                      <a:r>
                        <a:rPr b="1" lang="nl-NL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middeld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conomische aspec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9144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7640" y="193500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r zijn enorme economische verschillen tussen de huidige lidstaten en de kandidaat-lidstat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landbouw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 GLB-hervormingen, SAPAR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ilieu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implementatie van het acquis, transitieperiode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rij verkeer van werknemer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migratiestrom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udgettair / EMU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egrotingstekorten, infl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conomische aspec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9144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1828800"/>
          <a:ext cx="7848360" cy="434808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647640" y="9144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oorspelling van het BNP per capita, als percentage van het huidige EU gemiddeld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uitbreiding met Turkij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914400"/>
            <a:ext cx="883908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urkije wil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zeer graag lid worden, d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 weet zich geen raa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ormele en informel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rgumen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criteria van Kopenha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opolitieke ligg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slamitisch, maar seculier 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ruk van de Verenigde Sta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Turkije is momenteel ‘kandidaat – kandidaat – lidstaat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se Conferenti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 Londen (vanaf 1998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rondwetswijzigingen om de EU tegemoet te kome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2002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se Raad Brussel 2002: geen datum voor de start van de onderhandel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914400"/>
            <a:ext cx="8534160" cy="51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id-term Review’ van de uitbreidingsstrateg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oktober 2001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9595ff"/>
                </a:solidFill>
                <a:latin typeface="Tahoma"/>
              </a:rPr>
              <a:t>Vrij verkeer van person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problemen inzake vrij verkeer van werknemers (Oostenrijk, Duitsland, Malta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9595ff"/>
                </a:solidFill>
                <a:latin typeface="Tahoma"/>
              </a:rPr>
              <a:t>Vrij verkeer van goederen, diensten en kapitaal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transitieperiodes in twee richting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9595ff"/>
                </a:solidFill>
                <a:latin typeface="Tahoma"/>
              </a:rPr>
              <a:t>Milieubeleid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transitieperiodes waar investeringen en infrastructuurwerken noodzakelijk zij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Jaarlijks Rapport van de Europese Commissie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november 2001)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voor sommige landen de onderhandelingen eind 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2002 af te ron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Laken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december 2001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voor 10 met naam genoemd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landen de onderhandelingen eind 2002 af te rond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onderhandelingshoofdstukken afgerond zoals voorzi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914400"/>
            <a:ext cx="85341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Sevilla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juni 2002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Spaans voorzitterschap heeft de onderhandelingshoofdstukken afgerond zoals voorzi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laatste moeilijke hoofdstukken worden aangesneden: landbouw, cohesie en financië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voor 10 met naam genoemd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landen de onderhandelingen eind 2002 af te ron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de timing van ondertekening van de toetredingsverdragen te halen in de lente van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opstellen van een nieuwe timing voor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Bulgarije en Roemenië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en toezegging van extra pre-toetredingssteu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Cyprus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hereniging gewenst, maar niet noodzakelijk voor toetred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Turkij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vooruitzicht van een nieuwe strategie op de ER van Kopenhagen (december 2002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en enorme uitdag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76520"/>
            <a:ext cx="80010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9595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595ff"/>
                </a:solidFill>
                <a:latin typeface="Tahoma"/>
              </a:rPr>
              <a:t>Kwantitatieve uitdagin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12 + 1 kandidaat-lid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lovenië, Polen, Hongarije, Estland, Tsjechië, Cyprus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alta, Letland, Litouwen, Slowakije, Roemenië, Bulgarij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urkij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9595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595ff"/>
                </a:solidFill>
                <a:latin typeface="Tahoma"/>
              </a:rPr>
              <a:t>Kwalitatieve uitdagin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olitieke noodwendigheid: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de vereniging van het Europese continent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aar tegelijk enorm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conomische, politieke en administratieve obstakel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914400"/>
            <a:ext cx="8534160" cy="50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Brussel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oktober 2002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spreking van het jaarlijks rapport van de Europese Commissie dat opnieuw aanbeveelt om eind 2002 de onderhandelingen met de 10 genoemde landen af te ron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voor de 10 met naam genoemd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landen de onderhandelingen af te ronden op de ER van Kopenhagen (december 2002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de timing van ondertekening van de toetredingsverdragen te halen in de lente van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kkoord over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monitoring van de kandidaat-lidstat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tot op de dag dat ze daadwerkelijk zullen toetre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Akkoord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over de het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standpunt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dat de 15 lidstaten zullen innemen bij de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onderhandeling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van de laatste hoofdstukken: 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landbouw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‘phasing in’ van directe inkomenssteu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financiering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‘plafonnering’ ‘van de landbouwuitgaven vanaf 2007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914400"/>
            <a:ext cx="8534160" cy="40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Brussel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oktober 2002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Opstellen van een nieuwe gedetailleerde timing voor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Bulgarije en Roemenië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met het oog op toetreding in 2007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Turkij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vooruitzicht van een nieuwe strategie, maar wellicht geen datum voor de start van de onderhandelingen, op de ER van Kopenhagen (december 2002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Cyprus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hereniging gewenst, maar niet noodzakelijk voor toetred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914400"/>
            <a:ext cx="853416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Kopenhagen</a:t>
            </a:r>
            <a:r>
              <a:rPr b="1" lang="nl-BE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december 2002)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fronding van de onderhandeling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voorziene toetredingsdatum 1 mei 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monitoring van de kandidaat-lidstaten tot op de dag dat ze  toetre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914400"/>
            <a:ext cx="853416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Tijdspad voor de ‘10 van Kopenhagen’ vanaf 1 januari 2003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laatste wijziging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aan de toetredingsverdragen: afronding op 5 februari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definitieve versie van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uropese Commissi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op 19 februari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instemming van het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uropees Parlement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op 9 april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instemming door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Raad van Ministers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op 10/11 april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16 april 2003: plechtige ondertekening van de toetredingsverdragen op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uropese Raad van Athene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2003-2004: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ratificaties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in alle lidstaten en kandidaat-lidstat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deelname aan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uropese verkiezing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van juni 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volwaardige deelname aan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IGC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van 2003 / 2004 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xtra commissariss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vanaf 1 november 2004 (Verdrag van Nice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volwaardig lidmaatschap voor de tien op 1 mei 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referenda in de kandidaat-lids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79640" y="981000"/>
          <a:ext cx="5002200" cy="5112000"/>
        </p:xfrm>
        <a:graphic>
          <a:graphicData uri="http://schemas.openxmlformats.org/drawingml/2006/table">
            <a:tbl>
              <a:tblPr/>
              <a:tblGrid>
                <a:gridCol w="2163600"/>
                <a:gridCol w="283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atum referendum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 april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urkije</a:t>
                      </a:r>
                      <a:r>
                        <a:rPr b="1" lang="nl-NL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-17 mei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 juni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5-16 juni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1 mei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3 maart 2003: OK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 maart 2003: OK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4 september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 september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914400"/>
            <a:ext cx="853416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Cyprus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standpunt van de EU is dat toetreding kan, maar liefst na herenig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ntwoord op het ‘Annan-plan’ verwacht vóór 10 maart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Bulgarije en Roemenië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streefdatum voor toetreding blijft 2007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intensivering van de onderhandelingen en de pre-toetredingssteu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waarnemers bij de IGC van 2003/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   </a:t>
            </a: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Turkije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slissing over de eventuele start van de onderhandelingen op de ER van 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december 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914400"/>
            <a:ext cx="8534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nieuwe kandidaat-land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Kroatië: lidmaatschap aangevraagd op 21 februari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Macedonië: lidmaatschapaanvraag in de loop van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Noorwegen: publieke opinie wordt meer pro-EU (49, 6% voor, 36, 4% tegen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gespannen verhoudingen tussen ‘Old Europe’ en ‘New Europe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expliciete steun van ‘New Europe’ aan het Amerikaanse Irak-beleid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New Europe’ niet uitgenodigd op de ER van Brussel (februari 2003) over de Irak-crisis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erst hulp en samenwerking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990720"/>
            <a:ext cx="883908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1989: star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HARE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Poland – Hungary: Actions for Economic Reconstruction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1990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uitbreiding PHAR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naar Bulgarije, Tsjecho-Slowakije,          Oost-Duitsland en Joegoslavië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1991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uitbreiding PHAR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et de Baltische 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1990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Bank voor Wederopbouw en Ontwikkel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egin jaren ’90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andels- en samenwerkingsverdra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et alle Centraal en Oost-Europese lan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 steunt de vraag om toetreding, maar vertraagt het proces: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r waren eerst massale economische, institutionele en politieke hervormingen nodi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‘Europa-akkoorden’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14400"/>
            <a:ext cx="838224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a-akkoorden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zeer verregaande akkoorden, eerst met de Visegrad-landen (1991) en later met de andere kandidaat-leden, als voorbereiding op het echte lidmaatschap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Uitbreiding was zee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ontroversiee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bij de bestaande EU-le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B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uitbreiding goed voor verwatering van de E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itslan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voor een kleine en tegen een grote uitbreid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rankrijk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angst voor de economische gevol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hesielanden’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angst voor verlies van subsidi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bestaande lidstaten trachten de uitbreiding zoveel mogelijk t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ertra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et als argument dat er een degelijk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oorbereid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oest zijn en vooral degelijk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rvorm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990720"/>
            <a:ext cx="8839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Criteria van Kopenhagen en Madr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371600"/>
            <a:ext cx="8001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e16b0"/>
                </a:solidFill>
                <a:latin typeface="Tahoma"/>
              </a:rPr>
              <a:t>ER Kopenhag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(1993): formulering van de voorwaarden waaraan kandidaat-lidstaten moeten voldo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politiek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stabiliteit, democratie, rechtsstaat, respect voor mensenrechten en bescherming van minderh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economisch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een goed werkende markteconomie die de concurrentiedruk van de bestaande interne markt aan ka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ideologisch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de politieke, economische en monetaire doelstellingen van de Europese Unie onderschrijven 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e16b0"/>
                </a:solidFill>
                <a:latin typeface="Tahoma"/>
              </a:rPr>
              <a:t>ER Madrid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(1995): formulering van een extra voorwaard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administratief / juridisch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een volledige omzetting en toepassing van het ‘acquis communautaire’ van de Europese Uni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uropese Raad van Luxemburg (1997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268280"/>
            <a:ext cx="84582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Luxembur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1997): bevestiging van de aanbeveling van de Commissie door het sluiten van 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etredingspartnerschappen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t de ‘Vijf plus één van Luxemburg’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lovenië, Polen, Hongarije, Estland, Tsjechië en Cypru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russel (1998): Start van de toetredingsonderhandelingen m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lovenië, Polen, Hongarije, Estland, Tsjechië en Cypru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uropese Raad van Helsinki (1999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197000"/>
            <a:ext cx="84582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Helsinki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1999)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Toetred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pas mogelijk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en vroegste vanaf 2002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, d.w.z. na de institutionele hervormingen van 2000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russel (2000) Start van de toetredingsonderhandelingen met </a:t>
            </a:r>
            <a:r>
              <a:rPr b="1" lang="nl-NL" sz="2000" spc="-1" strike="noStrike">
                <a:solidFill>
                  <a:srgbClr val="545472"/>
                </a:solidFill>
                <a:latin typeface="Tahoma"/>
              </a:rPr>
              <a:t>Roemenië, Slowakije, Letland, Litouwen, Bulgarije en Malt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‘Zes van Helsinki’ worden op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lijke voe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behandeld als de ‘Vijf plus één van Luxemburg’: vanaf 2000 worden er dus twaalf parallelle onderhandelingen gevoer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urkije wordt ‘kandidaat – kandidaat – lidstaat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erkend als kandidaat-lidstaat, maar nog geen onderhandel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roblematische aspec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197000"/>
            <a:ext cx="84582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implementatie van het ‘acquis communautaire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houding van de publieke opinie in de bestaande lidstaten én in de kandidaat lid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kwestie Turkije en de kwestie Cypru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economische aspec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timing en het verband met de lopende institutionele hervorm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implementatie van het acquis communautair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914400"/>
            <a:ext cx="845820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onderhandelingen zijn opgesplitst i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30 hoofdstukk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n </a:t>
            </a:r>
            <a:r>
              <a:rPr b="0" lang="nl-BE" sz="2000" spc="-1" strike="noStrike">
                <a:solidFill>
                  <a:srgbClr val="9595ff"/>
                </a:solidFill>
                <a:latin typeface="Tahoma"/>
              </a:rPr>
              <a:t>princip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oeten alle hoofdstukken volledig afgerond zijn vóór de toetreding kan plaatsvin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n de </a:t>
            </a:r>
            <a:r>
              <a:rPr b="0" lang="nl-BE" sz="2000" spc="-1" strike="noStrike">
                <a:solidFill>
                  <a:srgbClr val="9595ff"/>
                </a:solidFill>
                <a:latin typeface="Tahoma"/>
              </a:rPr>
              <a:t>real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worden e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ransitieperiode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oorzien  voor moeilijke hoofdstukken zoals milieu, landbouw, vrij verkeer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Commissie stel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welbepaalde voorwaar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beperkt in tijd en reikwijdte, met een duidelijk plan om eraan te verhel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ransitieperiodes werken i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twee richt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rij verkeer van werknemers naar de huidige E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ankoop vastgoed in de kandidaat-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ijdens de onderhandelingen waren er grote verschillen tussen de kandidaat-lid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moeilijkste onderhandelingen werden pas erg laat aangevat: financiering en landbouw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5:27:28Z</dcterms:created>
  <dc:creator>Peter Bursens</dc:creator>
  <dc:description/>
  <dc:language>en-US</dc:language>
  <cp:lastModifiedBy>Peter Bursens</cp:lastModifiedBy>
  <dcterms:modified xsi:type="dcterms:W3CDTF">2003-04-07T11:39:18Z</dcterms:modified>
  <cp:revision>16</cp:revision>
  <dc:subject/>
  <dc:title>Beleid van de Europese Unie  De vijfde uitbreiding 1989-2004  Peter Bursens PSW-UA - 2002-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95988191</vt:r8>
  </property>
  <property fmtid="{D5CDD505-2E9C-101B-9397-08002B2CF9AE}" pid="3" name="_AuthorEmail">
    <vt:lpwstr>bursens@uia.ac.be</vt:lpwstr>
  </property>
  <property fmtid="{D5CDD505-2E9C-101B-9397-08002B2CF9AE}" pid="4" name="_AuthorEmailDisplayName">
    <vt:lpwstr>Peter Bursens</vt:lpwstr>
  </property>
  <property fmtid="{D5CDD505-2E9C-101B-9397-08002B2CF9AE}" pid="5" name="_EmailSubject">
    <vt:lpwstr>OFO - Europese Unie - Stagiair-attachés OS.</vt:lpwstr>
  </property>
</Properties>
</file>