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08DA-66A3-4159-8056-8F492841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218-50A2-4D7A-B954-60427E46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E25-B0F3-47A3-83EF-B34A2335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2DB4-C166-4B4E-B26B-ACE43443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2E7B-E42B-4296-9C70-7D1A6CA6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B23A-034E-489C-A762-252D337B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A073-9499-457B-9FB2-A044C60F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08B9-B557-45A6-A6CF-1A205244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00AE-B330-4DA5-BF01-4846B2BA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FB74-62BF-4DE2-9732-102DB9FD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0154-D807-4F8C-BD7C-F87ACE9E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C59-87F9-4F58-80C0-43D72E6A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4EAE-4FEE-4857-ACF8-3F25723F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E784-CBC7-4564-AC9B-76F08D48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AA61-F34D-4920-8202-942AC77B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797E-92C8-4B1E-80B9-8CE8A348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C3A5-6629-49F0-BE04-CC13282F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780-1FBC-45EB-AA75-6A0314A0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2559-2371-4ACB-A96D-AE5C326B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0F2A-877E-4FD7-997C-65274699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82B-2EE0-436E-88A1-87E88328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E912-F615-4E52-BD63-890D907E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FB88-E56D-4A96-9582-FC5F48B7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595A-121E-43CE-95F9-A3928C5D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5A08-3C0C-4E32-A7E4-25AE2CAEDA4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8969-BDFE-4066-AB43-8716D184552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155736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660066"/>
                </a:solidFill>
                <a:latin typeface="Tahoma"/>
              </a:rPr>
              <a:t>Institutionele Hervormingen</a:t>
            </a:r>
            <a:r>
              <a:rPr b="0" lang="nl-BE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42560" y="4292640"/>
            <a:ext cx="678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545472"/>
                </a:solidFill>
                <a:latin typeface="Tahoma"/>
              </a:rPr>
              <a:t>Peter Bursen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545472"/>
                </a:solidFill>
                <a:latin typeface="Tahoma"/>
              </a:rPr>
              <a:t>Universiteit Antwerpe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versterkte samenwerking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990720"/>
            <a:ext cx="8382240" cy="62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Nieuwe regels inzake de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versterkte samenwerking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it is de mogelijkheid voor een groep van lidstaten om binnen het bestaande institutionele kader verder te integreren dan andere lidstat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algeme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minimaal 8 lidstaten moeten deelnem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eerste pijler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Raad beslist bij gekwalificeerde meerderheid, soms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oedkeuring EP,  Commissie laat nieuwe staten to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tweede pijler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Raad beslist bij gekwalificeerde meerderheid slechts ter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uitvoering, geen defensie, doorverwijzing naar de Europese Raad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mogelijk, Raad laat nieuwe staten toe, Commissie en EP geïnformeer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derde pijler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Raad beslist bij gekwalificeerde meerderheid, EP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eïnformeerd, Raad laat nieuwe staten to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Europese Raad van Laken (december 2001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9144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836640"/>
            <a:ext cx="8458200" cy="60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De Verklaring van Lak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analyse van de verwezenlijkingen en van de tekortkomingen van het </a:t>
            </a: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Europese integratieproce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vrede, stabiliteit en economische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ooruitgang </a:t>
            </a:r>
            <a:r>
              <a:rPr b="0" i="1" lang="nl-BE" sz="1800" spc="-1" strike="noStrike">
                <a:solidFill>
                  <a:srgbClr val="545472"/>
                </a:solidFill>
                <a:latin typeface="Tahoma"/>
              </a:rPr>
              <a:t>versu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democratisch tekort, gebrek aan transparantie,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nternationale slagkracht, interne veilighei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opsomming van de uitdaging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bevoegdheidsafbakening,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ereenvoudiging van de regelgeving, verbetering van democratie,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ransparantie en efficiëntie, een Europese grondwet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de agendapunten op de Europese Raad van Nice worden uitgebrei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an de rol van de nationale parlementen, status van het Charter,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ereenvoudiging van de Verdragen en bevoegdheidsafbakening tot een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olledig open agenda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afspraken over de methode van de volgende hervormingen: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erst een brede conventie, aangevuld met een civil society forum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aarna afronden met een IGC onder de regeringen van de lidstat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Europese Conventie: timing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9144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990720"/>
            <a:ext cx="845820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de </a:t>
            </a: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Conventie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loopt van februari 2002 tot juni 2003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finitief voorstel op de Europese Raad van Thessaloniki       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juni 2003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start van een nieuwe </a:t>
            </a: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IGC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in 2003 of 2004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bezinningsperiode of direct onderhandelingen?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en </a:t>
            </a: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nieuw verdrag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op de Europese Raad van Rome (december 2003) of op de Europese Raad van Rotterdam (juni 2004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einde van de onderhandelingen onder Italiaans of Nederlands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voorzitterschap?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Conventi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907920"/>
            <a:ext cx="8458200" cy="56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Samenstell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lidstaten (15), nationale parlementen (15x2), Europees Parlement (16), Commissie (2), de kandidaat-lidstaten (13), de parlementen van de kandidaat-lidstaten (13x2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Waarnemer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Economisch en Sociaal Comité (3), Europese sociale partners (3), Comité van de Regio’s (6) en de Europese Ombudsma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Voorzitter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Giscard d’Estaing; Ondervoorzitters Amato en Dehaen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Presidium</a:t>
            </a: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: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oorzitter en ondervoorzitters plus negen led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Secretariaat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 wordt verzorgd door het secretariaat-generaal van de Raa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naar een ‘Grondwettelijk Verdrag’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9144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990720"/>
            <a:ext cx="8458200" cy="53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Oktober 2002: skelet van een ‘Grondwettelijk Verdrag’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Discussiepunten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rechtspersoonlijkheid en een nieuwe naam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pname van het Charter van Fundamentele recht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ubbel burgerschap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oorzitterschap van Europese Raad, Raad van Ministers en Commissi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congres van Europese volkeren als derde kamer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ieuwe besluitvormingsprocedure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erdeling van de bevoegdheden (exclusief, gedeeld, ondersteunend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afschaffing van de pijlerstructuur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uropese belasting als financierin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mogelijkheid om eruit te stapp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and van zaken (april 2003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9144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990720"/>
            <a:ext cx="845820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Voorbereidende werkgroepen van de Conventie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subsidiariteit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Charter van Fundamentele Recht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rechtspersoonlijkhei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rol van de nationale parlement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complementaire bevoegdhed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economisch belei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extern belei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fensi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vereenvoudiging van procedures en instrument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vrijheid, veiligheid en rechtvaardighei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sociaal Europa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and van zaken (april 2003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9144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990720"/>
            <a:ext cx="84582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8560" indent="-8985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Invulling van het skelet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898560" indent="-898560"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artikels 1-16 (6 februari): doelstellingen, waarden, rechten en bevoegdheden: begroet met meer dan 1000 amendement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898560" indent="-898560"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artikels 24-33 (26 februari):vereenvoudiging van de wetgevende instrumenten en procedures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898560" indent="-898560"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protocols (6 maart): subsidiariteit en de rol van de nationale parlement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898560" indent="-898560"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artikels (14 maart) over vrijheid, veiligheid en rechtvaardigheid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898560" indent="-898560"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artikels 38-40 (17 maart): financiering van de EU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898560" indent="-898560"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artikel 42 (3 april): onmiddellijke externe omgeving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898560" indent="-898560"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artikels 33-37</a:t>
            </a:r>
            <a:r>
              <a:rPr b="0" lang="nl-BE" sz="1800" spc="-1" strike="noStrike">
                <a:solidFill>
                  <a:srgbClr val="545472"/>
                </a:solidFill>
                <a:latin typeface="Arial"/>
              </a:rPr>
              <a:t>(3 april)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: democratie en legitimiteit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898560" indent="-898560"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artikel 43-36</a:t>
            </a:r>
            <a:r>
              <a:rPr b="0" lang="nl-BE" sz="1800" spc="-1" strike="noStrike">
                <a:solidFill>
                  <a:srgbClr val="545472"/>
                </a:solidFill>
                <a:latin typeface="Arial"/>
              </a:rPr>
              <a:t>(3 april)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: lidmaatschap van de EU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898560" indent="-8985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algemene bepalingen </a:t>
            </a:r>
            <a:r>
              <a:rPr b="0" lang="nl-BE" sz="1800" spc="-1" strike="noStrike">
                <a:solidFill>
                  <a:srgbClr val="545472"/>
                </a:solidFill>
                <a:latin typeface="Arial"/>
              </a:rPr>
              <a:t>(3 april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898560" indent="-898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898560" indent="-898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and van zaken (april 2003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9144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990720"/>
            <a:ext cx="8458200" cy="38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Opmerkingen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erwordt de Conventie tot een ‘pre-IGC’ nu zoveel ministers van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uitenlandse zaken lid zijn (Michel, Fischer, Fini, de Villepin)?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erharden de discussies tussen de kleine en de grote lidstaten?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erharden de discussies tussen federalisten en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ntergouvernementalisten?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wordt het een consensusdocument of een document met meerderheids-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n minderheidsposities?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interne hervormingen van de Raad van Ministers (april 2003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9144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990720"/>
            <a:ext cx="845820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Arial"/>
              </a:rPr>
              <a:t>Conclusies van de Europese Raad van Sevilla (juni 2002)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ieuwe Raadsformatie </a:t>
            </a: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Algemene Zaken en Externe Betrekking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, met afzonderlijke zittingen voor de twee onderwerp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beperking van het aantal Raadsformaties tot 9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perationele jaarprogramma’s en strategische meerjarenprogramma’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betere samenwerk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tussen opeenvolgende voorzitterschapp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openbaarheid van besluitvorm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geval van wetgeving (co-decisie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interne hervormingen van de Europese Raad 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(stand van zaken - april 2003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9144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990720"/>
            <a:ext cx="8588160" cy="41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Conclusies van de Europese Raad van Sevilla (juni 2002)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xclusieve </a:t>
            </a: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voorbereid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door de Raad Algemene Zaken en Externe Betrekkingen: agenda, voorbereiding besluitvorming ,…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ieuwe </a:t>
            </a: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vuistregels voor het verloop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duur, aanwezigheid, delegaties, rol van de voorzitter…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ieuwe </a:t>
            </a: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vuistregels voor de conclusie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beknoptheid, voorbereidingen, …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Nieuwe regels zijn in voege sinds het Deense Voorzitterschap (juli 2002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Huidige institutionele context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914400"/>
            <a:ext cx="837072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Constitutionele hervormingen via verdragswijzigingen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720720" indent="-58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cember 2000: akkoord over het Verdrag van Nic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720720" indent="-58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februari 2001: ondertekening van het Verdrag van Nic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720720" indent="-58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2001 – 2002: ratificatieprocedures in de lidstaten (Ierland!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720720" indent="-58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1 februari 2003:  het Verdrag van Nice wordt van kracht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720720" indent="-58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720720" indent="-58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cember 2001: Verklaring van Lak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720720" indent="-58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februari 2001 – juni 2003: de Europese Conventi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720720" indent="-58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2003 (2004?): intergouvernementele conferenti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720720" indent="-58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2003 (2004?): Verdrag van Rome (Rotterdam?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interne hervormingen zonder verdragswijzigingen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uropese Commissie: het Witboek European Governanc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Raad van Ministers / Europese Raad: rapporten Solana</a:t>
            </a: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‘governance’ agend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9144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990720"/>
            <a:ext cx="8458200" cy="47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Het ontslag van de Commissie Santer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maart 1999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Aantijgingen over slechte aanpak van fraude en slecht beheer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Agenda 2000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ER van Berlijn – maart 1999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Hervorming van het </a:t>
            </a:r>
            <a:r>
              <a:rPr b="1" lang="nl-BE" sz="1600" spc="-1" strike="noStrike">
                <a:solidFill>
                  <a:srgbClr val="0000ff"/>
                </a:solidFill>
                <a:latin typeface="Tahoma"/>
              </a:rPr>
              <a:t>landbouwbeleid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Hervorming van de </a:t>
            </a:r>
            <a:r>
              <a:rPr b="1" lang="nl-BE" sz="1600" spc="-1" strike="noStrike">
                <a:solidFill>
                  <a:srgbClr val="0000ff"/>
                </a:solidFill>
                <a:latin typeface="Tahoma"/>
              </a:rPr>
              <a:t>structuurfonds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Nieuw </a:t>
            </a:r>
            <a:r>
              <a:rPr b="1" lang="nl-BE" sz="1600" spc="-1" strike="noStrike">
                <a:solidFill>
                  <a:srgbClr val="0000ff"/>
                </a:solidFill>
                <a:latin typeface="Tahoma"/>
              </a:rPr>
              <a:t>financieel raamwerk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2000-2006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545472"/>
                </a:solidFill>
                <a:latin typeface="Tahoma"/>
              </a:rPr>
              <a:t>Prodi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wordt verzocht de nieuwe Commissie te leid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Hervormingen door de Commissie Prodi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Oprichting onafhankelijk </a:t>
            </a:r>
            <a:r>
              <a:rPr b="1" lang="nl-BE" sz="1600" spc="-1" strike="noStrike">
                <a:solidFill>
                  <a:srgbClr val="0000ff"/>
                </a:solidFill>
                <a:latin typeface="Tahoma"/>
              </a:rPr>
              <a:t>anti-fraude agentschap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(1999)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Hervorming van de </a:t>
            </a:r>
            <a:r>
              <a:rPr b="1" lang="nl-BE" sz="1600" spc="-1" strike="noStrike">
                <a:solidFill>
                  <a:srgbClr val="0000ff"/>
                </a:solidFill>
                <a:latin typeface="Tahoma"/>
              </a:rPr>
              <a:t>administratie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(‘Kinnock-hervormingen’)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Witboek ‘</a:t>
            </a:r>
            <a:r>
              <a:rPr b="1" lang="nl-BE" sz="1600" spc="-1" strike="noStrike">
                <a:solidFill>
                  <a:srgbClr val="0000ff"/>
                </a:solidFill>
                <a:latin typeface="Tahoma"/>
              </a:rPr>
              <a:t>European Governance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’ (juli 2001)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het ‘governance’ witboek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9144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990720"/>
            <a:ext cx="845820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Hervormingen van het Europese bestuursmodel volgens zeven principes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openheid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: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beschikbaarheid van informatie, politieke communicati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participatie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: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oorheen de volledige beleidscyclus en van een grote diversiteit aan actor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legitimiteit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democratische besluitvorming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effectiviteit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doelgerichtheid van het gevoerde belei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coherenti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samenhang tussen de beleidsdomein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subsidiariteit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is beleid nodig en is het nodig op het Europese niveau?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proportionaliteit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zijn de maatregelen in overeenstemming met het beoogde doel?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het ‘governance’ witboek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9144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990720"/>
            <a:ext cx="845820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Concrete actiepunten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betere betrokkenheid creër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meer informatie beschikbaar maken, o.m. elektronisch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regionale en lokale besturen meer bij het beleid betrekk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het ‘middenveld’ meer bij het beleid betrekk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betere formulering en uitvoering van het belei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meer vertrouwen in technische expertis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meer variatie in beleidsinstrumenten (wetgeving, co-regulering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meer eenvoudige regels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betere implementatie van het belei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wereldwijd uitdragen van de betere EU-governanc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het Verdrag van Nice: overzicht van de resultat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914400"/>
            <a:ext cx="815472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3880" indent="360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23880" indent="3603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Samenstelling en werking van de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Europese Commissi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23880" indent="3603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Uitbreiding van het gebruik van</a:t>
            </a: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gekwalificeerde meerderhei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23880" indent="36036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Drempel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om een gekwalificeerde meerderheid te hal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23880" indent="36036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Stemmenweg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 de Raad van Minister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23880" indent="3603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erdeling van het aantal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Europarlementsled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23880" indent="3603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Regels inzake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versterkte samenwerking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(flexibele integratie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23880" indent="3603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Wijziging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artikel 7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(bescherming van de democratie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23880" indent="3603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Wijzing van de werking van het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Hof van Justiti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23880" indent="3603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(Het Charter van de Fundamentele Rechten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het Verdrag van Nice: institutionele hervorming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990720"/>
            <a:ext cx="8382240" cy="52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Belangrijkste institutionele wijzigingen in het Verdrag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 indent="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 indent="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ieuwe verdeling inzake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stemmengewicht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 de Raad en inzake het aantal Europese Parlementsleden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 indent="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 indent="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ieuwe samenstelling en regels voor de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Europese Commissi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 indent="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 indent="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ieuwe regels inzake de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gekwalificeerde meerderhei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 indent="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nkele </a:t>
            </a:r>
            <a:r>
              <a:rPr b="0" lang="nl-BE" sz="1800" spc="-1" strike="noStrike" u="sng">
                <a:solidFill>
                  <a:srgbClr val="545472"/>
                </a:solidFill>
                <a:uFillTx/>
                <a:latin typeface="Tahoma"/>
              </a:rPr>
              <a:t>nieuwe domein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 indent="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 u="sng">
                <a:solidFill>
                  <a:srgbClr val="545472"/>
                </a:solidFill>
                <a:uFillTx/>
                <a:latin typeface="Tahoma"/>
              </a:rPr>
              <a:t>drie voorwaard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drempels) voor een meerderheid 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 indent="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 indent="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ieuwe regels inzake de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versterkte samenwerk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emmengewicht in de Raad van Minister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990720"/>
            <a:ext cx="8382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24000" y="874800"/>
          <a:ext cx="8569080" cy="5464080"/>
        </p:xfrm>
        <a:graphic>
          <a:graphicData uri="http://schemas.openxmlformats.org/drawingml/2006/table">
            <a:tbl>
              <a:tblPr/>
              <a:tblGrid>
                <a:gridCol w="3273120"/>
                <a:gridCol w="1479600"/>
                <a:gridCol w="2016360"/>
                <a:gridCol w="18000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Huidig Gewicht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Gewicht tussen toetreding en 1/1/2005 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Gewicht vanaf 1/1/2005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Duitsland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VK, Frankrijk, Italië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panje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8 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Polen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Roemenië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Nederland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Griekenland, België, Portugal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Hongarije, Tsjechië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Zweden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Oostenrijk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Bulgarije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Denemarken, Finland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wakije, 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Ierland,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itouwen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etland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venië, Estland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Cyprus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uxemburg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Malta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verdeling van het aantal Europarlementsled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990720"/>
            <a:ext cx="8382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85800" y="874800"/>
          <a:ext cx="7924680" cy="5618160"/>
        </p:xfrm>
        <a:graphic>
          <a:graphicData uri="http://schemas.openxmlformats.org/drawingml/2006/table">
            <a:tbl>
              <a:tblPr/>
              <a:tblGrid>
                <a:gridCol w="3170160"/>
                <a:gridCol w="2468520"/>
                <a:gridCol w="2286000"/>
              </a:tblGrid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Huidige Verdeling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Verdeling vanaf verkiezingen 2004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Duitsland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VK, Frankrijk, Italië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2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panje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Polen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Roemenië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Nederland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Griekenland, België, Portugal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Hongarije, Tsjechië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0 (22 ?)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Zweden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Oostenrijk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Bulgarije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Denemarken, Finland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wakije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Ierland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itouwen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etland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venië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uxemburg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Estland, Cyprus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Malta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26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Europese Commissi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990720"/>
            <a:ext cx="838224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Nieuwe samenstelling en regels voor de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uropese Commissie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Vanaf het aantreden van de </a:t>
            </a: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nieuwe Commissi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2005) zal de Commissie </a:t>
            </a: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één commissaris per lidstaat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tell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Vanaf 27 led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zal het aantal commissarissen lager liggen dan het aantal lidstaten: over de modaliteiten van een </a:t>
            </a: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rotatiesysteem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moet nog beslist word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Meer macht voor de Commissievoorzitter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inzake verdeling van de portefeuilles en het ontslag van individuele commissariss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gekwalificeerde meerderheid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990720"/>
            <a:ext cx="8382240" cy="50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Nieuwe regels inzake de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gekwalificeerde meerderheid in de Raa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overheveling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van unanimiteit naar gekwalificeerde meerderheid betreffen vooral technische, maar politiek minder belangrijke issues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Er komt een </a:t>
            </a: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driedubbele drempel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om gekwalificeerde meerderheid te halen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aanpassing van het aantal te behalen stemmen aan de nieuwe stemmenverdeling, nl een </a:t>
            </a:r>
            <a:r>
              <a:rPr b="1" lang="nl-BE" sz="1800" spc="-1" strike="noStrike">
                <a:solidFill>
                  <a:srgbClr val="660066"/>
                </a:solidFill>
                <a:latin typeface="Tahoma"/>
              </a:rPr>
              <a:t>stijging van ca. 71 % naar ca. 72%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en </a:t>
            </a:r>
            <a:r>
              <a:rPr b="1" lang="nl-BE" sz="1800" spc="-1" strike="noStrike">
                <a:solidFill>
                  <a:srgbClr val="660066"/>
                </a:solidFill>
                <a:latin typeface="Tahoma"/>
              </a:rPr>
              <a:t>meerderhei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van de lidstaten moet </a:t>
            </a:r>
            <a:r>
              <a:rPr b="1" lang="nl-BE" sz="1800" spc="-1" strike="noStrike">
                <a:solidFill>
                  <a:srgbClr val="660066"/>
                </a:solidFill>
                <a:latin typeface="Tahoma"/>
              </a:rPr>
              <a:t>vóór stemm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 lidstaten die vóór stemmen moeten </a:t>
            </a:r>
            <a:r>
              <a:rPr b="1" lang="nl-BE" sz="1800" spc="-1" strike="noStrike">
                <a:solidFill>
                  <a:srgbClr val="660066"/>
                </a:solidFill>
                <a:latin typeface="Tahoma"/>
              </a:rPr>
              <a:t>minimaal 62% van de totale EU-bevolk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vertegenwoordig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340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gekwalificeerde meerderheid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40464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24000" y="1484280"/>
          <a:ext cx="8569080" cy="1334880"/>
        </p:xfrm>
        <a:graphic>
          <a:graphicData uri="http://schemas.openxmlformats.org/drawingml/2006/table">
            <a:tbl>
              <a:tblPr/>
              <a:tblGrid>
                <a:gridCol w="3273120"/>
                <a:gridCol w="1479600"/>
                <a:gridCol w="2016360"/>
                <a:gridCol w="18000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Huidig Gewicht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Gewicht tussen toetreding en 1/1/2005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Gewicht vanaf 1/1/2005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otaal aantal stemmen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21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QMV-drempel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2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88*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32**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395280" y="3284640"/>
            <a:ext cx="79218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* op voorwaarde dat alle 10 genoemde landen kunnen toetreden, anders wordt de QMV-drempel berekend op 71,26% van het totaal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** op voorwaarde dat alle 10 genoemde landen kunnen toetreden, anders wordt de QMV-drempel berekend op 70% indien minder dan 300 stemmen en anders op 72,27%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5:27:54Z</dcterms:created>
  <dc:creator>Peter Bursens</dc:creator>
  <dc:description/>
  <dc:language>en-US</dc:language>
  <cp:lastModifiedBy>Peter Bursens</cp:lastModifiedBy>
  <dcterms:modified xsi:type="dcterms:W3CDTF">2003-04-10T07:40:03Z</dcterms:modified>
  <cp:revision>14</cp:revision>
  <dc:subject/>
  <dc:title>Beleid van de Europese Unie  De institutionele hervormingen 1998-2004   Peter Bursens PSW-UA - 2002-200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5272870</vt:r8>
  </property>
  <property fmtid="{D5CDD505-2E9C-101B-9397-08002B2CF9AE}" pid="3" name="_AuthorEmail">
    <vt:lpwstr>bursens@uia.ac.be</vt:lpwstr>
  </property>
  <property fmtid="{D5CDD505-2E9C-101B-9397-08002B2CF9AE}" pid="4" name="_AuthorEmailDisplayName">
    <vt:lpwstr>Peter Bursens</vt:lpwstr>
  </property>
  <property fmtid="{D5CDD505-2E9C-101B-9397-08002B2CF9AE}" pid="5" name="_EmailSubject">
    <vt:lpwstr>OFO - Europese Unie - Stagiair-attachés OS.</vt:lpwstr>
  </property>
</Properties>
</file>