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695-8C5E-4F4A-9719-1851D2CC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03F-82FA-40CD-A441-23F83AC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919-0B1B-4C42-A76D-195E8881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E3D-2B27-497D-A7A5-C6E8EB7C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76CE-B6BC-445C-9404-9D3C2FE3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4E2C-053D-4EDC-AF3A-73E5635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E7B1-6BB1-4D67-828A-AD6575DC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4CFD-56CF-4427-AE46-80172CF0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1EE8-94CF-4594-89F2-EDDA13AC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67CF-0496-4E2C-931B-47D3949F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65F3-E4C8-43A6-BEB7-86A594E9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570-88EF-43A5-A78F-8FDA2A3E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2AEE-EEED-4BF9-859D-A002E02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60CF-9FE5-41E1-AEB8-10A4F878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0A29-4FB0-43A5-9F6E-332D744D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C5A2-704A-45E6-87E4-12DBE6CB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859A-C194-4967-BABF-7A99A6F0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7F5-A4C6-4FEA-95DF-0E7A211C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929-402E-4551-8516-0AB89B8B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AD4-0723-46F1-BA4D-554F5D5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B5B-43CD-4701-B42F-FFA3939D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218-19F3-4A70-88D9-4C0837B1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77A-7676-40B3-9FE7-91B57B8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249-37E0-4D93-9752-0ADE2276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8169-8186-44E3-961D-4751C172C74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E4DE-C400-4EC6-AEFF-92817181AA2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139560"/>
            <a:ext cx="8496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660066"/>
                </a:solidFill>
                <a:latin typeface="Tahoma"/>
              </a:rPr>
              <a:t>Geschiedenis van de Europese Integratie</a:t>
            </a:r>
            <a:r>
              <a:rPr b="0" lang="nl-BE" sz="4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000"/>
            </a:br>
            <a:r>
              <a:rPr b="0" lang="nl-BE" sz="3600" spc="-1" strike="noStrike">
                <a:solidFill>
                  <a:srgbClr val="660066"/>
                </a:solidFill>
                <a:latin typeface="Tahoma"/>
              </a:rPr>
              <a:t>1979-1997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Peter Bursens</a:t>
            </a:r>
            <a:br>
              <a:rPr sz="24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Universiteit Antwerp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Eenheidsakt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90720"/>
            <a:ext cx="853416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tekening in twee stapp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Italië, Denemarken, Griekenland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Weinig discussie en vooruitgang inzake buitenlands beleid en defens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Zware discussies over de verdragswijziging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invoeren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kwalificeerde meerderh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zake een deel van de harmonisatiemaatregel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es Parlement: introductie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amenwerkingsprocedur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interne markt) en de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ssent procedure’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(verdragen)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einig vooruitgang inzake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tificatie door de lidstaten in 1986-1987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Eenheidsakte van kracht sinds 1 juli 1987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mengde beoordeling: (kleine) stap vooruit in de integr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oltooiing van de interne mark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990720"/>
            <a:ext cx="853416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rage goedkeuring van de 300 maatregel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rote effecten voor het bedrijfsleven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fusies, samenwerking, …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ecchini rappor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‘The cost of non-Europe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nenigheid over h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inancieel pakket ‘Delors I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oen de ‘Top van Kopenhagen’ mislukken (1987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liberalisering versus cohesiefonds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udgettaire discipline en hervorming van het landbouwbel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Pas overeenstemming op ee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xtra Top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Brussel, 1988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dubbeling van de structuurfonds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rvorming van het landbouwbel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begrotingsregel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weg lag nu open om de deadline van ‘Europa 1992’ te hal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eranderende omstandighed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90720"/>
            <a:ext cx="853416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nnus mirabilis 1989’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l van de Berlijnse muur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ppor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lors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goedgekeurd op de ‘Top van Madrid’ (1989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aar een EMU in drie stapp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te beginnen in 1990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GC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m de nodige verdragswijzigingen door te voer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Duitse eenmaking (1990) …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kiezingen i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ost-Duitsland (maart 1990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itse monetaire Uni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juli 1990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olledige eenmaking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oktober 1990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…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tekent een nieuwe boost voor het integratieproces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lors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leit voor Politieke integrat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Kohl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leit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 gelijktijdige Duitse en Europese eenmak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Straatsburg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1989): beslissing over nieuwe IGC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aanloop naar twee parallelle IGC’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990720"/>
            <a:ext cx="8534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Dublin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1990): besluit om een dubbele IGC op te star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conomische en Monetaire Unie (EMU)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fase II en III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se Politieke Unie (EPU)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de Kohl-Mitterand brief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Rome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oktober 1990): akkoord om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ase II van de EMU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e starten op 1 januari 1994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atcher wordt opgevolgd doo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ajor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1990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Rome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december 1990)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tart van de twee IGC’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MU en EPU IGC’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990720"/>
            <a:ext cx="853416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ingen van december 1990 tot december 199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arallelle EMU en EPU onderhandel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vooral op vraag van Duits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itslan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pro EMU met onafhankelijke ECB en pro EP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rankrijk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pro EMU en pro EPU, pro meer macht voor de Raa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root-Brittannië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anti EMU, anti supranationalitei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talië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pro supranationaliteit, pro EMU, pro EPU, geen twee snelh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rming van allerhan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aliti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langrijke inbreng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se Commiss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Delors) m.b.t. EMU, maar veel minder m.b.t. EPU en de pijlerstructuur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Parlemen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speelde geen ro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MU en EPU IGC’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990720"/>
            <a:ext cx="8515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twerpverdra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 het Luxemburgse voorzitterschap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ijlerstructuur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-afsprak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fasen, convergentiecriteria, opt-outs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fsluitende onderhandel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nder de Nederlandse voorzitter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ndere prioritei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Joegoslavië, Gatt Uruguay Round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ieuw ontwerp-verdra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zonder pijlerstrcutuu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wor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 met twee snelheden voorstel verwor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Het uiteindelijke 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erdrag van Maastricht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el over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sociaal 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ontstaan van het Sociaal Protoco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ase III van de EMU ten laatste in 1999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wee nieuwe intergouvernementele pijlers: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BVB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JBZ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edebeslissingsprocedur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eer EU bevoegdhe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eer QMV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9 – 1992 van Gemeenschap naar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ratificatie van Maastricht (1992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990720"/>
            <a:ext cx="8839080" cy="69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eferenda in drie lidsta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en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referendum verwerpt het Verdrag zeer nipt (50.7% tegen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referendum aanvaardt het Verdrag zeer ruim (69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ran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referendum aanvaardt het Verdrag zeer nipt (51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ntwoorden op het Deense ‘Nej’ en het nipte Franse ‘Oui’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Commissie en Europese Raad leggen nadruk op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ubsidiariteitsprincip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p mee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transparant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luitvorm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op van Lissabon’ (1992)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vestigt het ratificatieproc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op van Edinburgh’ (1992):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opt-outs voor Denemark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zake fase III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fens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-aspecten van het GBV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Laatste ratificaties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ieuw Deens referendum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aanvaardt het Verdrag (56.7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Late ratificatie i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B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ERM) 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itslan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juridische vragen) 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Europese Economische Ruimte (EER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990720"/>
            <a:ext cx="88390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ingen over de Europese Economische Ruimte (EER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ostenrijk, Finland, IJsland, Liechtenstein, Noorwegen, Zweden, Zwitser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vername van het interne mark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cqui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visserij, Alpentransport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elname aan interne mark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sluitvorm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juridisch toezich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EA gaat van start in 199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EA wordt wachtkamer voor EU-lidmaatschap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conomische stagnat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EEA-lan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rees voor uitsluiting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MU en besluitvorm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eutralitei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niet langer van bela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anvragen voor lidmaatschap van de Europese Un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ostenrijk, Finland, Noorwegen, Zweden, Zwitser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ierde uitbreid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990720"/>
            <a:ext cx="8839080" cy="67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rij vlotte onderhandelingen vanaf februari 1993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ijke lan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ontwikkelde administratieve structur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nthousiaste politieke elit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cquis communautair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was reeds aanwezig (EEA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iscussiepun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ilieu, landbouw, energie, visserij, cohesie, …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ijdconstraints: 1996 IGC en EP 1994 verkiez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kkoorde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ver milieu, landbouw, cohe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oannina-compromi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ver de blokkerende minderheid en het aantal MEP’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tekening van de toetredingsakkoorden in maart 1994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ratificatie en gevolgen van de uitbreid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990720"/>
            <a:ext cx="8839080" cy="74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tificatie van de toetredingsakkoorden (1994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ostenrijks referendum aanvaardt toetreding (66.4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ins referendum aanvaardt toetreding (56.9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Zweeds referendum aanvaardt toetreding (52% vóór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oors referendum verwerpt toetreding (52.5% tegen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etreding van Oostenrijk, Zweden en Finland op 1 januari 1995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volgen van de toetreding van de drie nieuwe land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etto-betal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aan het EU-budge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andacht v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ndere politieke cultuu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transparantie, participatie, open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andacht v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ndere beleidsdomein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ilieu, sociale voorzieningen, ontwikkelingssamenwerking, buitenlands bel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Zwe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sceptisch (EMU),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Oostenrijk en Finlan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thousiast (defensie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tweede uitbreiding en directe EP verkiezing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914400"/>
            <a:ext cx="8382240" cy="54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riekenland wordt lid van de EG op 1 januari 198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rnieuwde contacten na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Kolonelsregim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1967-1974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nderhandelingen van 1976, vooral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conomische discussi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erste rechtstreekse verkiezingen voor het EP in juni 1979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fschaffing van aanduid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de leden door de lidsta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ot-Brittannië en Frankrijk waren tegenstander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uitsland, Italië, Benelux en de Commissie waren voorstander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P blijft wel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stoken van legislatieve en controlerende mach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voorbereidingen van de nieuwe IGC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90720"/>
            <a:ext cx="8839080" cy="79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ieuwe IGC was vastgelegd in het Verdrag van Maastricht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EU moest hervormd worden in functie van toekomstige uitbreid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‘reflectiegroep’ o.l.v. Carlos Westendorp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tar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werkzaamheden i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juni 1995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 (Messina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ertegenwoordigers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P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oorbereidende rappor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de instell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sprekken overschaduwd d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osnië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 convergentiecriteria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tegenstell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tussen federale en niet-federale opti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pport van de ‘reflectiegroep’ op de ‘Top van Madrid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1995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nclusies reflecteren tegenstell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rioriteiten voor de echte onderhandelingen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relevantie van de EU voor zijn burgers, het democratisch deficit en het buitenlands bel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IGC-onderhandeling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90720"/>
            <a:ext cx="88390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t debat over de flexibiliteit komt op de agend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eden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het aanhoudende Britse dwarsliggen, de EMU-vooruitzichten en de toekomstige grote uitbreid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Lamers/Schäuble paper: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pro flexibiliteit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ariabele geometrie, Europe à la carte?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ingen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oor werkgroepen, ministers, Europese Raa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rans-Duitse as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werkzaam, maar zwakker dan voorhe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B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speelt pas echt mee nada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Labou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aan de macht is gekomen (1997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Actief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panj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Aznar), passief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talië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EMU-zorgen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ers voorzitterschap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ontwerpverdrag (1997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ederlands voorzitterschap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Verdrag van Amsterdam (1997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Amsterdam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990720"/>
            <a:ext cx="8839080" cy="49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lexibiliteit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nkel als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laatste mogelijk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cquis communautair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mag niet in gevaar kom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lokker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oor landen die niet willen meedo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meenschappelijk Buitenlands en Veiligheidsbeleid (GBVB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prichting van een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nalysis and Planning Unit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ecretaris-generaal van de Raad wordt ook de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Hoge Vertegenwoordiger voor het Buitenlands Beleid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troductie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nstructieve onthoud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corporatie van de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etersbergtaken’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het Verdra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ogelijkheid open tot integratie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WEU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 E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Amsterdam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990720"/>
            <a:ext cx="883908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sluitvorm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kleine uitbreiding van het gebruik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kwalificeerde meerderheid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en overeenkoms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ver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herweging van de stemm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de Raad e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amenstelling van de Europese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es Parlement: meer gebruik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edebeslissingsprocedur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rij verkeer van person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corporatie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che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het Verdrag, met opt-outs voor Groot-Brittannïe en Ier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igratie en asiel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naar de eerste pijler, met uitstel en beperk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oekomstige oprichting van de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uimte van Vrijheid, Veiligheid en Rechtvaardig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ncorporatie van h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ociaal Protoco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in het Verdra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Werkgelegenh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introductie van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ichtsnoer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90 – 1997: uitbouw van de Europese Unie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Verdrag van Amsterdam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90720"/>
            <a:ext cx="8839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valuatie: negatief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rotocol over de drie ‘left-overs’: nieuwe IGC vóór uitbreid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amenstelling van de Europese Commis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bruik van gekwalificeerde meerderhei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rweging van de stemmen in de Raa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atificatie: geen problem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n werking getreden op 1 mei 1999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Europees Monetair Systeem (EMS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914400"/>
            <a:ext cx="838224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Zoektocht naar monetaire stabiliteit en naar een project voor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Commiss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doet voorzitte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Jenkin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het EMS-idee lanceren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uitslan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wordt een overtuigd voorstander en overhaal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Frankrijk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uitsland en Frankrijk lanceren h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MS voorste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in 1978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an Currency Unit (ECU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xchange Rate Mechanism (ERM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MS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start in maart 1979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alf binnen, half buiten de institutionele structuur van de E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langrijke stap richting uiteindelijke EM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Thatcher en de Britse EG bijdrag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990720"/>
            <a:ext cx="84582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atcher wordt premier in 1979: voorstander va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conomische integrat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interne markt), maar tegenstander van het opgeven va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ritse soeverein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en vooral verdediger van d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ritse (financiële) bela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atcher wil opnieuw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en over de Britse bijdrag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die in realiteit inderdaad onevenwichtig was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Jaren van discussies, voorstellen, verwerpingen, interimakkoorden, (1980 – 1983); Pas na jaren was de positie van Thatcher sterk genoeg en wilden de andere lidstaten van de discussie af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Fontainebleau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1984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66% van de bijdrage vloeit terug (‘rebate’)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inanciële hervormingen: GLB, BTW-bijdrage tot 1,4%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tart Dooge-committee: studie over de creatie van een interne markt en van de daarvoor nodige institutionele hervorm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relance in de economische integrat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990720"/>
            <a:ext cx="8458200" cy="32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deologische overeenstemming over ee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eo-liberale aanpak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regulering op het nationale niveau en zo weinig mogelijk herregulering op het Europese niveau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Campagne va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tienne Davigno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.a.v. de bedrijfswereld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SPRI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programma: onderzoek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an Round Tabl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contacten tussen grote bedrijv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ommiss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aakt werk van verdere economische integr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assis de Dijon’ arres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 het Europees Hof van Justi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79 – 1984: trage relance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relance in de politieke integrat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883908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alrijke dossiers di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pann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proepen tussen de EEG en de VS …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aspijplij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tussen de Soviet-Unie en West-Europa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laatsing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merikaanse raket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West-Europa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nenigheid over het conflict in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Midden-Oos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…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open de EG to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ee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olitieke samenwerk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nscher-Colombo initiatief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eer samenwerking op het vlak van het buitenlands beleid (‘Draft European Act’ - 1981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lechtige Verklaring over de Europese Unie’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Stuttgart - 1984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arlementsleden vorme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‘Crocodile Club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stallatie van e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mmissie institutionele zak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het EP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P: 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raft Establishing the European Union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rde uitbreid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990720"/>
            <a:ext cx="8458200" cy="55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handel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af 1978 (Portugal) en 1979 (Spanje)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Hulp van de EG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m Portugal klaar te stom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robleemgebie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textiel, landbouw, visserij, vrij verkeer van werknemers, aanpassing van de administratieve structur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oetreding lang tegengehouden d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ranse bezorgdheid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zake landbouw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ersoonlijke inzet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an Soares en Gonzal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p van Fontainebleau (1984): groen licht voor de toetred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lors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nieuwe voorzitter van de Europese Commissie)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uimt de laatste (landbouw)obstakels op (1985)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de financiering van de ‘Geïntegreerde Mediterrane Programma’s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ortugal en Spanje worden lid op 1 januari 1986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eveneffect: hernieuwd vertrouwen in het integratieproce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het ontwerp van de interne martk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990720"/>
            <a:ext cx="883908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lors stelt ee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ambitieus werkpla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p voor de Commissie en de E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ltooiing va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nterne markt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egen eind 1992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poging tot ontwikkeling van e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M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rvorming van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uitenlands 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ieuw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sluitvormingsprocedur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Zeer grot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teun van de business lobbie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oor de interne markt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Witboek over de voltooiing van de interne markt tegen eind 1992’,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oor Delors en Cockfiel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Lijst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300 maatregel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met timing, nodig voor de voltooi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lan raakt aan e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reed gamma beleidsdomein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1985-1988: naar de interne markt 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top van Milaan en de IGC (1985 - 1986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990720"/>
            <a:ext cx="8839080" cy="50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Witboek interne markt aanvaard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erslag van het 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ooge Committee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ver institutionele hervorm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uggesties voo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ieuwe besluitvormingsprocedur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uitbreiding van de EG-bevoegdh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a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zware discussie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wordt beslist om een IGC te hou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GC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an september 1985 tot februari 1986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el over de deelname van 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Parlemen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aan de IGC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bbel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prek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dragswijzig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functie van de besluitvorm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amenwerking op het gebied va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uitenlands beleid en defensi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uiteindelijk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samengevoegd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 de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Europese Eenheidsakt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5:12:38Z</dcterms:created>
  <dc:creator>Peter Bursens</dc:creator>
  <dc:description/>
  <dc:language>en-US</dc:language>
  <cp:lastModifiedBy>Peter Bursens</cp:lastModifiedBy>
  <dcterms:modified xsi:type="dcterms:W3CDTF">2003-04-07T11:10:19Z</dcterms:modified>
  <cp:revision>8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367260</vt:r8>
  </property>
  <property fmtid="{D5CDD505-2E9C-101B-9397-08002B2CF9AE}" pid="3" name="_AuthorEmail">
    <vt:lpwstr>bursens@uia.ac.be</vt:lpwstr>
  </property>
  <property fmtid="{D5CDD505-2E9C-101B-9397-08002B2CF9AE}" pid="4" name="_AuthorEmailDisplayName">
    <vt:lpwstr>Peter Bursens</vt:lpwstr>
  </property>
  <property fmtid="{D5CDD505-2E9C-101B-9397-08002B2CF9AE}" pid="5" name="_EmailSubject">
    <vt:lpwstr>OFO - Europese Unie - Stagiair-attachés OS.</vt:lpwstr>
  </property>
</Properties>
</file>