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563-1A09-4F71-A79F-72A4060E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977-6ED8-406B-A039-26943E26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E77-0A63-4161-A47D-6D93A3CB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B58-F206-4207-B384-99D86F7E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A1F7-C286-4D4B-8E0A-0B18B9A9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8BC8-D17B-49BE-B62E-8A525B7E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2AC1-F620-42DA-A153-9EF3154C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BCD7-B14E-4B6F-B9DD-1CF4A191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2877-9306-4C13-9B90-A68B113E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7DA1-6797-432E-9A1D-CDD7E595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036D-0A72-427A-980E-195C98F8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4D2-3809-4898-A451-E4EF3A13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8915-622D-4A84-A03F-12085930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2D82-2F1B-4ED8-AB88-0261DE85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B208-1C31-4B3F-AC97-5D9C309D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547A-7737-4A97-8BC5-EA39C9D2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92B5-E570-424C-BBE6-8DE40F8E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7D7-EDD9-4D98-AD56-B4CC0B3C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D7D-8781-46FE-BEF3-A5599D6E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398-9BDD-4F2F-BE27-02196EE7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893-E010-40B1-956A-F2A8DA94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4FF7-D1E2-450B-B203-C1479404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834-2DB3-4DA7-BB2F-96C4E46C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1B8-2ACA-455E-A31E-0ED8F611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2588-FCCE-4DBD-85A1-1AA3AB5A8CA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6BC4-9550-4309-8448-A226BE5D8001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139560"/>
            <a:ext cx="84960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660066"/>
                </a:solidFill>
                <a:latin typeface="Tahoma"/>
              </a:rPr>
              <a:t>Geschiedenis van de Europese Integratie</a:t>
            </a:r>
            <a:r>
              <a:rPr b="0" lang="nl-BE" sz="40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000"/>
            </a:br>
            <a:r>
              <a:rPr b="0" lang="nl-BE" sz="3600" spc="-1" strike="noStrike">
                <a:solidFill>
                  <a:srgbClr val="660066"/>
                </a:solidFill>
                <a:latin typeface="Tahoma"/>
              </a:rPr>
              <a:t>1979-1997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Peter Bursens</a:t>
            </a:r>
            <a:br>
              <a:rPr sz="2400"/>
            </a:b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Universiteit Antwerp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85-1988: naar de interne markt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Europese Eenheidsakt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990720"/>
            <a:ext cx="8534160" cy="51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ndertekening in twee stapp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Italië, Denemarken, Griekenland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Weinig discussie en vooruitgang inzake buitenlands beleid en defens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Zware discussies over de verdragswijzigingen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t invoeren va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ekwalificeerde meerderh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zake een deel van de harmonisatiemaatregel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uropees Parlement: introductie va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samenwerkingsprocedur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interne markt) en de ‘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ssent procedure’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 (verdragen)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weinig vooruitgang inzake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MU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atificatie door de lidstaten in 1986-1987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uropese Eenheidsakte van kracht sinds 1 juli 1987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Gemengde beoordeling: (kleine) stap vooruit in de integrat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85-1988: naar de interne markt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voltooiing van de interne markt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990720"/>
            <a:ext cx="8534160" cy="51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rage goedkeuring van de 300 maatregel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Grote effecten voor het bedrijfsleven: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fusies, samenwerking, …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Cecchini rappor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‘The cost of non-Europe’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Onenigheid over het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financieel pakket ‘Delors I’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oen de ‘Top van Kopenhagen’ mislukken (1987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liberalisering versus cohesiefonds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udgettaire discipline en hervorming van het landbouwbel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Pas overeenstemming op een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xtra Top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Brussel, 1988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erdubbeling van de structuurfonds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rvorming van het landbouwbel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begrotingsregel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weg lag nu open om de deadline van ‘Europa 1992’ te hal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89 – 1992 van Gemeenschap naar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veranderende omstandighed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990720"/>
            <a:ext cx="8534160" cy="51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annus mirabilis 1989’: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val van de Berlijnse muur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appor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elors’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goedgekeurd op de ‘Top van Madrid’ (1989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Naar een EMU in drie stapp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, te beginnen in 1990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IGC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om de nodige verdragswijzigingen door te voer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e Duitse eenmaking (1990) …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erkiezingen in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ost-Duitsland (maart 1990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uitse monetaire Unie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(juli 1990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olledige eenmaking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(oktober 1990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…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betekent een nieuwe boost voor het integratieproces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elors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pleit voor Politieke integrat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Kohl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pleit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oor gelijktijdige Duitse en Europese eenmaki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op van Straatsburg’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1989): beslissing over nieuwe IGC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89 – 1992 van Gemeenschap naar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aanloop naar twee parallelle IGC’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990720"/>
            <a:ext cx="8534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op van Dublin’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1990): besluit om een dubbele IGC op te start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conomische en Monetaire Unie (EMU)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fase II en III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ropese Politieke Unie (EPU)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de Kohl-Mitterand brief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op van Rome’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oktober 1990): akkoord om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fase II van de EMU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te starten op 1 januari 1994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Thatcher wordt opgevolgd door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Major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1990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op van Rome’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december 1990):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start van de twee IGC’s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89 – 1992 van Gemeenschap naar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EMU en EPU IGC’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990720"/>
            <a:ext cx="853416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nderhandelingen van december 1990 tot december 1991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parallelle EMU en EPU onderhandeling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, vooral op vraag van Duitslan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uitslan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pro EMU met onafhankelijke ECB en pro EPU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Frankrijk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pro EMU en pro EPU, pro meer macht voor de Raa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root-Brittannië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anti EMU, anti supranationaliteit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Italië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pro supranationaliteit, pro EMU, pro EPU, geen twee snelhed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orming van allerhan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coalitie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elangrijke inbreng va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ropese Commissi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Delors) m.b.t. EMU, maar veel minder m.b.t. EPU en de pijlerstructuur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ropees Parlemen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speelde geen rol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89 – 1992 van Gemeenschap naar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EMU en EPU IGC’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990720"/>
            <a:ext cx="851508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Het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ntwerpverdrag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van het Luxemburgse voorzitterschap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pijlerstructuur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MU-afsprak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fasen, convergentiecriteria, opt-outs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Afsluitende onderhandeling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onder de Nederlandse voorzitter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ndere prioriteit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Joegoslavië, Gatt Uruguay Round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nieuw ontwerp-verdra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zonder pijlerstrcutuur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erworp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MU met twee snelheden voorstel verworp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Het uiteindelijke 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erdrag van Maastricht’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Rel over 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ropees sociaal bel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ontstaan van het Sociaal Protocol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Fase III van de EMU ten laatste in 1999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wee nieuwe intergouvernementele pijlers: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BVB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e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JBZ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Medebeslissingsprocedur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meer EU bevoegdhed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meer QMV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89 – 1992 van Gemeenschap naar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ratificatie van Maastricht (1992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990720"/>
            <a:ext cx="8839080" cy="69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eferenda in drie lidstat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een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referendum verwerpt het Verdrag zeer nipt (50.7% tegen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Ier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referendum aanvaardt het Verdrag zeer ruim (69% vóór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Fran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referendum aanvaardt het Verdrag zeer nipt (51% vóór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Antwoorden op het Deense ‘Nej’ en het nipte Franse ‘Oui’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Commissie en Europese Raad leggen nadruk op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subsidiariteitsprincipe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n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p meer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transparanti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de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esluitvormi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op van Lissabon’ (1992)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evestigt het ratificatieproce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op van Edinburgh’ (1992):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opt-outs voor Denemark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zake fase III va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MU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e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efensi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-aspecten van het GBVB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Laatste ratificaties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Nieuw Deens referendum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aanvaardt het Verdrag (56.7% vóór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Late ratificatie i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B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ERM) e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uitslan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juridische vragen) 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90 – 1997: uitbouw van de Europese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Europese Economische Ruimte (EER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990720"/>
            <a:ext cx="883908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nderhandelingen over de Europese Economische Ruimte (EER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ostenrijk, Finland, IJsland, Liechtenstein, Noorwegen, Zweden, Zwitserlan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vername van het interne mark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cqui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visserij, Alpentransport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elname aan interne mark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esluitvorm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en 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juridisch toezicht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EA gaat van start in 1992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EA wordt wachtkamer voor EU-lidmaatschap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conomische stagnati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EEA-land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rees voor uitsluiting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MU en besluitvormi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Neutralitei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niet langer van bela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Aanvragen voor lidmaatschap van de Europese Un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ostenrijk, Finland, Noorwegen, Zweden, Zwitserlan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90 – 1997: uitbouw van de Europese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vierde uitbreiding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990720"/>
            <a:ext cx="8839080" cy="67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rij vlotte onderhandelingen vanaf februari 1993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rijke land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ontwikkelde administratieve structur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nthousiaste politieke elite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cquis communautair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was reeds aanwezig (EEA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iscussiepunt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milieu, landbouw, energie, visserij, cohesie, …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ijdconstraints: 1996 IGC en EP 1994 verkiezing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kkoorden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ver milieu, landbouw, cohes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Ioannina-compromi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over de blokkerende minderheid en het aantal MEP’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ndertekening van de toetredingsakkoorden in maart 1994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90 – 1997: uitbouw van de Europese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ratificatie en gevolgen van de uitbreiding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990720"/>
            <a:ext cx="883908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atificatie van de toetredingsakkoorden (1994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ostenrijks referendum aanvaardt toetreding (66.4% vóór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Fins referendum aanvaardt toetreding (56.9% vóór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Zweeds referendum aanvaardt toetreding (52% vóór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oors referendum verwerpt toetreding (52.5% tegen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oetreding van Oostenrijk, Zweden en Finland op 1 januari 1995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Gevolgen van de toetreding van de drie nieuwe landen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netto-betaler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aan het EU-budget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aandacht voor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ndere politieke cultuur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transparantie, participatie, openh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aandacht voor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ndere beleidsdomein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milieu, sociale voorzieningen, ontwikkelingssamenwerking, buitenlands bel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Zwed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sceptisch (EMU),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Oostenrijk en Finlan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enthousiast (defensie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79 – 1984: trage relance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tweede uitbreiding en directe EP verkiezing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914400"/>
            <a:ext cx="8382240" cy="54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Griekenland wordt lid van de EG op 1 januari 1981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rnieuwde contacten na 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Kolonelsregim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1967-1974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nderhandelingen van 1976, vooral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conomische discussie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erste rechtstreekse verkiezingen voor het EP in juni 1979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fschaffing van aanduid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van de leden door de lidstat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root-Brittannië en Frankrijk waren tegenstander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uitsland, Italië, Benelux en de Commissie waren voorstander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P blijft wel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erstoken van legislatieve en controlerende macht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90 – 1997: uitbouw van de Europese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voorbereidingen van de nieuwe IGC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990720"/>
            <a:ext cx="8839080" cy="79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Nieuwe IGC was vastgelegd in het Verdrag van Maastricht: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EU moest hervormd worden in functie van toekomstige uitbreiding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e ‘reflectiegroep’ o.l.v. Carlos Westendorp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star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werkzaamheden i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juni 1995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 (Messina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ertegenwoordigers va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lidstat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, 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P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e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Commiss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oorbereidende rapport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van de instelling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esprekken overschaduwd door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osnië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e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MU convergentiecriteria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tegenstelling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tussen federale en niet-federale optie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apport van de ‘reflectiegroep’ op de ‘Top van Madrid’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1995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conclusies reflecteren tegenstelling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Prioriteiten voor de echte onderhandelingen: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 relevantie van de EU voor zijn burgers, het democratisch deficit en het buitenlands bel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90 – 1997: uitbouw van de Europese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IGC-onderhandeling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990720"/>
            <a:ext cx="88390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Het debat over de flexibiliteit komt op de agenda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reden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het aanhoudende Britse dwarsliggen, de EMU-vooruitzichten en de toekomstige grote uitbreidi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Lamers/Schäuble paper: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pro flexibiliteit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ariabele geometrie, Europe à la carte?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nderhandelingen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oor werkgroepen, ministers, Europese Raa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Frans-Duitse as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werkzaam, maar zwakker dan voorhe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GB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speelt pas echt mee nadat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Labour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aan de macht is gekomen (1997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Actief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Spanj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Aznar), passief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Italië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EMU-zorgen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Iers voorzitterschap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ontwerpverdrag (1997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Nederlands voorzitterschap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Verdrag van Amsterdam (1997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90 – 1997: uitbouw van de Europese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het Verdrag van Amsterdam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990720"/>
            <a:ext cx="8839080" cy="49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Flexibiliteit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nkel als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laatste mogelijkh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cquis communautair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mag niet in gevaar kom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lokker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door landen die niet willen meedo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Gemeenschappelijk Buitenlands en Veiligheidsbeleid (GBVB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prichting van een ‘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nalysis and Planning Unit’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secretaris-generaal van de Raad wordt ook de ‘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Hoge Vertegenwoordiger voor het Buitenlands Beleid’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troductie va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constructieve onthoudi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corporatie van de ‘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Petersbergtaken’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het Verdra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Mogelijkheid open tot integratie va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WEU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de EU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90 – 1997: uitbouw van de Europese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het Verdrag van Amsterdam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990720"/>
            <a:ext cx="8839080" cy="51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besluitvorming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kleine uitbreiding van het gebruik va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ekwalificeerde meerderheid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een overeenkoms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over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herweging van de stemm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de Raad e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samenstelling van de Europese Commiss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uropees Parlement: meer gebruik va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medebeslissingsprocedur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rij verkeer van person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corporatie va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Scheng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het Verdrag, met opt-outs voor Groot-Brittannïe en Ierlan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migratie en asiel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naar de eerste pijler, met uitstel en beperking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oekomstige oprichting van de ‘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Ruimte van Vrijheid, Veiligheid en Rechtvaardigh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Incorporatie van het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Sociaal Protocol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in het Verdrag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Werkgelegenh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introductie van d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ichtsnoer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90 – 1997: uitbouw van de Europese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het Verdrag van Amsterdam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990720"/>
            <a:ext cx="88390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valuatie: negatief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Protocol over de drie ‘left-overs’: nieuwe IGC vóór uitbreiding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Samenstelling van de Europese Commiss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ebruik van gekwalificeerde meerderh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rweging van de stemmen in de Raa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atificatie: geen problem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In werking getreden op 1 mei 1999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79 – 1984: trage relance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het Europees Monetair Systeem (EMS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914400"/>
            <a:ext cx="8382240" cy="48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Zoektocht naar monetaire stabiliteit en naar een project voor d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uropese Commissi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doet voorzitter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Jenkins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het EMS-idee lanceren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uitslan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wordt een overtuigd voorstander en overhaalt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Frankrijk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uitsland en Frankrijk lanceren het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MS voorstel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in 1978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uropean Currency Unit (ECU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xchange Rate Mechanism (ERM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MS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start in maart 1979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alf binnen, half buiten de institutionele structuur van de E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elangrijke stap richting uiteindelijke EMU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79 – 1984: trage relance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Thatcher en de Britse EG bijdrag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990720"/>
            <a:ext cx="84582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Thatcher wordt premier in 1979: voorstander van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conomische integrati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interne markt), maar tegenstander van het opgeven van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Britse soevereinitei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en vooral verdediger van d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Britse (financiële) belang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Thatcher wil opnieuw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nderhandelen over de Britse bijdrag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die in realiteit inderdaad onevenwichtig was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Jaren van discussies, voorstellen, verwerpingen, interimakkoorden, (1980 – 1983); Pas na jaren was de positie van Thatcher sterk genoeg en wilden de andere lidstaten van de discussie af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op van Fontainebleau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1984)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563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66% van de bijdrage vloeit terug (‘rebate’)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63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Financiële hervormingen: GLB, BTW-bijdrage tot 1,4%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63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Start Dooge-committee: studie over de creatie van een interne markt en van de daarvoor nodige institutionele hervorming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79 – 1984: trage relance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relance in de economische integrati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990720"/>
            <a:ext cx="8458200" cy="32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Ideologische overeenstemming over een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neo-liberale aanpak: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regulering op het nationale niveau en zo weinig mogelijk herregulering op het Europese niveau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Campagne van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tienne Davigno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t.a.v. de bedrijfswereld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563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SPRI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programma: onderzoek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63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ropean Round Tabl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contacten tussen grote bedrijv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Commissi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maakt werk van verdere economische integrat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Cassis de Dijon’ arres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van het Europees Hof van Justit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79 – 1984: trage relance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relance in de politieke integrati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90720"/>
            <a:ext cx="883908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Talrijke dossiers di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spanning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oproepen tussen de EEG en de VS …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aspijplij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tussen de Soviet-Unie en West-Europa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Plaatsing va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merikaanse rakett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West-Europa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nenigheid over het conflict in 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Midden-Oost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…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nopen de EG tot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meer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politieke samenwerking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enscher-Colombo initiatief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meer samenwerking op het vlak van het buitenlands beleid (‘Draft European Act’ - 1981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Plechtige Verklaring over de Europese Unie’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(Stuttgart - 1984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uroparlementsleden vorme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‘Crocodile Club’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stallatie van ee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commissie institutionele zak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het EP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P: ‘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raft Establishing the European Union’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85-1988: naar de interne markt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rde uitbreiding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990720"/>
            <a:ext cx="8458200" cy="55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nderhandeling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vanaf 1978 (Portugal) en 1979 (Spanje)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Hulp van de EG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m Portugal klaar te stom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Probleemgebied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textiel, landbouw, visserij, vrij verkeer van werknemers, aanpassing van de administratieve structur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oetreding lang tegengehouden door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Franse bezorgdheid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zake landbouw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Persoonlijke inzet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an Soares en Gonzale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op van Fontainebleau (1984): groen licht voor de toetreding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elors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nieuwe voorzitter van de Europese Commissie)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uimt de laatste (landbouw)obstakels op (1985)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de financiering van de ‘Geïntegreerde Mediterrane Programma’s’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Portugal en Spanje worden lid op 1 januari 1986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Neveneffect: hernieuwd vertrouwen in het integratieproces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85-1988: naar de interne markt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het ontwerp van de interne martkt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990720"/>
            <a:ext cx="8839080" cy="44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lors stelt een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ambitieus werkpla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op voor de Commissie en de EG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oltooiing va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interne markt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egen eind 1992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poging tot ontwikkeling van ee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MU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rvorming van 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uitenlands bel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esluitvormingsprocedure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Zeer grot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steun van de business lobbies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voor de interne markt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Witboek over de voltooiing van de interne markt tegen eind 1992’,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oor Delors en Cockfiel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Lijst va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300 maatregel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, met timing, nodig voor de voltooii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Plan raakt aan ee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reed gamma beleidsdomein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85-1988: naar de interne markt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top van Milaan en de IGC (1985 - 1986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990720"/>
            <a:ext cx="8839080" cy="50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Witboek interne markt aanvaard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Verslag van het 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ooge Committee’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over institutionele hervorming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suggesties voor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nieuwe besluitvormingsprocedure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uitbreiding van de EG-bevoegdhed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Na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zware discussies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wordt beslist om een IGC te houd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IGC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van september 1985 tot februari 1986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rel over de deelname van 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ropees Parlemen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aan de IGC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ubbele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espreking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erdragswijziging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functie van de besluitvormi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samenwerking op het gebied va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uitenlands beleid en defens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uiteindelijk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samengevoegd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 de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Europese Eenheidsakt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5:12:38Z</dcterms:created>
  <dc:creator>Peter Bursens</dc:creator>
  <dc:description/>
  <dc:language>en-US</dc:language>
  <cp:lastModifiedBy>Peter Bursens</cp:lastModifiedBy>
  <dcterms:modified xsi:type="dcterms:W3CDTF">2003-04-07T11:10:19Z</dcterms:modified>
  <cp:revision>8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66367260</vt:r8>
  </property>
  <property fmtid="{D5CDD505-2E9C-101B-9397-08002B2CF9AE}" pid="3" name="_AuthorEmail">
    <vt:lpwstr>bursens@uia.ac.be</vt:lpwstr>
  </property>
  <property fmtid="{D5CDD505-2E9C-101B-9397-08002B2CF9AE}" pid="4" name="_AuthorEmailDisplayName">
    <vt:lpwstr>Peter Bursens</vt:lpwstr>
  </property>
  <property fmtid="{D5CDD505-2E9C-101B-9397-08002B2CF9AE}" pid="5" name="_EmailSubject">
    <vt:lpwstr>OFO - Europese Unie - Stagiair-attachés OS.</vt:lpwstr>
  </property>
</Properties>
</file>