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96B-6BFE-4601-BB8B-45BED543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BF8-AF01-455C-8839-731426D0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028-3F15-4515-85C2-555FA0B0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058-CDD5-48A4-A18B-B275A227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0117-6336-46FA-B41F-71DC226B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2E77-BD90-4FC9-B390-07F21658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171-D052-4BE9-8206-60385F98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1F49-C4A1-4473-A5C3-1F2E289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F56-8339-4ACF-BB09-8A787F5D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CC3E-870D-4208-9785-E28D196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65D8-7D03-4793-A5D4-1B1FD2E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2AD-A52A-4C70-9DD5-9A7FF037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A85-E5D8-4A66-8214-122738BD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8D1F-E4CD-48AA-845D-FA1303F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1F20-8464-4BCB-8806-EE58D729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DC2-889D-4253-9D75-358C7ABF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175-E7A4-4044-AE0B-D1EB9C27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C0B-E6D2-41E3-BAFC-971F5095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5D0-8684-490B-BEB1-1C62415E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55E-E47F-4471-AEDA-B3B4476D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89E-4A38-4C76-B729-20FECD4C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61B-F860-41E4-803E-86BA577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9B4-B85E-4B2C-8BFE-96DD884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2B6-832D-4F85-81ED-53653B9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B6C-38A4-4845-9D56-975DBA1E48A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343-6D17-4557-ADE7-44A41DE0E6A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660066"/>
                </a:solidFill>
                <a:latin typeface="Tahoma"/>
              </a:rPr>
              <a:t>De Europese Unie als een Multi-level Governance Systeem</a:t>
            </a:r>
            <a:r>
              <a:rPr b="0" lang="nl-B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560" y="458136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Peter Burs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Vijf verschillende soorten van beleid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14400"/>
            <a:ext cx="3505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914400"/>
            <a:ext cx="32767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ntergouvernemente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914400"/>
            <a:ext cx="266688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upranationaa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133720"/>
            <a:ext cx="4038480" cy="91440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acro-economisch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429000"/>
            <a:ext cx="3200400" cy="8380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uitenlands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5486400"/>
            <a:ext cx="3200400" cy="8380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heden en veiligh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495680"/>
            <a:ext cx="2666880" cy="83844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distributief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3429000"/>
            <a:ext cx="2666880" cy="8380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gulerend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914400"/>
            <a:ext cx="198108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entrale Bank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Vijf verschillende soorten van beleid: definiti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914400"/>
            <a:ext cx="830592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Regulerend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regels inzake de interne markt en flankerende beleidsdomeinen zoals concurrentiebeleid, sociaal beleid en milieubeleid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Redistributief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transferten vanuit het EU-budget van één sociale groep of regio naar een andere sociale groep of regio, vooral op het gebied van landbouwbeleid en cohesiebeleid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Civiele vrijheden en veiligh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eleid om de economische, sociale en politieke rechten van de EU-burgers te beschermen op het gebied van justitie, asiel, migratie en politie (interne veiligheid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uitenlands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het beleid van de EU als één actor ten aanzien van de rest van de wereld inzake handel, ontwikkelingssamenwerking, buitenlandse zaken, externe veiligheid en defensi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Macro-economisch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het beleid inzake de Economische en Monetaire Unie (inclusief het fiscaal beleid) met een grote rol voor de onafhankelijke Europese Centrale Bank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881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Vijf verschillende soorten van beleid: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914400"/>
            <a:ext cx="830592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Regulerend beleid en redistributief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supranationale besluitvorm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itiatiefmonopolie van de Commiss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aadpleging of medebeslissing van het Parlemen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lissing of medebeslissing door de Raad van Ministers (vaak QMV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Civiele vrijheden en veiligheid / het buitenlands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in hoofdzaak intergouvernementele besluitvorming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itiatief en beslissing door de Raad van Ministers (vaak unanimitei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zeer geringe betrokkenheid van de Commissie en het Parlemen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Macro-economisch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intergouvernementele en onafhankelijke besluitvorming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lissingen door de Raad van Ministers en de Europese Centrale Bank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Regulerend bel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914400"/>
            <a:ext cx="8458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ulerend beleid (gewenst door ‘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regulatory agencies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) levert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ermanent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rij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redistributief beleid (gewenst door verkozen politici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uropese Unie ken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wee soorten regulerend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Negatieve integra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f </a:t>
            </a:r>
            <a:r>
              <a:rPr b="0" lang="nl-BE" sz="2000" spc="-1" strike="noStrike" u="sng">
                <a:solidFill>
                  <a:srgbClr val="545472"/>
                </a:solidFill>
                <a:uFillTx/>
                <a:latin typeface="Tahoma"/>
              </a:rPr>
              <a:t>d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ulerend beleid) d.m.v. het verwijderen van obstakels om internationale handel en mededinging mogelijk te mak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interne mark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erwijderen van fysieke, technische en fiscale obstakel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mededingings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controle op kartels, fusies en staatsste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Positieve integra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f </a:t>
            </a:r>
            <a:r>
              <a:rPr b="0" lang="nl-BE" sz="2000" spc="-1" strike="noStrike" u="sng">
                <a:solidFill>
                  <a:srgbClr val="545472"/>
                </a:solidFill>
                <a:uFillTx/>
                <a:latin typeface="Tahoma"/>
              </a:rPr>
              <a:t>r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ulerend beleid): als aanvulling op de interne markt en d.mv. het uitvaardigen van Europees geldende regels i.p.v. de voorheen geldende nationale regel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namelijk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milieu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sociaal 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Redistributief bel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914400"/>
            <a:ext cx="845820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uropese Unie beschikt in vergelijking met de lidstaten ov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zeer beperkte mogelijkhe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m een herverdelend beleid te voeren.      (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Budget van de EU beslaat slechts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% van het Europese BNP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t budget bestaat uit 4 categorieën eigen middel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andbouwheffingen, douaneheffingen, BTW (max. 1% EU-BNP), op he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NP van de lidstaten gebaseerde eigen middel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distributieve uitgaven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in percentage van het totale EU budget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landbouw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ca 45%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cohesie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ca 35%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onderzoek en ontwikkeling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 /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infrastructuur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 /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sociale integrat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ca 5%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Supranationale beleidsinstrumenten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914400"/>
            <a:ext cx="8458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Verorden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indende wetgeving  voor alle lidstaten, rechtstreeks van toepassing in de lidstaten (geen omzetting vereist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Richtlij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indende wetgeving voor alle lidstaten ten aanzien van het resultaat (keuze inzake middelen), omzetting vereis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Beschikk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indend ten aanzien de rechtspersoon (inclusief een lidstaat) tot wie ze gericht is, rechtstreeks van toepass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Aanbevelingen en adviez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algemene draagwijdte maar niet binden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Civiele vrijheden en veiligh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914400"/>
            <a:ext cx="8686800" cy="58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Europese Unie ambieert de creatie v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‘Ruimte van Vrijheid Veiligheid en Rechtvaardigheid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m de rechten van de Europese Burgers te vrijwaren (burgerrechten, politieke rechten, economische rechten en sociale rechte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1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Vrij verkeer van person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tussen de EU 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rken, studeren en wonen in een andere lidstaat en de afschaffing va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grenscontroles (Schengen): 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erste supranationale pijl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Burgerrecht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voor EU onderdanen in andere 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lijke kansen, politieke recht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3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Immigratie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isabeleid, asielbeleid, migratiebeleid: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erste pijler, maa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ntergouvernementeel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4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Politie en gerechtelijke samenwerk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egen drugstrafieken, terrorisme, internationale misdaad, illegale migratie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rde intergouvernementele pijl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Intergouvernementele beleidsinstrumenten </a:t>
            </a:r>
            <a:br>
              <a:rPr sz="24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van de derde pijl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914400"/>
            <a:ext cx="86868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Gemeenschappelijke standpun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bepaling van de algemene standpun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Kaderbesluiten en beslui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bindende besluiten voor alle lidstaten, maar enkel ten aanzien van het resultaat, keuzevrijheid van middel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Akkoor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aanbevelingen door de Raad van Ministers, treden pas inwerking na goedkeuring van minstens de helft van de lidsta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Resoluties, aanbevelingen, verklar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uitdrukking van de politieke wil van de Raad van Ministers, maar niet bindend voor de lidsta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Buitenlands bel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144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125360"/>
            <a:ext cx="84582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Extern handels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zamenlijke regels t.a.v. import in de Europese Un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zamenlijk bilateraal en multilateraal handelsbeleid (WTO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Ontwikkelingssamenwerk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andel met en hulp aan ontwikkelingslanden (Yaoundé, Lomé, Cotonou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Gemeenschappelijk buitenlands en defensiebeleid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uitenlands beleid t.a.v. derde lan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fensiebeleid (WEU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Het Gemeenschappelijk Buitenlands en Veiligheidsbeleid (post-Amsterda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14400"/>
            <a:ext cx="86104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Intergouvernementele beleidsinstrumen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princip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richtsnoer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algemene oriëntaties Europese Raa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meenschappelijke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rategieë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Europese Raa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meenschappelijke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andpunten en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zamenlijke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acti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Raa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ystematische samenwerking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Raad): verplicht overleg over all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BVB-vraagstukk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ieuwe besluitvormingsmechanismen sinds Amsterda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constructieve onthoud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noodrem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cf. Compromis van Luxemburg?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‘Hoge Vertegenwoordiger voor het Buitenlands Beleid’ / Secretaris-Generaal van de Raad van Minister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‘Policy Planning and Early Warning Unit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studie van de Europese Un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14400"/>
            <a:ext cx="8305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wee verschillende aspecten van de Europese Unie kunnen onderscheiden word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integratieproce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leidsoutpu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ze twee verschillende aspecten van de Europese Unie moeten op twee verschillende manieren bestudeerd word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ntegratieproc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met </a:t>
            </a:r>
            <a:r>
              <a:rPr b="1" i="1" lang="nl-BE" sz="1800" spc="-1" strike="noStrike">
                <a:solidFill>
                  <a:srgbClr val="545472"/>
                </a:solidFill>
                <a:latin typeface="Tahoma"/>
              </a:rPr>
              <a:t>International Relations</a:t>
            </a:r>
            <a:r>
              <a:rPr b="0" i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heorieë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de beleidsoutput met </a:t>
            </a:r>
            <a:r>
              <a:rPr b="1" i="1" lang="nl-BE" sz="1800" spc="-1" strike="noStrike">
                <a:solidFill>
                  <a:srgbClr val="545472"/>
                </a:solidFill>
                <a:latin typeface="Tahoma"/>
              </a:rPr>
              <a:t>Comparative Politics</a:t>
            </a:r>
            <a:r>
              <a:rPr b="0" i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heorieë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supranationale besluitvormingsprocedur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5720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97180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s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Commiss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72428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conomisch e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Sociaal Comit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380988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Raad va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Minist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97180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e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144792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Comité van d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Regio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429000"/>
            <a:ext cx="53352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429000"/>
            <a:ext cx="68580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743200" y="2437920"/>
            <a:ext cx="609480" cy="3049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4038480"/>
            <a:ext cx="60948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2514600"/>
            <a:ext cx="68580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1320" y="4191120"/>
            <a:ext cx="60948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5486400"/>
            <a:ext cx="19051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Lidstat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876920"/>
            <a:ext cx="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4876920"/>
            <a:ext cx="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968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e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intergouvernementele besluitvormingsprocedur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5720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5720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106668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s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Commiss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297180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Raad va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Minist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648320"/>
            <a:ext cx="1981440" cy="144756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e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437920"/>
            <a:ext cx="609480" cy="30492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038480"/>
            <a:ext cx="609480" cy="45720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514600"/>
            <a:ext cx="685800" cy="38088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91320" y="4191120"/>
            <a:ext cx="609480" cy="38088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2933640"/>
            <a:ext cx="19051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Lidstat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3429000"/>
            <a:ext cx="35049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4495680"/>
            <a:ext cx="19051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Lidstat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4038480"/>
            <a:ext cx="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4038480"/>
            <a:ext cx="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Commissie: </a:t>
            </a:r>
            <a:br>
              <a:rPr sz="2800"/>
            </a:b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samenstelling en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990720"/>
            <a:ext cx="851220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college van 20 commissariss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één voorzitter, 19 portefeuille commissarissen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‘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afhankelijke’ figur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goedkeuring van voorzitter en college door het EP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persoonlijke kabinetten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administratie onderverdeeld in 23 directoraten-genera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22.000 ambtenaren, inclusief 2000 vertalers en tolk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tra: enkele aanvullende diensten (pers, anti-fraude, …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sluitvorm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oorbereiding door de ambtenaren, goedkeuring door het college van commissarissen (meerderheidsstemminge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pertcomités (nationale experten) en raadgevende comités (belangengroepen) ter ondersteun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Commissie: tak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907920"/>
            <a:ext cx="8713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leid voorstellen en ontwikkel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itiatiefmonopolie in de eerste supranationale pijl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gedeeld initiatief met de Raad in de intergouvernementele pijler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uitvoerende tak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uitvoering van het EU-beleid: ‘comitologie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igen regelgeving: invullen en uitwerken van EU-wetgeving (landbouw, externe handel, concurrentiebeleid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anagement van de financiën binnen het goedgekeurde budge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onitoring van de implementati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hoeder van de verdragen en van het algemene Europese bela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externe vertegenwoordiger en onderhandelaar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terne handel, ontwikkelingssamenwerking, uitbreid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middelaar en verzoener in de besluitvorm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samenstell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990720"/>
            <a:ext cx="83678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626 leden uit 15 lidsta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rechtstreekse verkiezin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sinds 1979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kiezing volgens de nationale kiesarrangemen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multi-site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Brussel, Straatsburg en Luxembur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verdeeld in </a:t>
            </a: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politieke fracties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op basis van Europese partijfederat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17 </a:t>
            </a: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functionele commissies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en een </a:t>
            </a: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plenaire vergader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leden per lidstaa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68360" y="907920"/>
          <a:ext cx="4032360" cy="5359680"/>
        </p:xfrm>
        <a:graphic>
          <a:graphicData uri="http://schemas.openxmlformats.org/drawingml/2006/table">
            <a:tbl>
              <a:tblPr/>
              <a:tblGrid>
                <a:gridCol w="2998800"/>
                <a:gridCol w="1033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tal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ot-Brittan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pan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lg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eke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Zwed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osten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nemark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uxemburg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2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leden per fract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66680" y="1744560"/>
          <a:ext cx="7010640" cy="3032280"/>
        </p:xfrm>
        <a:graphic>
          <a:graphicData uri="http://schemas.openxmlformats.org/drawingml/2006/table">
            <a:tbl>
              <a:tblPr/>
              <a:tblGrid>
                <a:gridCol w="5832720"/>
                <a:gridCol w="631800"/>
                <a:gridCol w="54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PE – Europese Volkspartij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3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SE – Partij van de Europese Sociaal-Democr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7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LDR – Europese Liberale en Democratische Partij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UE – Europees Unitair Link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V/EVA – De Groenen / Europese Vrije Alliant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EN – Unie voor een Europa van Nationale St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DD – Europa van Democratie en Diversitei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I – ‘Niet ingeschreven leden’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2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taken en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990720"/>
            <a:ext cx="876312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deelname aan de wetgeving in de eerste pijler d.m.v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onsultatieprocedure (vb. landbouw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amenwerkingsprocedure (vb. aspecten van de EMU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debeslissingsprocedure (vb. milieubeleid, sociaal beleid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assent’ procedure (vb. verdrage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udgettaire bevoegdhed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oorstellen van wijzigingen t.a.v. de verplichte uitgav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amendementen t.a.v. de niet-verplichte uitgav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erwerping van de ontwerpbegrot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controlefunct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052640"/>
            <a:ext cx="8713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7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toezicht op de uitvoerende instelling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t.a.v. de Europese Commissi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goedkeuring van de voorzitter en het voltallige colle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tslaan van het voltallige colle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derzoekscommissies, vrag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udge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t.a.v. de Raad van Ministers en de Europese Ra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zeer geringe mogelijkhed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 van Ministers: samenstell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990720"/>
            <a:ext cx="838188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samengesteld uit vertegenwoordigers van de lidstat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samenstelling op basis van het beleidsdome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aad Algemene Zaken en Externe Betrekk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8 functionele raden (Ecofin, Milieu, Landbouw, …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samenstelling op basis van het werknivea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Raa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nist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COREPER / 133 / SCL / EFC / PVC / VCW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iplomaten en ambtenar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werkgroep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mbtenare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roterend voorzitterschap van 6 maan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integratieproces</a:t>
            </a: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8305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545472"/>
                </a:solidFill>
                <a:latin typeface="Tahoma"/>
              </a:rPr>
              <a:t>International Relations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eorieën beschouwen het proces van de Europese eenmaking als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één aspect van de betrekkingen tussen de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et als bij de 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I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heorieën in het algemeen, bestaan er ook ten aanzien van de Europese integratie rivaliserende theorieë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124080"/>
          <a:ext cx="8305920" cy="233676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859040"/>
                <a:gridCol w="1503360"/>
                <a:gridCol w="181944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epen /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dividu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epen / individu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R-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alisme /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ore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unctionalisme / liber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gime-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structiv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egratie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ergouvernement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ofunction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eder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LG-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 van Ministers: taken en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990720"/>
            <a:ext cx="8381880" cy="51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Taken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wetgev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eerste pijl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beleidsinitiaitie en beleidsvoer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tweede en derde pijl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Besluitvorming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temmen bij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unanimitei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f bij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gekwalificeerde meerderheid (QMV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tgevende bevoegdheid in de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eerst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unanimiteit of gekwalificeerde meerderheid), soms samen met het Europees Parlement (medebeslissingsprocedure): richtlijnen en verorden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itiatief én beslissing in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de twee intergouvernementele pijl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meestal unanimitei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Het Compromis van Luxemburg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 van Ministers: stemmenweg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990720"/>
          <a:ext cx="2971800" cy="5376600"/>
        </p:xfrm>
        <a:graphic>
          <a:graphicData uri="http://schemas.openxmlformats.org/drawingml/2006/table">
            <a:tbl>
              <a:tblPr/>
              <a:tblGrid>
                <a:gridCol w="2210040"/>
                <a:gridCol w="761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tal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ot-Brittan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pan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lg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eke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Zwed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osten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nemark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uxemburg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4267080" y="1905120"/>
            <a:ext cx="4648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kwalificeerde meerderheid: 62/8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lokkerende minderheid: 26/8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tragende minderheid: 23/8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Raad: samenstell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052640"/>
            <a:ext cx="838188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ntstaan in 1974, langzaam geformaliseer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amengesteld uit de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staatshoofden en de regeringsleiders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en de voorzitter van de Europese Commiss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oterend voorzitterschap van 6 maan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ijeenkomsten: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alfjaarlijkse bijeenkomsten ter afsluiting van een voorzitterscha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conomische ‘Lentetop’ en ‘herfsttop’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ijzondere Europese Ra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oorbereid door de Raad Algemene Zaken en Externe Betrekk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Raad: activiteit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1052640"/>
            <a:ext cx="83818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elatieve vrijheid wegens een combinatie van een gebrek aan verdragsbepalingen en de status van de deelnemers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de evolutie van de Europese Un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informele prioriteiten, knopen doorhakken, ruzies uitpraten, …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institutionele hervorm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uitbreidingen, specifieke institutionele beslissingen, ‘personeelsbeleid’, verdragswijzig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economisch en monetair 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overview-besprek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externe betrekk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erklar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interne beleidsdomein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gevoelige mater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Hof van Justit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006640"/>
            <a:ext cx="83822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15 rechters en 9 advocaten-generaal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of van Eerste Aanle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irecte act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dviezen t.a.v. internationale akkoor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rejudiciële vragen van nationale rechtbank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gevende Comité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360" y="1212840"/>
            <a:ext cx="815328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Het Economisch en Sociaal Comité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22 leden uit het middenveld, vooral sociale partn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ven niet bindend adv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plicht advies inzake sociaal-economisch 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Het Comité van de Regio’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22 leden uit de regionale entiteit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ven niet bindend adv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plicht advies inzake sociaal-economisch en regionaal 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gevende Comités: leden per lidstaa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00360" y="836640"/>
          <a:ext cx="2971800" cy="5376960"/>
        </p:xfrm>
        <a:graphic>
          <a:graphicData uri="http://schemas.openxmlformats.org/drawingml/2006/table">
            <a:tbl>
              <a:tblPr/>
              <a:tblGrid>
                <a:gridCol w="2210040"/>
                <a:gridCol w="761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tal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ot-Brittan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pan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lg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eke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Zwed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osten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nemark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uxemburg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andere instelling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60" y="1212840"/>
            <a:ext cx="815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De Europese Investeringsbank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Het Europees Rekenhof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748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politieke systeem</a:t>
            </a:r>
            <a:r>
              <a:rPr b="1" lang="nl-BE" sz="2400" spc="-1" strike="noStrike">
                <a:solidFill>
                  <a:srgbClr val="99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305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545472"/>
                </a:solidFill>
                <a:latin typeface="Tahoma"/>
              </a:rPr>
              <a:t>Comparative Politics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eorieën bekijken de EU als een politiek systeem sui generi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ok hier bestaan verschillende theorieën naast elkaa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3124080"/>
          <a:ext cx="8218440" cy="1595520"/>
        </p:xfrm>
        <a:graphic>
          <a:graphicData uri="http://schemas.openxmlformats.org/drawingml/2006/table">
            <a:tbl>
              <a:tblPr/>
              <a:tblGrid>
                <a:gridCol w="2890800"/>
                <a:gridCol w="2448000"/>
                <a:gridCol w="2879640"/>
              </a:tblGrid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neo) institutionele theorieë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ublic policy analysi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overnance</a:t>
                      </a: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benaderinge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ociologisch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istorisch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ational choic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licy network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pistemic communitie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ulti-level governanc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upranational governanc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 als Multi-level Governance systeem (1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990720"/>
            <a:ext cx="878544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multilevel’ = meerlagigheid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 Europese Unie is niet een niveau dat boven de lidstaten staat, maar wel </a:t>
            </a:r>
            <a:r>
              <a:rPr b="1" lang="nl-BE" sz="1800" spc="-1" strike="noStrike" u="sng">
                <a:solidFill>
                  <a:srgbClr val="545472"/>
                </a:solidFill>
                <a:uFillTx/>
                <a:latin typeface="Tahoma"/>
              </a:rPr>
              <a:t>één politiek systeem met meerdere bestuursniveaus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- intergouvernementeel: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b. Raad van Minist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- supranationaal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b. de Europese Commissie, he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es Parlement, het Hof van Justit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ationaal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e lidstaten (regeringen en parlementen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ubnationaal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e regio’s, vb. de Belgische Gewesten en de Duitse Länd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 besluitvorming verspringt de hele tijd van het ene niveau naar het andere of verloopt soms op meerdere niveaus tegelijkertijd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b: de medebeslissingsprocedure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 als Multi-level Governance systeem (2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990720"/>
            <a:ext cx="838188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governance’ = een specifieke manier van bestur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turen in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netwer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plaats van in hiërarch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vervaging van de scheid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publieke actoren (de overheden) en de private actoren (de belangengroepen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ctoren nemen deel aan de besluitvorming, niet zozeer omdat ze formeel moeten of kunnen, maar omdat ze kunnen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bijdragen tot de oploss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een bepaald dossi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manier van besturen verschil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beleidsdomein tot beleidsdome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gaat in hoofdzaak om het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reguleren van een sector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, niet om het (her)verdelen van middel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aast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wetgev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ok alternatieve beleidsinstrumenten: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richtsnoeren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,  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soft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law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,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bench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-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marking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,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best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practic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Belangengroep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9144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1066680"/>
            <a:ext cx="84582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rijwel alle nationale belangengroepen hebben zich ook georganiseerd i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organisati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m het 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multi-lev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spel mee te kunnen spel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sociaal-economische belangengroep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rkgevers, vakbonden, de commerciële sector, d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ienstensector, de landbouwsector, beroepsorganisat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t-gouvernementele organisaties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: ngo’s, nieuwe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sociale beweg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consumentenbewegingen, politiek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wegingen, ‘think tanks’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territoriale actor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egio’s, steden, international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rganisaties, niet EU-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professionele lobbyist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onsultancy bureaus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dvocatenkantor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belangenvertegenwoordiging wordt gekenmerkt door een  grote verscheidenheid aan strategieën en stijle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Multi-level Governance Systeem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9907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19720" y="3232080"/>
            <a:ext cx="2133360" cy="30481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089080"/>
            <a:ext cx="1219320" cy="69876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DG’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72"/>
                </a:solidFill>
                <a:latin typeface="Tahoma"/>
              </a:rPr>
              <a:t>commissarissen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089080"/>
            <a:ext cx="121896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2089080"/>
            <a:ext cx="121932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0820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69892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84192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conomisch en Sociaal Comité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90860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Comité van de Regio’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079800"/>
            <a:ext cx="121932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079800"/>
            <a:ext cx="121896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ed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079800"/>
            <a:ext cx="1219320" cy="5544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commissi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97528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Raad van Minister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356520"/>
            <a:ext cx="1218960" cy="2764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idstat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28948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ed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5289480"/>
            <a:ext cx="121896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289480"/>
            <a:ext cx="1219320" cy="5544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ti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222800"/>
            <a:ext cx="121932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222800"/>
            <a:ext cx="121896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ed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4222800"/>
            <a:ext cx="1219320" cy="5544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ti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635652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regio’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946080"/>
            <a:ext cx="381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besluitvormer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070520"/>
            <a:ext cx="18288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nationale belangengroep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946080"/>
            <a:ext cx="2057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belangengroepe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137200"/>
            <a:ext cx="18288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ub-nationale belangengroep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2927520"/>
            <a:ext cx="18288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upranationale en internationale belangengroep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635652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419720" y="2013120"/>
            <a:ext cx="2133360" cy="12189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419360" y="3079440"/>
            <a:ext cx="2057400" cy="1522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19360" y="3232080"/>
            <a:ext cx="2057400" cy="990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19720" y="3232080"/>
            <a:ext cx="2133360" cy="20574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419720" y="2013120"/>
            <a:ext cx="2133360" cy="2286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419720" y="3079440"/>
            <a:ext cx="2133360" cy="1219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419720" y="4222800"/>
            <a:ext cx="2133360" cy="76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4299120"/>
            <a:ext cx="2133360" cy="9903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419720" y="4299120"/>
            <a:ext cx="213336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419720" y="2012760"/>
            <a:ext cx="2133360" cy="33526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419720" y="3079800"/>
            <a:ext cx="2133360" cy="2286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419720" y="4222440"/>
            <a:ext cx="213336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19720" y="5289480"/>
            <a:ext cx="2133360" cy="76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419720" y="5365800"/>
            <a:ext cx="2133360" cy="9144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1143000"/>
            <a:ext cx="1600200" cy="5274360"/>
          </a:xfrm>
          <a:prstGeom prst="rect">
            <a:avLst/>
          </a:prstGeom>
          <a:solidFill>
            <a:srgbClr val="ffffff"/>
          </a:solidFill>
          <a:ln w="936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persoonlijke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contacten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consultatie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dviescomité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hearing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expertencomité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1282680"/>
            <a:ext cx="1218960" cy="307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nationaal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282680"/>
            <a:ext cx="1219320" cy="307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uropee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28268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subnationa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234120"/>
            <a:ext cx="8229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304920"/>
            <a:ext cx="7772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Multi-level Governance Systeem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15:46Z</dcterms:created>
  <dc:creator>Peter Bursens</dc:creator>
  <dc:description/>
  <dc:language>en-US</dc:language>
  <cp:lastModifiedBy>Peter Bursens</cp:lastModifiedBy>
  <dcterms:modified xsi:type="dcterms:W3CDTF">2003-04-07T11:08:29Z</dcterms:modified>
  <cp:revision>38</cp:revision>
  <dc:subject/>
  <dc:title>De Europese Unie als een politiek syste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9608624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