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Click to move the slide</a:t>
            </a:r>
            <a:endParaRPr b="1" lang="en-US" sz="4400" spc="-1" strike="noStrike">
              <a:solidFill>
                <a:srgbClr val="fdc269"/>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392E-AD3D-460B-A458-3F8F783BF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ank voor de uitnodiging</a:t>
            </a:r>
            <a:r>
              <a:rPr b="0" lang="en-US" sz="1200" spc="-1" strike="noStrike">
                <a:solidFill>
                  <a:srgbClr val="000000"/>
                </a:solidFill>
                <a:latin typeface="Times New Roman"/>
              </a:rPr>
              <a:t>: daar zijn we blij mee, en geven we graag gehoor aan vanuit de wetenschap dat we als donoren van elkaar kunnen leren. OS is een ingewikkeld beleidsterrein, niemand heeft de wijsheid in pacht en alleen door te leren van elkaars ervaringen kunnen we verder komen. Als wij nu hier iets komen vertellen over hoe DGIS Nederland dingen aanpakt, wil dat ook niet zeggen dat dat de beste manier is, het is een manier waar iets van te leren valt. Het vergelijken en verschillen en overeenkomsten te zien biedt een ander perspectief en dat helpt het 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aar gaan we het over hebben</a:t>
            </a:r>
            <a:r>
              <a:rPr b="0" lang="en-US" sz="1200" spc="-1" strike="noStrike">
                <a:solidFill>
                  <a:srgbClr val="000000"/>
                </a:solidFill>
                <a:latin typeface="Times New Roman"/>
              </a:rPr>
              <a:t>: SB en de organisatie. DGIS is eind 98/99 overgegaan tot de invoering van de sectorale benadering, een ingrijpende beleidswijziging, die allerlei consequenties had voor de organisatie, voor de manier van werken etc. Ik heb  van Peter begrepen dat jullie daar mn in geinteresseerd zijn, omdat Belgie ook meer programmatisch wil gaan werken, dat u dat zult moeten gaan uitvoeren en dat u graag zou willen weten wat dat voor U dagelijkse werk voor consequenties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ie zijn w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twee presentaties: </a:t>
            </a:r>
            <a:r>
              <a:rPr b="0" lang="en-US" sz="1200" spc="-1" strike="noStrike">
                <a:solidFill>
                  <a:srgbClr val="000000"/>
                </a:solidFill>
                <a:latin typeface="Times New Roman"/>
              </a:rPr>
              <a:t>1. Algemene plaatje gezien vanuit DGIS (Dic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erspectief van de posten: wat gaat er anders, waar ben je nou zoal mee bezig in de praktijk.(Rebekk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zet</a:t>
            </a:r>
            <a:r>
              <a:rPr b="0" lang="en-US" sz="1200" spc="-1" strike="noStrike">
                <a:solidFill>
                  <a:srgbClr val="000000"/>
                </a:solidFill>
                <a:latin typeface="Times New Roman"/>
              </a:rPr>
              <a:t> van de present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de afgelopen 15 jaar is er veel veranderd in OS en het denken over OS. We willen even kort deze veranderende context schetsen die aanleiding was voor de beleidswijzi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arna vertel ik u over de beleids keuzes die het Nederlandse DGIS eind jaren 90 heeft gemaakt en de kernelementen van de nieuwe benadering, die we Sectorale benadering noemen (anderen noemen het SWAP, anderen programmatisch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volgens laat ik u zien in een plaatje hoe de rollen en verhoudingen tussen de posten en het Hoofdkantoor in Den Haag binnen deze nieuwe OS constellatie zijn verand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k vertel u wat over de succes en faal factoren: wat hielp om deze verandering daadwerkelijk door te voeren en vorm te geven, en wat werkte t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n zal ik wat dieper ingaan op concrete veranderingen in het instrumentarium e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nslotte noem ik een aantal punten waar nog discussie over is om te laten zien dat de verandering nog lang niet voltooid is en de discussie doorga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jdens de presentatie kunnen vragen worden gesteld ter verduidelijking, discussie graag aan het einde, na presentatie Rebekk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Ervaringsle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rojecten als eilandjes van geluk in een oceaan van ellende: daar kom je er niet mee! Iets verder kijken als je echt iets wilt verande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olitiek en beleid van het ontvangende land zijn belangrijke bottlenecks: meer aandacht voor governance aspecten (verantwoording, particip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mmitment en ownership van actoren is belangrijk: dwingen en voorschrijven lukt niet, faciliteren en dialoog we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staande capaciteit en instituties zijn doorslaggeven voor of iets lukt of niet, en capaciteitsopbouw via inzet van TA is niet goed genoe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erander je beleid niet elk jaar, dat is niet erg effectief om daadwerkelijk en struktureel verandering teweeg te brengen en ga voor meerjarig commit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ncentreer je hulpactiviteiten voor meer effectivite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D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nternationale consensus over wat bereikt moet worden is nog nooit zo groot geweest. Echter gevaar dat het slogans blijven als de hulp niet effectiever word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Vraag om meer effectiviteit:</a:t>
            </a:r>
            <a:r>
              <a:rPr b="0" lang="en-US" sz="1000" spc="-1" strike="noStrike">
                <a:solidFill>
                  <a:srgbClr val="000000"/>
                </a:solidFill>
                <a:latin typeface="Times New Roman"/>
              </a:rPr>
              <a:t> teleurstelling over resultaten van 30 jaar hulp en roep om meer impact, plus realisering bundeling van krachten nodig is om transactiekosten te verminderen</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Verbreding van de agenda: </a:t>
            </a:r>
            <a:r>
              <a:rPr b="0" lang="en-US" sz="1000" spc="-1" strike="noStrike">
                <a:solidFill>
                  <a:srgbClr val="000000"/>
                </a:solidFill>
                <a:latin typeface="Times New Roman"/>
              </a:rPr>
              <a:t>realisering dat hulpinspanningen elkaar tegenwerken binnen een land, en dat donorlanden tegenstrijdig beleid voeren, dat de resultaten van OS belemmert bv landbouwbeleid, handelsbescherming. Als je dus echt resultaat wilt, moet je daar ook iets aan doe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trad een nieuwe Minister aan, Eveline Herfkens, WB achtergrond, nieuwdenker en doener met een sterk gevoel voor richting, niet bang om keuzes te maken, zoals haar voorganger Pronk. In korte tijd heeft ze de verandering stevig ingez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antal landen beperkt tot 17 (later 19) + 3 (exitlanden)  waarmee structurele relatie werd aangegegaan (themala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 land in 3 max 4 sect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t proces, goedkeuring parlement, top down gecommuniceerd en opgelegd, in een jaar. (wel in overleg met ontvangende overheid, die zeggenschap had in de keu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gelijkertijd: keuze voor sectorale benadering als principe, als manier van werken, daarvoor werden wel beleidsuitgangspunten uitgevaardigd, maar met de boodschap dat er nog veel onzeker was en in de uitvoeringspraktijk nog verder moest groeien (ook ruimte voor bottom-up invulling), we weten het nog niet precies maar we gaan aan de slag en formuleren gaandeweg meer b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significant funding for the sector supports a single sector policy and expenditure program, under Government leadership, adopting common approaches across the sector, and progressing towards relying on Government procedures to disburse and account for all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moedebestrijding is nog steeds  hoofddoelstelling, SB is manier van werk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C Poverty Guidelines: vijf dimensies van armoede; gender en milieu centraal bij alle dimensi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In de Sectorale Benadering ondersteunt Nederland langdurig een (sub)sector binnen een door het ontvangende land opgesteld coherent en in de PRSP geprioritiseerd beleidskader voor die sect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Nederland werkt op deze manier samen met 19 +3 landen binnen elk 3 of 4 sectoren. In themalanden wordt waar mogelijk de SB toegepas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Sectorale Benadering vergt een goede (armoede)context en actor-analyse, maar de uitvoering is gericht op die aspecten binnen de sector die een verschil kunnen maken in armoedebestrijding: think micro, act macr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Bij een Sectorale Benadering is de overheid van het ontvangende land in de "drivers seat", maar het is wel belangrijk dat draagvlak voor het beleid bestaat bij alle belanghebbenden/actoren  in de sector, inclusief de private sector en het maatschappelijk middenveld. (ownership en commitment) </a:t>
            </a:r>
            <a:r>
              <a:rPr b="0" lang="en-US" sz="800" spc="-1" strike="noStrike">
                <a:solidFill>
                  <a:srgbClr val="000000"/>
                </a:solidFill>
                <a:latin typeface="Times New Roman"/>
              </a:rPr>
              <a:t>goed bestuur institutionele capacitei vitaal maatschappelijk middenvel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Voor een coherente aanpak binnen een sector is samenwerking tussen donoren onderling  en tussen donoren en de ontvangende overheid van groot belang (partnershi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Binnen de SB wordt gestreefd naar donorharmonisatie; het gaat hier niet alleen om  harmonisatie van beleid t.o.v. de sector, maar ook om harmonisatie van de ingezette hulpinstrumenten, die moeten aansluiten bij door het land gehanteerde beheers-systemen en instrumenten.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Financiering vindt bij voorkeur (maar niet uitsluitend) plaats via macrosteun of sectorale budgetsteu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Monitoring gebeurt op basis van een gezamenlijk overeengekomen systeem van voortgangs-monitoring binnen de sector op basis van de armoede doelstellingen en indicatoren zoals vastgesteld in het PRS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ondersteunende rol van Den Haag, waarbij zij vooral beleids</a:t>
            </a:r>
            <a:r>
              <a:rPr b="0" lang="nl-NL" sz="800" spc="-1" strike="noStrike" u="sng">
                <a:solidFill>
                  <a:srgbClr val="000000"/>
                </a:solidFill>
                <a:uFillTx/>
                <a:latin typeface="Times New Roman"/>
              </a:rPr>
              <a:t>kaders</a:t>
            </a:r>
            <a:r>
              <a:rPr b="0" lang="nl-NL" sz="800" spc="-1" strike="noStrike">
                <a:solidFill>
                  <a:srgbClr val="000000"/>
                </a:solidFill>
                <a:latin typeface="Times New Roman"/>
              </a:rPr>
              <a:t> en hulpmiddelen aanreikt, wordt belangrijk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aarnaast heeft HQ meer dan ooit een rol in het streven naar consistentie op internationaal niveau</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Voeding vanuit de posten in de vorm van praktijkervaringen en vragen is hierbij essentiee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Ownership maakt dat de rol van de posten verschuift van directe uitvoering naar een beïnvloedingsrol</a:t>
            </a:r>
            <a:endParaRPr b="0" lang="en-US" sz="8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nl-NL" sz="900" spc="-1" strike="noStrike">
                <a:solidFill>
                  <a:srgbClr val="000000"/>
                </a:solidFill>
                <a:latin typeface="Times New Roman"/>
              </a:rPr>
              <a:t>De huidige OS-context stelt andere eisen aan: actoren, rollen, communicatie, interne organisatie (inclusief aansturing), werkwijze</a:t>
            </a:r>
            <a:r>
              <a:rPr b="0" lang="en-US" sz="1200" spc="-1" strike="noStrike">
                <a:solidFill>
                  <a:srgbClr val="000000"/>
                </a:solidFill>
                <a:latin typeface="Times New Roman"/>
              </a:rPr>
              <a:t> </a:t>
            </a:r>
            <a:r>
              <a:rPr b="0" lang="nl-NL" sz="900" spc="-1" strike="noStrike">
                <a:solidFill>
                  <a:srgbClr val="000000"/>
                </a:solidFill>
                <a:latin typeface="Times New Roman"/>
              </a:rPr>
              <a:t>Het gaat hierbij vooral om het beïnvloeden van de processen (beleidsdialoog,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implementatie, monitoring en evaluatie) rondom het PRSP of vergelijkbare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nationale armoedestrategie en sectorprogramma’s</a:t>
            </a:r>
            <a:r>
              <a:rPr b="0" lang="en-US" sz="1200" spc="-1" strike="noStrike">
                <a:solidFill>
                  <a:srgbClr val="000000"/>
                </a:solidFill>
                <a:latin typeface="Times New Roman"/>
              </a:rPr>
              <a:t> beinvloeiding: meepraten, monitoren van uitvoering</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 ook: wegnmenen van knelpunten </a:t>
            </a:r>
            <a:r>
              <a:rPr b="0" lang="nl-NL" sz="900" spc="-1" strike="noStrike">
                <a:solidFill>
                  <a:srgbClr val="000000"/>
                </a:solidFill>
                <a:latin typeface="Times New Roman"/>
              </a:rPr>
              <a:t>Mogelijke knelpunten op sector overstijgend niveau: corruptie, rechtssystee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belastingstelsel, geringe participatie maatschappelijk middenveld, etc</a:t>
            </a:r>
            <a:endParaRPr b="0" lang="en-US" sz="9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nsequenties voor uitvoering</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icro-macro analy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oede kennis van armoedecontex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herentie binnen de ambassad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Kennismanagemen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herence debat (1995)onder Pronk( Herijking): organisatie op z’n kop: integratie politiek en OSdesk plus delegatie naar de posten</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BTB discussie algemeen, rekenkamer sense of urgency bij management, politiek en werkvloer, ongenoegen over weinig resultaten zie eerdere verhaal</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C heeft nederland daarin geprezen: HBBZ operational guidelines: alle procedures bij elkaar gebracht en versimpeld, een document, nog verder door piramide</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nk: wel visie, geen keuzes maken, Herfkens: wel keuzes</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estemming parlement: accountability framework: ministeriele verantwoordelijkheid voor het proces, niet voor resultaat van iedere cent 4 gouden regels: doe onderzoek naar de andere partij alvorens tot zaken over te gaan, leg verplichtingen en verwachte resultaten vast, monitor en evaluaeer voortgang, pas sancties toe.; plausibiliteit ipv causaliteit; Tevens: minister Herfkens zorgde voor politiek draagvlak voor de sector en landenkeuze plus acceptatie van SB principes</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ungroep: overkoepelend, themaoverstijgend personeel vrijgemaakt met vertegenwoordigers uit elke directie direct gelieerd aan het management: momentum, denkkracht, capaciteit om instrumentarium ontwikkeling te stimuleren, training op te zetten etc. 4 generati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ecultuur: risicomijdend management, geen integraal management, weinig afgerekend op resulstaat,  inward looking, vaste werkroutines aan beide zijdne (OS en buitenlandse zaken), tegengesteld aan wat men tot nu toe had gedaan:think macro, act micro, oudere staf gewend aan projectmanagement, kleine schaal, overzichtelijk, direct resultaat, nu groots macro, complex, multidimensionaal, dat kan niet iedereen. Bovendien change fatique na herrijking. Weinig mogelijkheden tot het aantrekken van neiuwe staf: training is de oplossing plus L&amp;O, maar silent resistance blij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eelsbeleid: weinig personeel, niet met de goede skills: skillmix, geen eigen opleidingen me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amp;E: jaarplannen anders van opzet, meer gewicht, lastigheid van onderscheiden van eigen resultaten en resultaten sector; waarderingssysteem, kwaliteit decentrale evaluatie, systeem operationeel per juni dit jaar. Pira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M: training: GAVIM en Sectorale benadering; Macrosteun en PFM, ISOA, Inwerktraject met basistraining en keuzemodules (PME, Coherentie, IO etc, L&amp;O (gebaseerd op behoefte van de posten zelf); normprofi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eerskader: document opgesteld, COCA, track record macrosteun,  macro en sector stuen, recurrent cost, silent partnerships, nieuw bemo. Nog onvoldoende: sanctiebelei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C5D2F-2E4A-4D62-A323-D503940F5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7581-8331-4831-9147-9F55987C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02BF-8AB5-4C47-8971-877C3EB81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E5351-A185-4FC3-88D7-8974D6297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04935-EB33-4130-9D44-07C76E778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B82F8-F168-4635-BF1F-16F02CCDC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35E15-2B22-45C8-93F4-6FAF720AF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E0417-15CD-47E4-BA75-B97AA1C72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D6C5A-6F9E-4262-B221-852175D82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BFA09-254D-4518-8706-5DB707FA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A8788-A391-43B9-86F1-386F8E456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BB2C-088A-467C-B928-DAB97A36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2B993-6622-45F6-B1F0-703CC2FE4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C815E-25E7-4A4D-9B69-971486C56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DF470-9B74-48B1-B1EB-177CDCAE7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F8F2C-0C4F-4347-AE60-C82917ABF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D036C-1428-4134-A5A5-E88A77573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9B371-D38A-42F6-A8B2-9DEE8A57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D901D-4360-4E4C-9E3A-7FB440B62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B8E6-261A-4F1B-851E-90AD6F5D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EDCC-A387-4FDF-B9B5-4D3820B8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8386-05A8-4DA9-8E15-9A03B9B4C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9D3F-ADD7-4795-B69F-DCBD4FC9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309B-60D6-4E9E-BAF1-7B4643CE4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Click to edit the title text format</a:t>
            </a:r>
            <a:endParaRPr b="0" lang="en-US" sz="4400" spc="-1" strike="noStrike">
              <a:solidFill>
                <a:srgbClr val="fdc26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0832-6718-4EED-9176-EA4359469A7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Click to edit the title text format</a:t>
            </a:r>
            <a:endParaRPr b="1" lang="en-US" sz="4400" spc="-1" strike="noStrike">
              <a:solidFill>
                <a:srgbClr val="fdc269"/>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090F-6FBA-4D25-B4D7-B81B627B98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Sectorale Benadering: anders denken en werken </a:t>
            </a:r>
            <a:endParaRPr b="1" lang="en-US" sz="4400" spc="-1" strike="noStrike">
              <a:solidFill>
                <a:srgbClr val="fdc269"/>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e voor Stagiaires Attachés DGIS-Belgie, 21 maart 200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Open einden</a:t>
            </a:r>
            <a:endParaRPr b="0" lang="en-US" sz="4400" spc="-1" strike="noStrike">
              <a:solidFill>
                <a:srgbClr val="fdc269"/>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eilijkheid om resultaten te beschrijven en toe te rekenen (M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schillen tussen sector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ledig integratie nog niet in zi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ele overtuiging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vatting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e betrouwbaar zijn we zel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Conclusie</a:t>
            </a:r>
            <a:endParaRPr b="0" lang="en-US" sz="4400" spc="-1" strike="noStrike">
              <a:solidFill>
                <a:srgbClr val="fdc269"/>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eidskeuzes noodzaken een andere manier van denken en werk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gaat niet vanzelf: verandering is nodig in aansturing, HRM, P&amp;M, beheer en proced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g belangrijker, maar ook het moeilijkst: cultuuromsla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Vragen?</a:t>
            </a:r>
            <a:endParaRPr b="0" lang="en-US" sz="4400" spc="-1" strike="noStrike">
              <a:solidFill>
                <a:srgbClr val="fdc26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Dank voor uw aandacht!</a:t>
            </a:r>
            <a:endParaRPr b="0" lang="en-US" sz="4400" spc="-1" strike="noStrike">
              <a:solidFill>
                <a:srgbClr val="fdc26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533520" y="762120"/>
            <a:ext cx="8229600" cy="56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De presentatie</a:t>
            </a:r>
            <a:endParaRPr b="0" lang="en-US" sz="4400" spc="-1" strike="noStrike">
              <a:solidFill>
                <a:srgbClr val="fdc26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anderende OS context</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eidskeuz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itutionele gevolg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 hielp en wat blokkeerd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anderingen in instrumentarium</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 lukt nog niet goed genoe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lusie</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Veranderende OS context</a:t>
            </a:r>
            <a:endParaRPr b="0" lang="en-US" sz="4400" spc="-1" strike="noStrike">
              <a:solidFill>
                <a:srgbClr val="fdc269"/>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varingsless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DG’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er impact en lagere transactiekost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breding armoede agen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Beleidskeuzes</a:t>
            </a:r>
            <a:endParaRPr b="0" lang="en-US" sz="4400" spc="-1" strike="noStrike">
              <a:solidFill>
                <a:srgbClr val="fdc269"/>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denkeu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orkeu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orale benadering als manier van werk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Kernelementen Sectorale Benadering</a:t>
            </a:r>
            <a:endParaRPr b="0" lang="en-US" sz="4400" spc="-1" strike="noStrike">
              <a:solidFill>
                <a:srgbClr val="fdc269"/>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moede bestrijd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wnershi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herentie (intern en exter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orcoördinati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dc269"/>
                </a:solidFill>
                <a:latin typeface="Times New Roman"/>
              </a:rPr>
              <a:t>Nieuwe rolverdeling</a:t>
            </a:r>
            <a:endParaRPr b="0" lang="en-US" sz="2800" spc="-1" strike="noStrike">
              <a:solidFill>
                <a:srgbClr val="fdc269"/>
              </a:solidFill>
              <a:latin typeface="Times New Roman"/>
            </a:endParaRPr>
          </a:p>
        </p:txBody>
      </p:sp>
      <p:sp>
        <p:nvSpPr>
          <p:cNvPr id="100" name=""/>
          <p:cNvSpPr/>
          <p:nvPr/>
        </p:nvSpPr>
        <p:spPr>
          <a:xfrm>
            <a:off x="2743200" y="3094200"/>
            <a:ext cx="4330800" cy="3201840"/>
          </a:xfrm>
          <a:custGeom>
            <a:avLst/>
            <a:gdLst/>
            <a:ahLst/>
            <a:rect l="l" t="t" r="r" b="b"/>
            <a:pathLst>
              <a:path w="2724" h="2072">
                <a:moveTo>
                  <a:pt x="0" y="1831"/>
                </a:moveTo>
                <a:cubicBezTo>
                  <a:pt x="929" y="1951"/>
                  <a:pt x="1858" y="2072"/>
                  <a:pt x="2291" y="1767"/>
                </a:cubicBezTo>
                <a:cubicBezTo>
                  <a:pt x="2724" y="1462"/>
                  <a:pt x="2661" y="731"/>
                  <a:pt x="2598"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038480" y="4038480"/>
            <a:ext cx="83844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2" name=""/>
          <p:cNvSpPr/>
          <p:nvPr/>
        </p:nvSpPr>
        <p:spPr>
          <a:xfrm>
            <a:off x="3886200" y="41911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3" name=""/>
          <p:cNvSpPr/>
          <p:nvPr/>
        </p:nvSpPr>
        <p:spPr>
          <a:xfrm>
            <a:off x="3657600" y="434340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4" name=""/>
          <p:cNvSpPr/>
          <p:nvPr/>
        </p:nvSpPr>
        <p:spPr>
          <a:xfrm flipV="1">
            <a:off x="4572000" y="4572000"/>
            <a:ext cx="5335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133720" y="5181480"/>
            <a:ext cx="0" cy="381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36480" y="56386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 op armoed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strijding</a:t>
            </a:r>
            <a:endParaRPr b="0" lang="en-US" sz="1200" spc="-1" strike="noStrike">
              <a:solidFill>
                <a:srgbClr val="ffffff"/>
              </a:solidFill>
              <a:latin typeface="Times New Roman"/>
            </a:endParaRPr>
          </a:p>
        </p:txBody>
      </p:sp>
      <p:sp>
        <p:nvSpPr>
          <p:cNvPr id="107" name=""/>
          <p:cNvSpPr/>
          <p:nvPr/>
        </p:nvSpPr>
        <p:spPr>
          <a:xfrm>
            <a:off x="1600200" y="2209680"/>
            <a:ext cx="1066680" cy="609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Regiokantore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int. org.</a:t>
            </a:r>
            <a:endParaRPr b="0" lang="en-US" sz="1200" spc="-1" strike="noStrike">
              <a:solidFill>
                <a:srgbClr val="ffffff"/>
              </a:solidFill>
              <a:latin typeface="Times New Roman"/>
            </a:endParaRPr>
          </a:p>
        </p:txBody>
      </p:sp>
      <p:sp>
        <p:nvSpPr>
          <p:cNvPr id="108" name=""/>
          <p:cNvSpPr/>
          <p:nvPr/>
        </p:nvSpPr>
        <p:spPr>
          <a:xfrm>
            <a:off x="2133720" y="2819520"/>
            <a:ext cx="0" cy="4572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2743200" y="4572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294920" y="320040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nd</a:t>
            </a:r>
            <a:endParaRPr b="0" lang="en-US" sz="1200" spc="-1" strike="noStrike">
              <a:solidFill>
                <a:srgbClr val="ffffff"/>
              </a:solidFill>
              <a:latin typeface="Times New Roman"/>
            </a:endParaRPr>
          </a:p>
        </p:txBody>
      </p:sp>
      <p:sp>
        <p:nvSpPr>
          <p:cNvPr id="111" name=""/>
          <p:cNvSpPr/>
          <p:nvPr/>
        </p:nvSpPr>
        <p:spPr>
          <a:xfrm>
            <a:off x="2212920" y="281952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ïnvloeding</a:t>
            </a:r>
            <a:endParaRPr b="0" lang="en-US" sz="1200" spc="-1" strike="noStrike">
              <a:solidFill>
                <a:srgbClr val="ffffff"/>
              </a:solidFill>
              <a:latin typeface="Times New Roman"/>
            </a:endParaRPr>
          </a:p>
        </p:txBody>
      </p:sp>
      <p:sp>
        <p:nvSpPr>
          <p:cNvPr id="112" name=""/>
          <p:cNvSpPr/>
          <p:nvPr/>
        </p:nvSpPr>
        <p:spPr>
          <a:xfrm>
            <a:off x="1714680" y="3352680"/>
            <a:ext cx="838080" cy="838440"/>
          </a:xfrm>
          <a:prstGeom prst="donut">
            <a:avLst>
              <a:gd name="adj" fmla="val 14773"/>
            </a:avLst>
          </a:prstGeom>
          <a:solidFill>
            <a:srgbClr val="a89d5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789560" y="4584600"/>
            <a:ext cx="726480" cy="39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to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ma’s</a:t>
            </a:r>
            <a:endParaRPr b="0" lang="en-US" sz="800" spc="-1" strike="noStrike">
              <a:solidFill>
                <a:srgbClr val="ffffff"/>
              </a:solidFill>
              <a:latin typeface="Times New Roman"/>
            </a:endParaRPr>
          </a:p>
        </p:txBody>
      </p:sp>
      <p:sp>
        <p:nvSpPr>
          <p:cNvPr id="114" name=""/>
          <p:cNvSpPr/>
          <p:nvPr/>
        </p:nvSpPr>
        <p:spPr>
          <a:xfrm>
            <a:off x="1714680" y="4410000"/>
            <a:ext cx="857160" cy="838440"/>
          </a:xfrm>
          <a:prstGeom prst="donut">
            <a:avLst>
              <a:gd name="adj" fmla="val 14814"/>
            </a:avLst>
          </a:prstGeom>
          <a:solidFill>
            <a:srgbClr val="a89d5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838160" y="3554280"/>
            <a:ext cx="589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SP-</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a:t>
            </a:r>
            <a:endParaRPr b="0" lang="en-US" sz="1200" spc="-1" strike="noStrike">
              <a:solidFill>
                <a:srgbClr val="ffffff"/>
              </a:solidFill>
              <a:latin typeface="Times New Roman"/>
            </a:endParaRPr>
          </a:p>
        </p:txBody>
      </p:sp>
      <p:sp>
        <p:nvSpPr>
          <p:cNvPr id="116" name=""/>
          <p:cNvSpPr/>
          <p:nvPr/>
        </p:nvSpPr>
        <p:spPr>
          <a:xfrm>
            <a:off x="6540480" y="205740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17" name=""/>
          <p:cNvSpPr/>
          <p:nvPr/>
        </p:nvSpPr>
        <p:spPr>
          <a:xfrm>
            <a:off x="6388200" y="220968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18" name=""/>
          <p:cNvSpPr/>
          <p:nvPr/>
        </p:nvSpPr>
        <p:spPr>
          <a:xfrm>
            <a:off x="6159600" y="23623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Q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n Haag</a:t>
            </a:r>
            <a:endParaRPr b="0" lang="en-US" sz="1200" spc="-1" strike="noStrike">
              <a:solidFill>
                <a:srgbClr val="ffffff"/>
              </a:solidFill>
              <a:latin typeface="Times New Roman"/>
            </a:endParaRPr>
          </a:p>
        </p:txBody>
      </p:sp>
      <p:sp>
        <p:nvSpPr>
          <p:cNvPr id="119" name=""/>
          <p:cNvSpPr/>
          <p:nvPr/>
        </p:nvSpPr>
        <p:spPr>
          <a:xfrm flipV="1">
            <a:off x="7074000" y="2590920"/>
            <a:ext cx="53316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rot="19383600">
            <a:off x="6890760" y="2588760"/>
            <a:ext cx="147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Q donorcoördinatie</a:t>
            </a:r>
            <a:endParaRPr b="0" lang="en-US" sz="1200" spc="-1" strike="noStrike">
              <a:solidFill>
                <a:srgbClr val="ffffff"/>
              </a:solidFill>
              <a:latin typeface="Times New Roman"/>
            </a:endParaRPr>
          </a:p>
        </p:txBody>
      </p:sp>
      <p:sp>
        <p:nvSpPr>
          <p:cNvPr id="121" name=""/>
          <p:cNvSpPr/>
          <p:nvPr/>
        </p:nvSpPr>
        <p:spPr>
          <a:xfrm flipH="1">
            <a:off x="4410000" y="2743200"/>
            <a:ext cx="174960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657600" y="1600200"/>
            <a:ext cx="1219320" cy="609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e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saties</a:t>
            </a:r>
            <a:endParaRPr b="0" lang="en-US" sz="1200" spc="-1" strike="noStrike">
              <a:solidFill>
                <a:srgbClr val="ffffff"/>
              </a:solidFill>
              <a:latin typeface="Times New Roman"/>
            </a:endParaRPr>
          </a:p>
        </p:txBody>
      </p:sp>
      <p:sp>
        <p:nvSpPr>
          <p:cNvPr id="123" name=""/>
          <p:cNvSpPr/>
          <p:nvPr/>
        </p:nvSpPr>
        <p:spPr>
          <a:xfrm flipH="1" flipV="1">
            <a:off x="4876560" y="1866960"/>
            <a:ext cx="1282680" cy="7221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2666880" y="1866960"/>
            <a:ext cx="990720" cy="495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270400" y="1757520"/>
            <a:ext cx="146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sistentie in beleid</a:t>
            </a:r>
            <a:endParaRPr b="0" lang="en-US" sz="1200" spc="-1" strike="noStrike">
              <a:solidFill>
                <a:srgbClr val="ffffff"/>
              </a:solidFill>
              <a:latin typeface="Times New Roman"/>
            </a:endParaRPr>
          </a:p>
        </p:txBody>
      </p:sp>
      <p:sp>
        <p:nvSpPr>
          <p:cNvPr id="126" name=""/>
          <p:cNvSpPr/>
          <p:nvPr/>
        </p:nvSpPr>
        <p:spPr>
          <a:xfrm>
            <a:off x="2133720" y="4114800"/>
            <a:ext cx="0" cy="3808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064040" y="2905200"/>
            <a:ext cx="2408040" cy="2351160"/>
          </a:xfrm>
          <a:custGeom>
            <a:avLst/>
            <a:gdLst/>
            <a:ahLst/>
            <a:rect l="l" t="t" r="r" b="b"/>
            <a:pathLst>
              <a:path w="1517" h="1481">
                <a:moveTo>
                  <a:pt x="0" y="1242"/>
                </a:moveTo>
                <a:cubicBezTo>
                  <a:pt x="430" y="1361"/>
                  <a:pt x="861" y="1481"/>
                  <a:pt x="1114" y="1274"/>
                </a:cubicBezTo>
                <a:cubicBezTo>
                  <a:pt x="1367" y="1067"/>
                  <a:pt x="1442" y="533"/>
                  <a:pt x="1517"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724280" y="3276720"/>
            <a:ext cx="1982880" cy="2438280"/>
          </a:xfrm>
          <a:custGeom>
            <a:avLst/>
            <a:gdLst/>
            <a:ahLst/>
            <a:rect l="l" t="t" r="r" b="b"/>
            <a:pathLst>
              <a:path w="1517" h="1481">
                <a:moveTo>
                  <a:pt x="0" y="1242"/>
                </a:moveTo>
                <a:cubicBezTo>
                  <a:pt x="430" y="1361"/>
                  <a:pt x="861" y="1481"/>
                  <a:pt x="1114" y="1274"/>
                </a:cubicBezTo>
                <a:cubicBezTo>
                  <a:pt x="1367" y="1067"/>
                  <a:pt x="1442" y="533"/>
                  <a:pt x="1517"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057440" y="4800600"/>
            <a:ext cx="1395000" cy="4590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aktijkervaringen</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ragen/wensen</a:t>
            </a:r>
            <a:endParaRPr b="0" lang="en-US" sz="1200" spc="-1" strike="noStrike">
              <a:solidFill>
                <a:srgbClr val="ffffff"/>
              </a:solidFill>
              <a:latin typeface="Times New Roman"/>
            </a:endParaRPr>
          </a:p>
        </p:txBody>
      </p:sp>
      <p:sp>
        <p:nvSpPr>
          <p:cNvPr id="130" name=""/>
          <p:cNvSpPr/>
          <p:nvPr/>
        </p:nvSpPr>
        <p:spPr>
          <a:xfrm>
            <a:off x="838080" y="2819520"/>
            <a:ext cx="2452680" cy="2813040"/>
          </a:xfrm>
          <a:custGeom>
            <a:avLst/>
            <a:gdLst/>
            <a:ahLst/>
            <a:rect l="l" t="t" r="r" b="b"/>
            <a:pathLst>
              <a:path w="1545" h="1772">
                <a:moveTo>
                  <a:pt x="654" y="163"/>
                </a:moveTo>
                <a:cubicBezTo>
                  <a:pt x="516" y="209"/>
                  <a:pt x="509" y="209"/>
                  <a:pt x="327" y="218"/>
                </a:cubicBezTo>
                <a:cubicBezTo>
                  <a:pt x="249" y="243"/>
                  <a:pt x="285" y="323"/>
                  <a:pt x="263" y="390"/>
                </a:cubicBezTo>
                <a:cubicBezTo>
                  <a:pt x="269" y="409"/>
                  <a:pt x="288" y="425"/>
                  <a:pt x="290" y="445"/>
                </a:cubicBezTo>
                <a:cubicBezTo>
                  <a:pt x="296" y="498"/>
                  <a:pt x="242" y="563"/>
                  <a:pt x="199" y="590"/>
                </a:cubicBezTo>
                <a:cubicBezTo>
                  <a:pt x="196" y="599"/>
                  <a:pt x="189" y="608"/>
                  <a:pt x="190" y="618"/>
                </a:cubicBezTo>
                <a:cubicBezTo>
                  <a:pt x="192" y="643"/>
                  <a:pt x="208" y="690"/>
                  <a:pt x="208" y="690"/>
                </a:cubicBezTo>
                <a:cubicBezTo>
                  <a:pt x="189" y="748"/>
                  <a:pt x="140" y="770"/>
                  <a:pt x="108" y="818"/>
                </a:cubicBezTo>
                <a:cubicBezTo>
                  <a:pt x="102" y="827"/>
                  <a:pt x="98" y="838"/>
                  <a:pt x="90" y="845"/>
                </a:cubicBezTo>
                <a:cubicBezTo>
                  <a:pt x="74" y="859"/>
                  <a:pt x="51" y="865"/>
                  <a:pt x="36" y="881"/>
                </a:cubicBezTo>
                <a:cubicBezTo>
                  <a:pt x="30" y="887"/>
                  <a:pt x="24" y="894"/>
                  <a:pt x="18" y="900"/>
                </a:cubicBezTo>
                <a:cubicBezTo>
                  <a:pt x="0" y="950"/>
                  <a:pt x="26" y="939"/>
                  <a:pt x="63" y="972"/>
                </a:cubicBezTo>
                <a:cubicBezTo>
                  <a:pt x="107" y="1012"/>
                  <a:pt x="132" y="1058"/>
                  <a:pt x="172" y="1100"/>
                </a:cubicBezTo>
                <a:cubicBezTo>
                  <a:pt x="178" y="1118"/>
                  <a:pt x="184" y="1136"/>
                  <a:pt x="190" y="1154"/>
                </a:cubicBezTo>
                <a:cubicBezTo>
                  <a:pt x="193" y="1163"/>
                  <a:pt x="199" y="1181"/>
                  <a:pt x="199" y="1181"/>
                </a:cubicBezTo>
                <a:cubicBezTo>
                  <a:pt x="196" y="1227"/>
                  <a:pt x="190" y="1272"/>
                  <a:pt x="190" y="1318"/>
                </a:cubicBezTo>
                <a:cubicBezTo>
                  <a:pt x="190" y="1371"/>
                  <a:pt x="263" y="1385"/>
                  <a:pt x="299" y="1400"/>
                </a:cubicBezTo>
                <a:cubicBezTo>
                  <a:pt x="356" y="1455"/>
                  <a:pt x="337" y="1500"/>
                  <a:pt x="317" y="1572"/>
                </a:cubicBezTo>
                <a:cubicBezTo>
                  <a:pt x="327" y="1639"/>
                  <a:pt x="343" y="1669"/>
                  <a:pt x="372" y="1727"/>
                </a:cubicBezTo>
                <a:cubicBezTo>
                  <a:pt x="376" y="1735"/>
                  <a:pt x="374" y="1747"/>
                  <a:pt x="381" y="1754"/>
                </a:cubicBezTo>
                <a:cubicBezTo>
                  <a:pt x="386" y="1759"/>
                  <a:pt x="445" y="1772"/>
                  <a:pt x="445" y="1772"/>
                </a:cubicBezTo>
                <a:cubicBezTo>
                  <a:pt x="521" y="1769"/>
                  <a:pt x="596" y="1768"/>
                  <a:pt x="672" y="1763"/>
                </a:cubicBezTo>
                <a:cubicBezTo>
                  <a:pt x="681" y="1762"/>
                  <a:pt x="692" y="1761"/>
                  <a:pt x="699" y="1754"/>
                </a:cubicBezTo>
                <a:cubicBezTo>
                  <a:pt x="704" y="1749"/>
                  <a:pt x="717" y="1690"/>
                  <a:pt x="717" y="1690"/>
                </a:cubicBezTo>
                <a:cubicBezTo>
                  <a:pt x="727" y="1657"/>
                  <a:pt x="744" y="1628"/>
                  <a:pt x="763" y="1600"/>
                </a:cubicBezTo>
                <a:cubicBezTo>
                  <a:pt x="827" y="1613"/>
                  <a:pt x="874" y="1658"/>
                  <a:pt x="936" y="1672"/>
                </a:cubicBezTo>
                <a:cubicBezTo>
                  <a:pt x="962" y="1678"/>
                  <a:pt x="990" y="1678"/>
                  <a:pt x="1017" y="1681"/>
                </a:cubicBezTo>
                <a:cubicBezTo>
                  <a:pt x="1085" y="1703"/>
                  <a:pt x="1004" y="1674"/>
                  <a:pt x="1072" y="1709"/>
                </a:cubicBezTo>
                <a:cubicBezTo>
                  <a:pt x="1122" y="1735"/>
                  <a:pt x="1190" y="1738"/>
                  <a:pt x="1245" y="1745"/>
                </a:cubicBezTo>
                <a:cubicBezTo>
                  <a:pt x="1327" y="1739"/>
                  <a:pt x="1384" y="1743"/>
                  <a:pt x="1454" y="1709"/>
                </a:cubicBezTo>
                <a:cubicBezTo>
                  <a:pt x="1493" y="1668"/>
                  <a:pt x="1480" y="1650"/>
                  <a:pt x="1536" y="1609"/>
                </a:cubicBezTo>
                <a:cubicBezTo>
                  <a:pt x="1510" y="1509"/>
                  <a:pt x="1527" y="1544"/>
                  <a:pt x="1454" y="1500"/>
                </a:cubicBezTo>
                <a:cubicBezTo>
                  <a:pt x="1435" y="1489"/>
                  <a:pt x="1399" y="1463"/>
                  <a:pt x="1399" y="1463"/>
                </a:cubicBezTo>
                <a:cubicBezTo>
                  <a:pt x="1419" y="1384"/>
                  <a:pt x="1428" y="1306"/>
                  <a:pt x="1381" y="1236"/>
                </a:cubicBezTo>
                <a:cubicBezTo>
                  <a:pt x="1385" y="1222"/>
                  <a:pt x="1402" y="1149"/>
                  <a:pt x="1408" y="1145"/>
                </a:cubicBezTo>
                <a:cubicBezTo>
                  <a:pt x="1426" y="1133"/>
                  <a:pt x="1463" y="1109"/>
                  <a:pt x="1463" y="1109"/>
                </a:cubicBezTo>
                <a:cubicBezTo>
                  <a:pt x="1480" y="1056"/>
                  <a:pt x="1456" y="1065"/>
                  <a:pt x="1426" y="1027"/>
                </a:cubicBezTo>
                <a:cubicBezTo>
                  <a:pt x="1396" y="990"/>
                  <a:pt x="1369" y="954"/>
                  <a:pt x="1354" y="909"/>
                </a:cubicBezTo>
                <a:cubicBezTo>
                  <a:pt x="1351" y="888"/>
                  <a:pt x="1349" y="866"/>
                  <a:pt x="1345" y="845"/>
                </a:cubicBezTo>
                <a:cubicBezTo>
                  <a:pt x="1343" y="836"/>
                  <a:pt x="1335" y="827"/>
                  <a:pt x="1336" y="818"/>
                </a:cubicBezTo>
                <a:cubicBezTo>
                  <a:pt x="1343" y="771"/>
                  <a:pt x="1359" y="785"/>
                  <a:pt x="1390" y="763"/>
                </a:cubicBezTo>
                <a:cubicBezTo>
                  <a:pt x="1418" y="743"/>
                  <a:pt x="1420" y="729"/>
                  <a:pt x="1436" y="699"/>
                </a:cubicBezTo>
                <a:cubicBezTo>
                  <a:pt x="1442" y="669"/>
                  <a:pt x="1451" y="639"/>
                  <a:pt x="1454" y="609"/>
                </a:cubicBezTo>
                <a:cubicBezTo>
                  <a:pt x="1457" y="579"/>
                  <a:pt x="1454" y="547"/>
                  <a:pt x="1463" y="518"/>
                </a:cubicBezTo>
                <a:cubicBezTo>
                  <a:pt x="1479" y="468"/>
                  <a:pt x="1512" y="458"/>
                  <a:pt x="1545" y="427"/>
                </a:cubicBezTo>
                <a:cubicBezTo>
                  <a:pt x="1533" y="391"/>
                  <a:pt x="1526" y="384"/>
                  <a:pt x="1490" y="372"/>
                </a:cubicBezTo>
                <a:cubicBezTo>
                  <a:pt x="1420" y="320"/>
                  <a:pt x="1344" y="280"/>
                  <a:pt x="1290" y="209"/>
                </a:cubicBezTo>
                <a:cubicBezTo>
                  <a:pt x="1287" y="200"/>
                  <a:pt x="1290" y="184"/>
                  <a:pt x="1281" y="181"/>
                </a:cubicBezTo>
                <a:cubicBezTo>
                  <a:pt x="1245" y="168"/>
                  <a:pt x="1223" y="206"/>
                  <a:pt x="1199" y="218"/>
                </a:cubicBezTo>
                <a:cubicBezTo>
                  <a:pt x="1182" y="227"/>
                  <a:pt x="1145" y="236"/>
                  <a:pt x="1145" y="236"/>
                </a:cubicBezTo>
                <a:cubicBezTo>
                  <a:pt x="1048" y="205"/>
                  <a:pt x="1038" y="198"/>
                  <a:pt x="917" y="190"/>
                </a:cubicBezTo>
                <a:cubicBezTo>
                  <a:pt x="880" y="135"/>
                  <a:pt x="915" y="195"/>
                  <a:pt x="890" y="118"/>
                </a:cubicBezTo>
                <a:cubicBezTo>
                  <a:pt x="875" y="72"/>
                  <a:pt x="845" y="45"/>
                  <a:pt x="808" y="18"/>
                </a:cubicBezTo>
                <a:cubicBezTo>
                  <a:pt x="767" y="26"/>
                  <a:pt x="743" y="32"/>
                  <a:pt x="708" y="54"/>
                </a:cubicBezTo>
                <a:cubicBezTo>
                  <a:pt x="655" y="134"/>
                  <a:pt x="738" y="0"/>
                  <a:pt x="681" y="145"/>
                </a:cubicBezTo>
                <a:cubicBezTo>
                  <a:pt x="652" y="219"/>
                  <a:pt x="654" y="174"/>
                  <a:pt x="654" y="163"/>
                </a:cubicBez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670120" y="4221000"/>
            <a:ext cx="976320" cy="2764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ïnvloeding</a:t>
            </a:r>
            <a:endParaRPr b="0" lang="en-US" sz="1200" spc="-1" strike="noStrike">
              <a:solidFill>
                <a:srgbClr val="ffffff"/>
              </a:solidFill>
              <a:latin typeface="Times New Roman"/>
            </a:endParaRPr>
          </a:p>
        </p:txBody>
      </p:sp>
      <p:sp>
        <p:nvSpPr>
          <p:cNvPr id="132" name=""/>
          <p:cNvSpPr/>
          <p:nvPr/>
        </p:nvSpPr>
        <p:spPr>
          <a:xfrm rot="19383600">
            <a:off x="4414680" y="4754160"/>
            <a:ext cx="1220040" cy="2764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norcoördinatie</a:t>
            </a:r>
            <a:endParaRPr b="0" lang="en-US" sz="1200" spc="-1" strike="noStrike">
              <a:solidFill>
                <a:srgbClr val="ffffff"/>
              </a:solidFill>
              <a:latin typeface="Times New Roman"/>
            </a:endParaRPr>
          </a:p>
        </p:txBody>
      </p:sp>
      <p:sp>
        <p:nvSpPr>
          <p:cNvPr id="133" name=""/>
          <p:cNvSpPr/>
          <p:nvPr/>
        </p:nvSpPr>
        <p:spPr>
          <a:xfrm>
            <a:off x="3429000" y="51055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NGO’s</a:t>
            </a:r>
            <a:endParaRPr b="0" lang="en-US" sz="1200" spc="-1" strike="noStrike">
              <a:solidFill>
                <a:srgbClr val="ffffff"/>
              </a:solidFill>
              <a:latin typeface="Times New Roman"/>
            </a:endParaRPr>
          </a:p>
        </p:txBody>
      </p:sp>
      <p:sp>
        <p:nvSpPr>
          <p:cNvPr id="134" name=""/>
          <p:cNvSpPr/>
          <p:nvPr/>
        </p:nvSpPr>
        <p:spPr>
          <a:xfrm>
            <a:off x="7067520" y="32767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MFO’s</a:t>
            </a:r>
            <a:endParaRPr b="0" lang="en-US" sz="1200" spc="-1" strike="noStrike">
              <a:solidFill>
                <a:srgbClr val="ffffff"/>
              </a:solidFill>
              <a:latin typeface="Times New Roman"/>
            </a:endParaRPr>
          </a:p>
        </p:txBody>
      </p:sp>
      <p:sp>
        <p:nvSpPr>
          <p:cNvPr id="135" name=""/>
          <p:cNvSpPr/>
          <p:nvPr/>
        </p:nvSpPr>
        <p:spPr>
          <a:xfrm>
            <a:off x="4047480" y="3017880"/>
            <a:ext cx="211752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ichtinggevende beleidskaders</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nitorsystemen (M&amp;E)</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itwisseling best practices</a:t>
            </a:r>
            <a:endParaRPr b="0" lang="en-US" sz="1200" spc="-1" strike="noStrike">
              <a:solidFill>
                <a:srgbClr val="ffffff"/>
              </a:solidFill>
              <a:latin typeface="Times New Roman"/>
            </a:endParaRPr>
          </a:p>
        </p:txBody>
      </p:sp>
      <p:sp>
        <p:nvSpPr>
          <p:cNvPr id="136" name=""/>
          <p:cNvSpPr/>
          <p:nvPr/>
        </p:nvSpPr>
        <p:spPr>
          <a:xfrm>
            <a:off x="7059600" y="5486400"/>
            <a:ext cx="1550880" cy="459000"/>
          </a:xfrm>
          <a:prstGeom prst="rect">
            <a:avLst/>
          </a:prstGeom>
          <a:solidFill>
            <a:srgbClr val="000066"/>
          </a:solid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 </a:t>
            </a:r>
            <a:r>
              <a:rPr b="0" lang="nl-NL" sz="1200" spc="-1" strike="noStrike">
                <a:solidFill>
                  <a:srgbClr val="ffffff"/>
                </a:solidFill>
                <a:latin typeface="Times New Roman"/>
              </a:rPr>
              <a:t>voortgang op IDT’s (resultaat land zelf)</a:t>
            </a:r>
            <a:endParaRPr b="0" lang="en-US" sz="1200" spc="-1" strike="noStrike">
              <a:solidFill>
                <a:srgbClr val="ffffff"/>
              </a:solidFill>
              <a:latin typeface="Times New Roman"/>
            </a:endParaRPr>
          </a:p>
        </p:txBody>
      </p:sp>
      <p:sp>
        <p:nvSpPr>
          <p:cNvPr id="137" name=""/>
          <p:cNvSpPr/>
          <p:nvPr/>
        </p:nvSpPr>
        <p:spPr>
          <a:xfrm>
            <a:off x="7074000" y="4114800"/>
            <a:ext cx="1474560" cy="459000"/>
          </a:xfrm>
          <a:prstGeom prst="rect">
            <a:avLst/>
          </a:prstGeom>
          <a:solidFill>
            <a:srgbClr val="000066"/>
          </a:solid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ffectiviteit van inspanningen HMA</a:t>
            </a:r>
            <a:endParaRPr b="0" lang="en-US" sz="1200" spc="-1" strike="noStrike">
              <a:solidFill>
                <a:srgbClr val="ffffff"/>
              </a:solidFill>
              <a:latin typeface="Times New Roman"/>
            </a:endParaRPr>
          </a:p>
        </p:txBody>
      </p:sp>
      <p:sp>
        <p:nvSpPr>
          <p:cNvPr id="138" name=""/>
          <p:cNvSpPr/>
          <p:nvPr/>
        </p:nvSpPr>
        <p:spPr>
          <a:xfrm>
            <a:off x="6472080" y="4873680"/>
            <a:ext cx="52560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243480" y="4191120"/>
            <a:ext cx="80820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707160" y="5562720"/>
            <a:ext cx="29052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09800" y="4591080"/>
            <a:ext cx="99144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elpunt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p s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iveau</a:t>
            </a:r>
            <a:endParaRPr b="0" lang="en-US" sz="1200" spc="-1" strike="noStrike">
              <a:solidFill>
                <a:srgbClr val="ffffff"/>
              </a:solidFill>
              <a:latin typeface="Times New Roman"/>
            </a:endParaRPr>
          </a:p>
        </p:txBody>
      </p:sp>
      <p:sp>
        <p:nvSpPr>
          <p:cNvPr id="142" name=""/>
          <p:cNvSpPr/>
          <p:nvPr/>
        </p:nvSpPr>
        <p:spPr>
          <a:xfrm>
            <a:off x="5040" y="3295800"/>
            <a:ext cx="99144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elpunt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tiona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iveau</a:t>
            </a:r>
            <a:endParaRPr b="0" lang="en-US" sz="1200" spc="-1" strike="noStrike">
              <a:solidFill>
                <a:srgbClr val="ffffff"/>
              </a:solidFill>
              <a:latin typeface="Times New Roman"/>
            </a:endParaRPr>
          </a:p>
        </p:txBody>
      </p:sp>
      <p:sp>
        <p:nvSpPr>
          <p:cNvPr id="143" name=""/>
          <p:cNvSpPr/>
          <p:nvPr/>
        </p:nvSpPr>
        <p:spPr>
          <a:xfrm>
            <a:off x="996840" y="347832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257480" y="347832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996840" y="461160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257480" y="459108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Wat hielp?</a:t>
            </a:r>
            <a:endParaRPr b="0" lang="en-US" sz="4400" spc="-1" strike="noStrike">
              <a:solidFill>
                <a:srgbClr val="fdc269"/>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e naar de post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integreerde organisati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els verminder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e of urgency: roep om resultat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ster met een visie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estemming parlement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ungroep SB</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Wat blokkeerde?</a:t>
            </a:r>
            <a:endParaRPr b="0" lang="en-US" sz="4400" spc="-1" strike="noStrike">
              <a:solidFill>
                <a:srgbClr val="fdc26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aatgerichtheid gedragen door financien en control (mechanistis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satiecultuu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eelsbelei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ed in beleidsontwikkeling, niet in communicatie en naar buiten trede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Instrumentarium</a:t>
            </a:r>
            <a:endParaRPr b="0" lang="en-US" sz="4400" spc="-1" strike="noStrike">
              <a:solidFill>
                <a:srgbClr val="fdc269"/>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en Monitor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RM: training, normprofielen, L&amp;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eers kader: COCA, ISO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5:44:56Z</dcterms:created>
  <dc:creator>Methorst, Dicky</dc:creator>
  <dc:description/>
  <dc:language>en-US</dc:language>
  <cp:lastModifiedBy>Methorst, Dicky</cp:lastModifiedBy>
  <dcterms:modified xsi:type="dcterms:W3CDTF">2003-03-20T16:23:02Z</dcterms:modified>
  <cp:revision>6</cp:revision>
  <dc:subject/>
  <dc:title>Sectorale Benadering en de organisatie</dc:title>
</cp:coreProperties>
</file>