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8000"/>
          </a:blip>
          <a:srcRect l="0" t="46650" r="0" b="30025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382240" cy="10666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bright="28000"/>
          </a:blip>
          <a:srcRect l="0" t="46650" r="0" b="25537"/>
          <a:stretch/>
        </p:blipFill>
        <p:spPr>
          <a:xfrm>
            <a:off x="0" y="2438280"/>
            <a:ext cx="9144000" cy="1908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76320" y="243828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8600"/>
            <a:ext cx="8381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Vlaamse Vereniging voor Ontwikkelingssamenwerking en technische Bij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VVOB ALS ACTOR VOOR DE SAMENWERKINGSONTWIKKEL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67480" y="1295280"/>
            <a:ext cx="781200" cy="916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34460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KPMG-audit: beslu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752480"/>
            <a:ext cx="8610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66"/>
                </a:solidFill>
                <a:latin typeface="Tahoma"/>
              </a:rPr>
              <a:t>VVOB is een professionele organisatie met gedreven medewerk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66"/>
                </a:solidFill>
                <a:latin typeface="Tahoma"/>
              </a:rPr>
              <a:t>VVOB past een strikt financieel beheer en controle toe met sluitende budge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66"/>
                </a:solidFill>
                <a:latin typeface="Tahoma"/>
              </a:rPr>
              <a:t>De werking van VVOB kan worden ingepast binnen de hervorming van het Vlaams overheidsbeleid met scheiding tussen beleid en uitvo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66"/>
                </a:solidFill>
                <a:latin typeface="Tahoma"/>
              </a:rPr>
              <a:t>Naast een aantal technische verbeterpunten kan de werkdruk verlaagd worden door een grotere stroomlijning van de proce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76320" y="243828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28600"/>
            <a:ext cx="8381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Vlaamse Vereniging voor Ontwikkelingssamenwerking en technische Bij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VVOB</a:t>
            </a:r>
            <a:r>
              <a:rPr b="1" lang="nl-BE" sz="3200" spc="-1" strike="noStrike">
                <a:solidFill>
                  <a:srgbClr val="000066"/>
                </a:solidFill>
                <a:latin typeface="Tahoma"/>
              </a:rPr>
              <a:t> en Beter Bestuurlijk Bel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467480" y="1295280"/>
            <a:ext cx="781200" cy="91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34460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5800" y="1523880"/>
          <a:ext cx="7772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nl-NL" sz="3300" spc="-1" strike="noStrike">
                <a:solidFill>
                  <a:srgbClr val="000066"/>
                </a:solidFill>
                <a:latin typeface="Arial Narrow"/>
              </a:rPr>
              <a:t>REORGANISATIE VLAAMSE OVERHEID</a:t>
            </a:r>
            <a:br>
              <a:rPr sz="2900"/>
            </a:br>
            <a:r>
              <a:rPr b="1" lang="nl-BE" sz="2900" spc="-1" strike="noStrike">
                <a:solidFill>
                  <a:srgbClr val="000066"/>
                </a:solidFill>
                <a:latin typeface="Arial Narrow"/>
              </a:rPr>
              <a:t>                          </a:t>
            </a:r>
            <a:r>
              <a:rPr b="1" lang="nl-NL" sz="2900" spc="-1" strike="noStrike">
                <a:solidFill>
                  <a:srgbClr val="000066"/>
                </a:solidFill>
                <a:latin typeface="Arial Narrow"/>
              </a:rPr>
              <a:t>Krachtlijnen van de hervorming</a:t>
            </a:r>
            <a:endParaRPr b="0" lang="en-US" sz="2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66"/>
                </a:solidFill>
                <a:latin typeface="Tahoma"/>
              </a:rPr>
              <a:t>VVOB en BBB: STRUCTUUR AGENTSCHAP IS/S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46120" y="2060640"/>
          <a:ext cx="78436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2060640"/>
                    <a:ext cx="78436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04920" y="228600"/>
            <a:ext cx="8153280" cy="6265440"/>
            <a:chOff x="304920" y="228600"/>
            <a:chExt cx="8153280" cy="6265440"/>
          </a:xfrm>
        </p:grpSpPr>
        <p:sp>
          <p:nvSpPr>
            <p:cNvPr id="86" name=""/>
            <p:cNvSpPr/>
            <p:nvPr/>
          </p:nvSpPr>
          <p:spPr>
            <a:xfrm>
              <a:off x="304920" y="22860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66"/>
                  </a:solidFill>
                  <a:latin typeface="Tahoma"/>
                </a:rPr>
                <a:t>Partnerlanden van VVOB (2002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304920" y="1560600"/>
            <a:ext cx="8076960" cy="491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560600"/>
                      <a:ext cx="8076960" cy="491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5257800" y="4804200"/>
              <a:ext cx="685800" cy="337320"/>
            </a:xfrm>
            <a:prstGeom prst="borderCallout2">
              <a:avLst>
                <a:gd name="adj1" fmla="val 18750"/>
                <a:gd name="adj2" fmla="val -8333"/>
                <a:gd name="adj3" fmla="val 33027"/>
                <a:gd name="adj4" fmla="val -31481"/>
                <a:gd name="adj5" fmla="val -32726"/>
                <a:gd name="adj6" fmla="val -518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Zuid</a:t>
              </a:r>
              <a:r>
                <a:rPr b="0" lang="nl-NL" sz="800" spc="-1" strike="noStrike">
                  <a:solidFill>
                    <a:srgbClr val="000000"/>
                  </a:solidFill>
                  <a:latin typeface="Tahoma"/>
                </a:rPr>
                <a:t>-Afrik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48520" y="2899440"/>
              <a:ext cx="46008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18277"/>
                <a:gd name="adj5" fmla="val 76333"/>
                <a:gd name="adj6" fmla="val 12032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8880" y="3204360"/>
              <a:ext cx="56844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-56981"/>
                <a:gd name="adj5" fmla="val 92500"/>
                <a:gd name="adj6" fmla="val -10221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3393360"/>
              <a:ext cx="64296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-34074"/>
                <a:gd name="adj5" fmla="val 157333"/>
                <a:gd name="adj6" fmla="val -5701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Suri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8800" y="4575960"/>
              <a:ext cx="65412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33495"/>
                <a:gd name="adj5" fmla="val 65333"/>
                <a:gd name="adj6" fmla="val 1586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Tahoma"/>
                </a:rPr>
                <a:t>Chil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3720" y="3890160"/>
              <a:ext cx="56016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39777"/>
                <a:gd name="adj5" fmla="val -12666"/>
                <a:gd name="adj6" fmla="val 17038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71600" y="6248520"/>
              <a:ext cx="152280" cy="152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77520" y="6095160"/>
              <a:ext cx="36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ahoma"/>
                </a:rPr>
                <a:t>Vlaamse </a:t>
              </a: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r>
                <a:rPr b="0" lang="nl-NL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nl-NL" sz="2000" spc="-1" strike="noStrike">
                  <a:solidFill>
                    <a:srgbClr val="ffff99"/>
                  </a:solidFill>
                  <a:latin typeface="Tahoma"/>
                </a:rPr>
                <a:t>Federale </a:t>
              </a: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Reg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624852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7960" y="6095160"/>
              <a:ext cx="6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I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82480" y="2899440"/>
              <a:ext cx="57240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37226"/>
                <a:gd name="adj5" fmla="val 62333"/>
                <a:gd name="adj6" fmla="val 164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Marokk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99120" y="2518560"/>
              <a:ext cx="57240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44412"/>
                <a:gd name="adj5" fmla="val 77000"/>
                <a:gd name="adj6" fmla="val 183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Frankrij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53880" y="3204360"/>
              <a:ext cx="42300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-51092"/>
                <a:gd name="adj5" fmla="val 70500"/>
                <a:gd name="adj6" fmla="val -893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5960" y="3509280"/>
              <a:ext cx="64404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23972"/>
                <a:gd name="adj5" fmla="val -1833"/>
                <a:gd name="adj6" fmla="val 13809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1600" y="4347360"/>
              <a:ext cx="62892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29032"/>
                <a:gd name="adj5" fmla="val 27000"/>
                <a:gd name="adj6" fmla="val 14850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Botswa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5120" y="4423680"/>
              <a:ext cx="65016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-35578"/>
                <a:gd name="adj5" fmla="val -45166"/>
                <a:gd name="adj6" fmla="val -6281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Zimbabw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1800" y="3813840"/>
              <a:ext cx="47016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-42902"/>
                <a:gd name="adj5" fmla="val -9666"/>
                <a:gd name="adj6" fmla="val -7406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Keny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84680" y="3933000"/>
              <a:ext cx="52056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158981"/>
                <a:gd name="adj5" fmla="val 105000"/>
                <a:gd name="adj6" fmla="val 20815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Zamb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120" y="4118760"/>
              <a:ext cx="535680" cy="215640"/>
            </a:xfrm>
            <a:prstGeom prst="borderCallout2">
              <a:avLst>
                <a:gd name="adj1" fmla="val 18750"/>
                <a:gd name="adj2" fmla="val -8333"/>
                <a:gd name="adj3" fmla="val 51064"/>
                <a:gd name="adj4" fmla="val -66851"/>
                <a:gd name="adj5" fmla="val -98833"/>
                <a:gd name="adj6" fmla="val -10342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800" spc="-1" strike="noStrike">
                  <a:solidFill>
                    <a:srgbClr val="000000"/>
                  </a:solidFill>
                  <a:latin typeface="Arial"/>
                </a:rPr>
                <a:t>Ru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3398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Tahoma"/>
              </a:rPr>
              <a:t>VVOB-realisaties in 2002 (in milj. BE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809720"/>
          <a:ext cx="8382240" cy="50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09720"/>
                    <a:ext cx="838224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162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66"/>
                </a:solidFill>
                <a:latin typeface="Tahoma"/>
              </a:rPr>
              <a:t>Sectorale spreiding VVOB-programma’s in 200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4784760" y="2444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114800" y="1963800"/>
          <a:ext cx="5029200" cy="390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963800"/>
                    <a:ext cx="502920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114800" y="2438280"/>
            <a:ext cx="0" cy="259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362320"/>
            <a:ext cx="0" cy="259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2362320"/>
            <a:ext cx="3885840" cy="3276000"/>
            <a:chOff x="152280" y="2362320"/>
            <a:chExt cx="3885840" cy="3276000"/>
          </a:xfrm>
        </p:grpSpPr>
        <p:grpSp>
          <p:nvGrpSpPr>
            <p:cNvPr id="118" name=""/>
            <p:cNvGrpSpPr/>
            <p:nvPr/>
          </p:nvGrpSpPr>
          <p:grpSpPr>
            <a:xfrm>
              <a:off x="158760" y="2367000"/>
              <a:ext cx="3871800" cy="3265920"/>
              <a:chOff x="158760" y="2367000"/>
              <a:chExt cx="3871800" cy="326592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58760" y="2367000"/>
                <a:ext cx="3071160" cy="652680"/>
                <a:chOff x="158760" y="2367000"/>
                <a:chExt cx="3071160" cy="6526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85040" y="2367000"/>
                  <a:ext cx="30182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roeps Technisch  (BT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58760" y="2367000"/>
                  <a:ext cx="307116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230280" y="2367000"/>
                <a:ext cx="800280" cy="652680"/>
                <a:chOff x="3230280" y="2367000"/>
                <a:chExt cx="800280" cy="652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56560" y="2367000"/>
                  <a:ext cx="74736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230280" y="2367000"/>
                  <a:ext cx="80028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58760" y="3020040"/>
                <a:ext cx="3071160" cy="652680"/>
                <a:chOff x="158760" y="3020040"/>
                <a:chExt cx="3071160" cy="652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85040" y="3020040"/>
                  <a:ext cx="30182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raren Opleiding (L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58760" y="3020040"/>
                  <a:ext cx="307116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230280" y="3020040"/>
                <a:ext cx="800280" cy="652680"/>
                <a:chOff x="3230280" y="3020040"/>
                <a:chExt cx="800280" cy="6526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256560" y="3020040"/>
                  <a:ext cx="74736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r>
                    <a:rPr b="1" lang="nl-B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30280" y="3020040"/>
                  <a:ext cx="80028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58760" y="3673440"/>
                <a:ext cx="3071160" cy="652680"/>
                <a:chOff x="158760" y="3673440"/>
                <a:chExt cx="3071160" cy="652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85040" y="3673440"/>
                  <a:ext cx="30182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iversitair Onderwijs (U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8760" y="3673440"/>
                  <a:ext cx="307116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230280" y="3673440"/>
                <a:ext cx="800280" cy="652680"/>
                <a:chOff x="3230280" y="3673440"/>
                <a:chExt cx="800280" cy="652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256560" y="3673440"/>
                  <a:ext cx="74736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B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230280" y="3673440"/>
                  <a:ext cx="80028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58760" y="4326480"/>
                <a:ext cx="3071160" cy="652680"/>
                <a:chOff x="158760" y="4326480"/>
                <a:chExt cx="3071160" cy="652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85040" y="4326480"/>
                  <a:ext cx="30182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sis Vorming (BV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58760" y="4326480"/>
                  <a:ext cx="307116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230280" y="4326480"/>
                <a:ext cx="800280" cy="652680"/>
                <a:chOff x="3230280" y="4326480"/>
                <a:chExt cx="800280" cy="652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256560" y="4326480"/>
                  <a:ext cx="74736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30280" y="4326480"/>
                  <a:ext cx="80028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58760" y="4979880"/>
                <a:ext cx="3071160" cy="653040"/>
                <a:chOff x="158760" y="4979880"/>
                <a:chExt cx="3071160" cy="653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85040" y="4979880"/>
                  <a:ext cx="301824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egepaste Research (T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58760" y="4979880"/>
                  <a:ext cx="307116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230280" y="4979880"/>
                <a:ext cx="800280" cy="653040"/>
                <a:chOff x="3230280" y="4979880"/>
                <a:chExt cx="800280" cy="653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256560" y="4979880"/>
                  <a:ext cx="74736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nl-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30280" y="4979880"/>
                  <a:ext cx="80028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152280" y="2362320"/>
              <a:ext cx="3885840" cy="3276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240" y="47293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Markante stappen DGIS-werk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42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Behalen sectorale en geografische doelstellingen globaal plan 1998 – 2002:</a:t>
            </a:r>
            <a:br>
              <a:rPr sz="2400"/>
            </a:br>
            <a:r>
              <a:rPr b="1" lang="nl-BE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i="1" lang="nl-NL" sz="2000" spc="-1" strike="noStrike">
                <a:solidFill>
                  <a:srgbClr val="000066"/>
                </a:solidFill>
                <a:latin typeface="Tahoma"/>
              </a:rPr>
              <a:t>- sectorale prioriteiten: basisvorming,</a:t>
            </a: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nl-NL" sz="2000" spc="-1" strike="noStrike">
                <a:solidFill>
                  <a:srgbClr val="000066"/>
                </a:solidFill>
                <a:latin typeface="Tahoma"/>
              </a:rPr>
              <a:t>beroepstechnische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i="1" lang="nl-BE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i="1" lang="nl-NL" sz="2000" spc="-1" strike="noStrike">
                <a:solidFill>
                  <a:srgbClr val="000066"/>
                </a:solidFill>
                <a:latin typeface="Tahoma"/>
              </a:rPr>
              <a:t>opleiding, lerarenop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i="1" lang="nl-BE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i="1" lang="nl-NL" sz="2000" spc="-1" strike="noStrike">
                <a:solidFill>
                  <a:srgbClr val="000066"/>
                </a:solidFill>
                <a:latin typeface="Tahoma"/>
              </a:rPr>
              <a:t>- geografische prioriteiten: 50 % Sub-Sa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Goede samenwerking met DGIS-administratie binnen stuurgroep VVOB - D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Opstellen globaal plan 2003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Jaarprogramma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Interne evaluatie voor bijsturing proje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42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Arial Black"/>
              </a:rPr>
              <a:t>Bijdrage VVOB bij samenwerking van Vlaanderen in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spcBef>
                <a:spcPts val="601"/>
              </a:spcBef>
              <a:buClr>
                <a:srgbClr val="00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Uitvoering van de Vlaamse VVOB-projecten in Cub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Zuid-Afrika, Chili en Tunesi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01"/>
              </a:spcBef>
              <a:buClr>
                <a:srgbClr val="00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Deelname VVOB aan de hervorming van de Vlaamse administratie (Beter Bestuurlijk Beleid) </a:t>
            </a:r>
            <a:br>
              <a:rPr sz="2400"/>
            </a:b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01"/>
              </a:spcBef>
              <a:buClr>
                <a:srgbClr val="00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Ondersteuning Ministerie Vlaamse Gemeenschap bij de uitbouw van de Vlaamse directe samenwerking</a:t>
            </a:r>
            <a:br>
              <a:rPr sz="2400"/>
            </a:b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7200" indent="-187200">
              <a:spcBef>
                <a:spcPts val="601"/>
              </a:spcBef>
              <a:buClr>
                <a:srgbClr val="00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Uitbouw VVOB-vertegenwoordiging in Zuid-Afr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8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 Black"/>
              </a:rPr>
              <a:t>VVOB en KPM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89280" y="3892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429000"/>
            <a:ext cx="114300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505320"/>
            <a:ext cx="6098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3352680"/>
            <a:ext cx="38124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66"/>
                </a:solidFill>
                <a:latin typeface="Tahoma"/>
              </a:rPr>
              <a:t>Raad: staat in voor het strategisch beleid van VVOB, voor de evaluatie en de controle op de uitvoering van dit belei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5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66"/>
                </a:solidFill>
                <a:latin typeface="Tahoma"/>
              </a:rPr>
              <a:t>Uitvoering van het beleid wordt gedelegeerd naar het VVOB-secretari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5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66"/>
                </a:solidFill>
                <a:latin typeface="Tahoma"/>
              </a:rPr>
              <a:t>Nieuwe organisatiestructuur van VVOB dient ingepast binnen Beter Bestuurlijk Bele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8088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KPMG: beleidsstructuur VV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66"/>
                </a:solidFill>
                <a:latin typeface="Tahoma"/>
              </a:rPr>
              <a:t>KPMG-audit en de werking van het VVOB-secretaria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Delegatie operationele uitvoering beleid naar SG en managementcomité</a:t>
            </a:r>
            <a:br>
              <a:rPr sz="2400"/>
            </a:b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Overleg met de overheid via een platform (stuurgroep DGIS, stuurgroep Vlaanderen)</a:t>
            </a:r>
            <a:br>
              <a:rPr sz="2400"/>
            </a:b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Inhoudelijke sturing via SWA en stuurgroepen</a:t>
            </a:r>
            <a:br>
              <a:rPr sz="2400"/>
            </a:b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Behoefte aan aangepaste personeelsformatie, personeelsstatuut en decentralisatie (delegatie)</a:t>
            </a:r>
            <a:br>
              <a:rPr sz="2400"/>
            </a:b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Voorstel tot harmonisatie methodologische aanpak </a:t>
            </a:r>
            <a:r>
              <a:rPr b="1" lang="nl-BE" sz="2400" spc="-1" strike="noStrike">
                <a:solidFill>
                  <a:srgbClr val="000066"/>
                </a:solidFill>
                <a:latin typeface="Tahoma"/>
              </a:rPr>
              <a:t>(PCM) </a:t>
            </a:r>
            <a:r>
              <a:rPr b="1" lang="nl-NL" sz="2400" spc="-1" strike="noStrike">
                <a:solidFill>
                  <a:srgbClr val="000066"/>
                </a:solidFill>
                <a:latin typeface="Tahoma"/>
              </a:rPr>
              <a:t>voor DGIS en Vla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12:59:00Z</dcterms:created>
  <dc:creator>Huib Huyse</dc:creator>
  <dc:description/>
  <dc:language>en-US</dc:language>
  <cp:lastModifiedBy>WB</cp:lastModifiedBy>
  <cp:lastPrinted>2002-04-21T08:58:30Z</cp:lastPrinted>
  <dcterms:modified xsi:type="dcterms:W3CDTF">2003-03-13T14:40:56Z</dcterms:modified>
  <cp:revision>244</cp:revision>
  <dc:subject/>
  <dc:title>VVOB in de wereld</dc:title>
</cp:coreProperties>
</file>