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28000"/>
          </a:blip>
          <a:srcRect l="0" t="46650" r="0" b="30025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382240" cy="10666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14300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781200" cy="91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4392" t="17461" r="3010" b="20059"/>
          <a:stretch/>
        </p:blipFill>
        <p:spPr>
          <a:xfrm>
            <a:off x="762120" y="762120"/>
            <a:ext cx="1218960" cy="73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2276640"/>
            <a:ext cx="799308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 Black"/>
              </a:rPr>
              <a:t>South African – Flemish (SAF)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 Black"/>
              </a:rPr>
              <a:t>Development Programme</a:t>
            </a:r>
            <a:br>
              <a:rPr sz="2800"/>
            </a:br>
            <a:br>
              <a:rPr sz="2800"/>
            </a:br>
            <a:r>
              <a:rPr b="0" lang="nl-BE" sz="3200" spc="-1" strike="noStrike">
                <a:solidFill>
                  <a:srgbClr val="000000"/>
                </a:solidFill>
                <a:latin typeface="Arial Black"/>
              </a:rPr>
              <a:t>DGOS-attachés 2003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7002360" y="1371600"/>
            <a:ext cx="8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 Black"/>
              </a:rPr>
              <a:t>VV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>
            <a:lum bright="28000"/>
          </a:blip>
          <a:srcRect l="0" t="46650" r="0" b="25537"/>
          <a:stretch/>
        </p:blipFill>
        <p:spPr>
          <a:xfrm>
            <a:off x="0" y="4800600"/>
            <a:ext cx="9144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492360" y="2492280"/>
            <a:ext cx="187164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3429000"/>
            <a:ext cx="18003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4365720"/>
            <a:ext cx="180036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5229360"/>
            <a:ext cx="187164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Fin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4365720"/>
            <a:ext cx="1873080" cy="337320"/>
          </a:xfrm>
          <a:prstGeom prst="rect">
            <a:avLst/>
          </a:prstGeom>
          <a:noFill/>
          <a:ln w="9360">
            <a:solidFill>
              <a:srgbClr val="f864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64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3429000"/>
            <a:ext cx="187308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2492280"/>
            <a:ext cx="936360" cy="360360"/>
          </a:xfrm>
          <a:custGeom>
            <a:avLst/>
            <a:gdLst>
              <a:gd name="textAreaLeft" fmla="*/ 146160 w 936360"/>
              <a:gd name="textAreaRight" fmla="*/ 819360 w 93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429000"/>
            <a:ext cx="936720" cy="360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0" idx="3"/>
            <a:endCxn id="221" idx="0"/>
          </p:cNvCxnSpPr>
          <p:nvPr/>
        </p:nvCxnSpPr>
        <p:spPr>
          <a:xfrm>
            <a:off x="5363640" y="2680920"/>
            <a:ext cx="756360" cy="748440"/>
          </a:xfrm>
          <a:prstGeom prst="curvedConnector2">
            <a:avLst/>
          </a:prstGeom>
          <a:ln w="50760">
            <a:solidFill>
              <a:srgbClr val="969696"/>
            </a:solidFill>
            <a:prstDash val="dash"/>
            <a:miter/>
            <a:tailEnd len="med" type="triangle" w="med"/>
          </a:ln>
        </p:spPr>
      </p:cxnSp>
      <p:cxnSp>
        <p:nvCxnSpPr>
          <p:cNvPr id="229" name=""/>
          <p:cNvCxnSpPr>
            <a:stCxn id="221" idx="2"/>
            <a:endCxn id="222" idx="0"/>
          </p:cNvCxnSpPr>
          <p:nvPr/>
        </p:nvCxnSpPr>
        <p:spPr>
          <a:xfrm flipV="1" rot="10800000">
            <a:off x="6118920" y="3804840"/>
            <a:ext cx="1080" cy="5612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2" idx="2"/>
            <a:endCxn id="223" idx="3"/>
          </p:cNvCxnSpPr>
          <p:nvPr/>
        </p:nvCxnSpPr>
        <p:spPr>
          <a:xfrm rot="5400000">
            <a:off x="5402880" y="4701960"/>
            <a:ext cx="676800" cy="75636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1"/>
            <a:endCxn id="224" idx="2"/>
          </p:cNvCxnSpPr>
          <p:nvPr/>
        </p:nvCxnSpPr>
        <p:spPr>
          <a:xfrm rot="10800000">
            <a:off x="2770920" y="4710960"/>
            <a:ext cx="721440" cy="7070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4" idx="0"/>
            <a:endCxn id="225" idx="2"/>
          </p:cNvCxnSpPr>
          <p:nvPr/>
        </p:nvCxnSpPr>
        <p:spPr>
          <a:xfrm flipV="1">
            <a:off x="2771280" y="3804480"/>
            <a:ext cx="1080" cy="5612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5" idx="0"/>
            <a:endCxn id="220" idx="1"/>
          </p:cNvCxnSpPr>
          <p:nvPr/>
        </p:nvCxnSpPr>
        <p:spPr>
          <a:xfrm flipH="1" flipV="1" rot="5400000">
            <a:off x="2757960" y="2694240"/>
            <a:ext cx="748440" cy="721440"/>
          </a:xfrm>
          <a:prstGeom prst="curvedConnector2">
            <a:avLst/>
          </a:prstGeom>
          <a:ln w="50760">
            <a:solidFill>
              <a:srgbClr val="969696"/>
            </a:solidFill>
            <a:prstDash val="dash"/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PCM - Procedures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Implementation &amp; Monitoring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4005360"/>
            <a:ext cx="2376720" cy="107928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 Black"/>
              </a:rPr>
              <a:t>PCM - Procedures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Implementation &amp; Monitoring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242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2997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Involved stakehold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299736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team, partner institutions, beneficiaries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3933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A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2360" y="24210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chieve the project’s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3860640"/>
            <a:ext cx="554508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for bids &amp; contracting with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ail programming &amp; implementation of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dgeting &amp; management of project fin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-orientation of implementation, if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itoring &amp; mid-term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609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Outpu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60930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d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27280" y="17002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64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3789360"/>
            <a:ext cx="7991280" cy="0"/>
          </a:xfrm>
          <a:prstGeom prst="line">
            <a:avLst/>
          </a:prstGeom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6021360"/>
            <a:ext cx="7991640" cy="0"/>
          </a:xfrm>
          <a:prstGeom prst="line">
            <a:avLst/>
          </a:prstGeom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 Black"/>
              </a:rPr>
              <a:t>PCM - Procedures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Implementation &amp; Monitoring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18446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6400"/>
                </a:solidFill>
                <a:latin typeface="Tahoma"/>
              </a:rPr>
              <a:t>Monitoring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27082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6400"/>
                </a:solidFill>
                <a:uFillTx/>
                <a:latin typeface="Tahoma"/>
              </a:rPr>
              <a:t>Progress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16360" y="270828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6400"/>
                </a:solidFill>
                <a:uFillTx/>
                <a:latin typeface="Tahoma"/>
              </a:rPr>
              <a:t>Result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357720"/>
            <a:ext cx="3672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llow up of operational planning &amp; financial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a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d by SA partners &amp; reviewed/ completed by the VV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3357720"/>
            <a:ext cx="4032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ies the output &amp; degree of re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at th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d by SA partners &amp; reviewed/ completed by Flanders expert &amp; the VV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 Black"/>
              </a:rPr>
              <a:t>PCM - Procedures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Implementation &amp; Monitoring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8000" y="177336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6400"/>
                </a:solidFill>
                <a:latin typeface="Tahoma"/>
              </a:rPr>
              <a:t>Implementation &amp; Monitor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A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242100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VV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2781360"/>
            <a:ext cx="3816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imple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respo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monthly PMR (narrativ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logframe excel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ar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ant feedback about t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ning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2781360"/>
            <a:ext cx="4321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monthly progress monito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 based on PM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d by SA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 monthly field visits to t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si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y-to-day availability for na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d of assitance (</a:t>
            </a: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except </a:t>
            </a: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finan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tion of exchanges, shor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 missio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 Black"/>
              </a:rPr>
              <a:t>PCM - Procedures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Implementation &amp; Monitoring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170028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6400"/>
                </a:solidFill>
                <a:latin typeface="Tahoma"/>
              </a:rPr>
              <a:t>Progress Monitoring Reporting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2060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2060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a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2565360"/>
            <a:ext cx="3024360" cy="91692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s 3-monthly narrative PM Report + Log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2708280"/>
            <a:ext cx="3456000" cy="64260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s 3-monthly PM report based on SA repo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51280" y="3213000"/>
            <a:ext cx="151272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2852640"/>
            <a:ext cx="1512720" cy="7164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3500280"/>
            <a:ext cx="3024360" cy="36828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s Flanders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51280" y="3068640"/>
            <a:ext cx="1512720" cy="64764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64000" y="4149720"/>
            <a:ext cx="3456000" cy="64260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ort sent to VVOB Flanders and concerned depart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03280" y="3860640"/>
            <a:ext cx="0" cy="28764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3860640"/>
            <a:ext cx="0" cy="28764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4149720"/>
            <a:ext cx="107964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6400"/>
                </a:solidFill>
                <a:latin typeface="Tahoma"/>
              </a:rPr>
              <a:t>Agre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6920" y="4149720"/>
            <a:ext cx="172908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6400"/>
                </a:solidFill>
                <a:latin typeface="Tahoma"/>
              </a:rPr>
              <a:t>Does not ag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80000" y="4365720"/>
            <a:ext cx="1584000" cy="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4797360"/>
            <a:ext cx="3313440" cy="64260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ner writes his ow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92360" y="4508640"/>
            <a:ext cx="0" cy="28728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4797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4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5928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08000" y="4508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79640" y="4508640"/>
            <a:ext cx="0" cy="144360"/>
          </a:xfrm>
          <a:prstGeom prst="line">
            <a:avLst/>
          </a:prstGeom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4653000"/>
            <a:ext cx="33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79640" y="4653000"/>
            <a:ext cx="3384360" cy="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5445000"/>
            <a:ext cx="7993080" cy="58716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Both reports are reviewed by expert at the time of the result monitoring or mid-term review and advice is given to SAP &amp; Fla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6237360"/>
            <a:ext cx="7993080" cy="64260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sion on the continuation or discontinuance of the funding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00720" y="6021360"/>
            <a:ext cx="0" cy="21600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5157720"/>
            <a:ext cx="0" cy="28728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93080" y="4797360"/>
            <a:ext cx="0" cy="647640"/>
          </a:xfrm>
          <a:prstGeom prst="line">
            <a:avLst/>
          </a:prstGeom>
          <a:ln w="9360">
            <a:solidFill>
              <a:srgbClr val="5e57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61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54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492360" y="2492280"/>
            <a:ext cx="187164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3429000"/>
            <a:ext cx="18003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19640" y="4365720"/>
            <a:ext cx="180036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5229360"/>
            <a:ext cx="187164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Tahoma"/>
              </a:rPr>
              <a:t>Fin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35280" y="4365720"/>
            <a:ext cx="1873080" cy="33732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35280" y="3429000"/>
            <a:ext cx="1873080" cy="368280"/>
          </a:xfrm>
          <a:prstGeom prst="rect">
            <a:avLst/>
          </a:prstGeom>
          <a:noFill/>
          <a:ln w="9360">
            <a:solidFill>
              <a:srgbClr val="f864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6400"/>
                </a:solidFill>
                <a:latin typeface="Tahoma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95640" y="2492280"/>
            <a:ext cx="936360" cy="360360"/>
          </a:xfrm>
          <a:custGeom>
            <a:avLst/>
            <a:gdLst>
              <a:gd name="textAreaLeft" fmla="*/ 146160 w 936360"/>
              <a:gd name="textAreaRight" fmla="*/ 819360 w 93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24360" y="3429000"/>
            <a:ext cx="936720" cy="360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94" idx="3"/>
            <a:endCxn id="295" idx="0"/>
          </p:cNvCxnSpPr>
          <p:nvPr/>
        </p:nvCxnSpPr>
        <p:spPr>
          <a:xfrm>
            <a:off x="5363640" y="2680920"/>
            <a:ext cx="756360" cy="748440"/>
          </a:xfrm>
          <a:prstGeom prst="curvedConnector2">
            <a:avLst/>
          </a:prstGeom>
          <a:ln w="50760">
            <a:solidFill>
              <a:srgbClr val="969696"/>
            </a:solidFill>
            <a:prstDash val="dash"/>
            <a:miter/>
            <a:tailEnd len="med" type="triangle" w="med"/>
          </a:ln>
        </p:spPr>
      </p:cxnSp>
      <p:cxnSp>
        <p:nvCxnSpPr>
          <p:cNvPr id="303" name=""/>
          <p:cNvCxnSpPr>
            <a:stCxn id="295" idx="2"/>
            <a:endCxn id="296" idx="0"/>
          </p:cNvCxnSpPr>
          <p:nvPr/>
        </p:nvCxnSpPr>
        <p:spPr>
          <a:xfrm flipV="1" rot="10800000">
            <a:off x="6118920" y="3804840"/>
            <a:ext cx="1080" cy="5612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6" idx="2"/>
            <a:endCxn id="297" idx="3"/>
          </p:cNvCxnSpPr>
          <p:nvPr/>
        </p:nvCxnSpPr>
        <p:spPr>
          <a:xfrm rot="5400000">
            <a:off x="5402880" y="4701960"/>
            <a:ext cx="676800" cy="75636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1"/>
            <a:endCxn id="298" idx="2"/>
          </p:cNvCxnSpPr>
          <p:nvPr/>
        </p:nvCxnSpPr>
        <p:spPr>
          <a:xfrm rot="10800000">
            <a:off x="2770920" y="4710960"/>
            <a:ext cx="721440" cy="7070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8" idx="0"/>
            <a:endCxn id="299" idx="2"/>
          </p:cNvCxnSpPr>
          <p:nvPr/>
        </p:nvCxnSpPr>
        <p:spPr>
          <a:xfrm flipV="1">
            <a:off x="2771280" y="3804480"/>
            <a:ext cx="1080" cy="5612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9" idx="0"/>
            <a:endCxn id="294" idx="1"/>
          </p:cNvCxnSpPr>
          <p:nvPr/>
        </p:nvCxnSpPr>
        <p:spPr>
          <a:xfrm flipH="1" flipV="1" rot="5400000">
            <a:off x="2757960" y="2694240"/>
            <a:ext cx="748440" cy="721440"/>
          </a:xfrm>
          <a:prstGeom prst="curvedConnector2">
            <a:avLst/>
          </a:prstGeom>
          <a:ln w="50760">
            <a:solidFill>
              <a:srgbClr val="969696"/>
            </a:solidFill>
            <a:prstDash val="dash"/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PCM - Procedures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Evaluation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47640" y="2997360"/>
            <a:ext cx="2376720" cy="12236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 Black"/>
              </a:rPr>
              <a:t>PCM - Procedures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Evaluatio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27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997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Involved stakehold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299736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expert &amp; VVOB in full collaboration with all the partners and project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378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A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227664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ssess the project results &amp; effects in relation to its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9640" y="3789360"/>
            <a:ext cx="554508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ft ToR for mid-term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ry out mid-term evaluation using appropriate 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relevance, efficiency, effectiveness, impact and sustainability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recommendations as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Outpu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602136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d-term evaluation report with recommendations at different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7280" y="1700280"/>
            <a:ext cx="727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6400"/>
                </a:solidFill>
                <a:latin typeface="Tahoma"/>
              </a:rPr>
              <a:t>Mid-Term evaluation </a:t>
            </a:r>
            <a:r>
              <a:rPr b="0" lang="en-US" sz="1800" spc="-1" strike="noStrike">
                <a:solidFill>
                  <a:srgbClr val="f86400"/>
                </a:solidFill>
                <a:latin typeface="Tahoma"/>
              </a:rPr>
              <a:t>(after 1</a:t>
            </a:r>
            <a:r>
              <a:rPr b="0" lang="en-US" sz="1800" spc="-1" strike="noStrike" baseline="30000">
                <a:solidFill>
                  <a:srgbClr val="f86400"/>
                </a:solidFill>
                <a:latin typeface="Tahoma"/>
              </a:rPr>
              <a:t>1/2</a:t>
            </a:r>
            <a:r>
              <a:rPr b="0" lang="en-US" sz="1800" spc="-1" strike="noStrike">
                <a:solidFill>
                  <a:srgbClr val="f86400"/>
                </a:solidFill>
                <a:latin typeface="Tahoma"/>
              </a:rPr>
              <a:t> year for 3 years project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4360" y="3716280"/>
            <a:ext cx="7991280" cy="0"/>
          </a:xfrm>
          <a:prstGeom prst="line">
            <a:avLst/>
          </a:prstGeom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021360"/>
            <a:ext cx="7991280" cy="0"/>
          </a:xfrm>
          <a:prstGeom prst="line">
            <a:avLst/>
          </a:prstGeom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12128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Arial Black"/>
              </a:rPr>
              <a:t>SAF Development Programme</a:t>
            </a:r>
            <a:br>
              <a:rPr sz="1800"/>
            </a:br>
            <a:br>
              <a:rPr sz="1800"/>
            </a:b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ity on the role of Flemish partners (aBB &amp; VVOB) involved in development co-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view of the Flemish-South African Indicative Development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anders policy on Cross Sectoral Themes (C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ity on the role of South African National Treasury in the whol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nation of the Project Cycle Management (PC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to do the financial and other reporting on the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a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 Black"/>
              </a:rPr>
              <a:t>SAF Development Programm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 Taakverdeling aBB &amp; VVOB</a:t>
            </a: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2133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3284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V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3284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36572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6400"/>
                </a:solidFill>
                <a:latin typeface="Tahoma"/>
              </a:rPr>
              <a:t>aB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 Administratie Buitenlands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le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Administration for foreign aff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landers Foreign Policy A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916280"/>
            <a:ext cx="1440000" cy="863280"/>
          </a:xfrm>
          <a:prstGeom prst="ellipse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3068640"/>
            <a:ext cx="1439640" cy="863640"/>
          </a:xfrm>
          <a:prstGeom prst="ellipse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068640"/>
            <a:ext cx="1440000" cy="863640"/>
          </a:xfrm>
          <a:prstGeom prst="ellipse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780000" y="2707920"/>
            <a:ext cx="287280" cy="431640"/>
          </a:xfrm>
          <a:prstGeom prst="line">
            <a:avLst/>
          </a:prstGeom>
          <a:ln w="19080">
            <a:solidFill>
              <a:srgbClr val="5e57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3500280"/>
            <a:ext cx="647640" cy="0"/>
          </a:xfrm>
          <a:prstGeom prst="line">
            <a:avLst/>
          </a:prstGeom>
          <a:ln w="19080">
            <a:solidFill>
              <a:srgbClr val="5e57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788000" y="2707920"/>
            <a:ext cx="287280" cy="431640"/>
          </a:xfrm>
          <a:prstGeom prst="line">
            <a:avLst/>
          </a:prstGeom>
          <a:ln w="19080">
            <a:solidFill>
              <a:srgbClr val="5e57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437000"/>
            <a:ext cx="4469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6400"/>
                </a:solidFill>
                <a:latin typeface="Tahoma"/>
              </a:rPr>
              <a:t>VVO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 Vlaamse Vereniging voor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twikkelingssamenwerking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 Technische Bij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 Flemish Office for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ational Co-oper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d Technica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istan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84360" y="2852640"/>
            <a:ext cx="3959280" cy="1297080"/>
          </a:xfrm>
          <a:prstGeom prst="ellipse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37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Fla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661000"/>
            <a:ext cx="4248360" cy="91692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6400"/>
                </a:solidFill>
                <a:latin typeface="Tahoma"/>
              </a:rPr>
              <a:t>Flanders</a:t>
            </a:r>
            <a:r>
              <a:rPr b="0" lang="en-US" sz="1800" spc="-1" strike="noStrike">
                <a:solidFill>
                  <a:srgbClr val="f864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a regional state in the Federal Kingdom of Belgium with international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92360" y="24922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429000"/>
            <a:ext cx="180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365720"/>
            <a:ext cx="180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5229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n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4365720"/>
            <a:ext cx="187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3429000"/>
            <a:ext cx="187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2492280"/>
            <a:ext cx="936360" cy="360360"/>
          </a:xfrm>
          <a:custGeom>
            <a:avLst/>
            <a:gdLst>
              <a:gd name="textAreaLeft" fmla="*/ 146160 w 936360"/>
              <a:gd name="textAreaRight" fmla="*/ 819360 w 93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3429000"/>
            <a:ext cx="936720" cy="360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4" idx="3"/>
            <a:endCxn id="105" idx="0"/>
          </p:cNvCxnSpPr>
          <p:nvPr/>
        </p:nvCxnSpPr>
        <p:spPr>
          <a:xfrm>
            <a:off x="5363640" y="2680920"/>
            <a:ext cx="756360" cy="748440"/>
          </a:xfrm>
          <a:prstGeom prst="curvedConnector2">
            <a:avLst/>
          </a:prstGeom>
          <a:ln w="50760">
            <a:solidFill>
              <a:srgbClr val="969696"/>
            </a:solidFill>
            <a:prstDash val="dash"/>
            <a:miter/>
            <a:tailEnd len="med" type="triangle" w="med"/>
          </a:ln>
        </p:spPr>
      </p:cxnSp>
      <p:cxnSp>
        <p:nvCxnSpPr>
          <p:cNvPr id="113" name=""/>
          <p:cNvCxnSpPr>
            <a:stCxn id="105" idx="2"/>
            <a:endCxn id="106" idx="0"/>
          </p:cNvCxnSpPr>
          <p:nvPr/>
        </p:nvCxnSpPr>
        <p:spPr>
          <a:xfrm flipV="1" rot="10800000">
            <a:off x="6118920" y="3804840"/>
            <a:ext cx="1080" cy="5612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6" idx="2"/>
            <a:endCxn id="107" idx="3"/>
          </p:cNvCxnSpPr>
          <p:nvPr/>
        </p:nvCxnSpPr>
        <p:spPr>
          <a:xfrm rot="5400000">
            <a:off x="5402880" y="4701960"/>
            <a:ext cx="676800" cy="75636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7" idx="1"/>
            <a:endCxn id="108" idx="2"/>
          </p:cNvCxnSpPr>
          <p:nvPr/>
        </p:nvCxnSpPr>
        <p:spPr>
          <a:xfrm rot="10800000">
            <a:off x="2770920" y="4710960"/>
            <a:ext cx="721440" cy="7070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0"/>
            <a:endCxn id="109" idx="2"/>
          </p:cNvCxnSpPr>
          <p:nvPr/>
        </p:nvCxnSpPr>
        <p:spPr>
          <a:xfrm flipV="1">
            <a:off x="2771280" y="3804480"/>
            <a:ext cx="1080" cy="5612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9" idx="0"/>
            <a:endCxn id="104" idx="1"/>
          </p:cNvCxnSpPr>
          <p:nvPr/>
        </p:nvCxnSpPr>
        <p:spPr>
          <a:xfrm flipH="1" flipV="1" rot="5400000">
            <a:off x="2757960" y="2694240"/>
            <a:ext cx="748440" cy="721440"/>
          </a:xfrm>
          <a:prstGeom prst="curvedConnector2">
            <a:avLst/>
          </a:prstGeom>
          <a:ln w="50760">
            <a:solidFill>
              <a:srgbClr val="969696"/>
            </a:solidFill>
            <a:prstDash val="dash"/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Project Cycle Management (PCM)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Ste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 Black"/>
              </a:rPr>
              <a:t>Project Cycle Management (PCM)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aBB &amp; </a:t>
            </a: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VVOB primary responsibilit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47640" y="1844640"/>
          <a:ext cx="5475600" cy="4576680"/>
        </p:xfrm>
        <a:graphic>
          <a:graphicData uri="http://schemas.openxmlformats.org/drawingml/2006/table">
            <a:tbl>
              <a:tblPr/>
              <a:tblGrid>
                <a:gridCol w="2783160"/>
                <a:gridCol w="1320840"/>
                <a:gridCol w="1371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6400"/>
                          </a:solidFill>
                          <a:latin typeface="Tahoma"/>
                        </a:rPr>
                        <a:t>Primary responsibil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V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cing &amp; agre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it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76720" y="2924280"/>
            <a:ext cx="1368360" cy="43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368360" cy="401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576360" cy="52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940360" y="4724280"/>
            <a:ext cx="576360" cy="525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643280" y="4149720"/>
            <a:ext cx="576360" cy="525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940360" y="5300640"/>
            <a:ext cx="576360" cy="52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932360" y="5877000"/>
            <a:ext cx="15843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Project Cycle Management (PCM)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Why PC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2708280"/>
            <a:ext cx="3672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clear strategic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ly driven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r analysis of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ty-orientated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verifiable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bursement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-term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ecise proj.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205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6400"/>
                </a:solidFill>
                <a:uFillTx/>
                <a:latin typeface="Tahoma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2205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6400"/>
                </a:solidFill>
                <a:uFillTx/>
                <a:latin typeface="Tahoma"/>
              </a:rPr>
              <a:t>P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708280"/>
            <a:ext cx="3960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or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and driv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ive orientated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iable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hasis on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sustain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64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ized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Project Cycle Management (PCM)</a:t>
            </a: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Document phases in project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24922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19640" y="3429000"/>
            <a:ext cx="180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365720"/>
            <a:ext cx="180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5229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n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4365720"/>
            <a:ext cx="187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3429000"/>
            <a:ext cx="187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492280"/>
            <a:ext cx="936360" cy="360360"/>
          </a:xfrm>
          <a:custGeom>
            <a:avLst/>
            <a:gdLst>
              <a:gd name="textAreaLeft" fmla="*/ 146160 w 936360"/>
              <a:gd name="textAreaRight" fmla="*/ 819360 w 93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429000"/>
            <a:ext cx="936720" cy="360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4" idx="3"/>
            <a:endCxn id="135" idx="0"/>
          </p:cNvCxnSpPr>
          <p:nvPr/>
        </p:nvCxnSpPr>
        <p:spPr>
          <a:xfrm>
            <a:off x="5363640" y="2680920"/>
            <a:ext cx="756360" cy="748440"/>
          </a:xfrm>
          <a:prstGeom prst="curvedConnector2">
            <a:avLst/>
          </a:prstGeom>
          <a:ln w="50760">
            <a:solidFill>
              <a:srgbClr val="969696"/>
            </a:solidFill>
            <a:prstDash val="dash"/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6" idx="0"/>
          </p:cNvCxnSpPr>
          <p:nvPr/>
        </p:nvCxnSpPr>
        <p:spPr>
          <a:xfrm flipV="1" rot="10800000">
            <a:off x="6118920" y="3804840"/>
            <a:ext cx="1080" cy="5612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6" idx="2"/>
            <a:endCxn id="137" idx="3"/>
          </p:cNvCxnSpPr>
          <p:nvPr/>
        </p:nvCxnSpPr>
        <p:spPr>
          <a:xfrm rot="5400000">
            <a:off x="5402880" y="4701960"/>
            <a:ext cx="676800" cy="75636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1"/>
            <a:endCxn id="138" idx="2"/>
          </p:cNvCxnSpPr>
          <p:nvPr/>
        </p:nvCxnSpPr>
        <p:spPr>
          <a:xfrm rot="10800000">
            <a:off x="2770920" y="4710960"/>
            <a:ext cx="721440" cy="7070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0"/>
            <a:endCxn id="139" idx="2"/>
          </p:cNvCxnSpPr>
          <p:nvPr/>
        </p:nvCxnSpPr>
        <p:spPr>
          <a:xfrm flipV="1">
            <a:off x="2771280" y="3804480"/>
            <a:ext cx="1080" cy="561240"/>
          </a:xfrm>
          <a:prstGeom prst="curvedConnector2">
            <a:avLst/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0"/>
            <a:endCxn id="134" idx="1"/>
          </p:cNvCxnSpPr>
          <p:nvPr/>
        </p:nvCxnSpPr>
        <p:spPr>
          <a:xfrm flipH="1" flipV="1" rot="5400000">
            <a:off x="2757960" y="2694240"/>
            <a:ext cx="748440" cy="721440"/>
          </a:xfrm>
          <a:prstGeom prst="curvedConnector2">
            <a:avLst/>
          </a:prstGeom>
          <a:ln w="50760">
            <a:solidFill>
              <a:srgbClr val="969696"/>
            </a:solidFill>
            <a:prstDash val="dash"/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700360" y="1844640"/>
            <a:ext cx="3097080" cy="576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31600" y="1916280"/>
            <a:ext cx="3269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nders – SA indicative co-oper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elopment pr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3280" y="5661000"/>
            <a:ext cx="1152720" cy="576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661000"/>
            <a:ext cx="1152360" cy="360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2924280"/>
            <a:ext cx="1368360" cy="50328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997360"/>
            <a:ext cx="1079280" cy="5745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5157720"/>
            <a:ext cx="1727280" cy="360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4724280"/>
            <a:ext cx="1223640" cy="360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5589720"/>
            <a:ext cx="1584360" cy="360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1640" y="4797360"/>
            <a:ext cx="9212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2997360"/>
            <a:ext cx="1368360" cy="3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40" y="2997360"/>
            <a:ext cx="109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valu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720" y="4724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tion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0440" y="5157720"/>
            <a:ext cx="19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gress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0800" y="5589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ult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39160" y="566100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02600" y="5661000"/>
            <a:ext cx="1105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" y="3645000"/>
            <a:ext cx="14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id ter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view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3645000"/>
            <a:ext cx="1368360" cy="57600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16720" y="4797360"/>
            <a:ext cx="936720" cy="57492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4400" y="4797360"/>
            <a:ext cx="10980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g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5640" y="3429000"/>
            <a:ext cx="1368360" cy="50328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5640" y="3500280"/>
            <a:ext cx="1368360" cy="3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96360" y="4797360"/>
            <a:ext cx="936360" cy="576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645000"/>
            <a:ext cx="720720" cy="50472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20000" y="4365720"/>
            <a:ext cx="576360" cy="5032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3860640"/>
            <a:ext cx="576360" cy="43200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3500280"/>
            <a:ext cx="647640" cy="432000"/>
          </a:xfrm>
          <a:prstGeom prst="ellipse">
            <a:avLst/>
          </a:prstGeom>
          <a:noFill/>
          <a:ln w="9360">
            <a:solidFill>
              <a:srgbClr val="5e574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0760" y="35733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4292640"/>
            <a:ext cx="647640" cy="431640"/>
          </a:xfrm>
          <a:prstGeom prst="ellipse">
            <a:avLst/>
          </a:prstGeom>
          <a:noFill/>
          <a:ln w="9360">
            <a:solidFill>
              <a:srgbClr val="5e574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60760" y="436572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5950080"/>
            <a:ext cx="1511640" cy="360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93640" y="59500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ailed bud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205000"/>
            <a:ext cx="3097080" cy="576360"/>
          </a:xfrm>
          <a:prstGeom prst="flowChartDocumen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2205000"/>
            <a:ext cx="33130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rategy document jointly developed between aBB and SA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Project Cycle Management (PCM)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Cross Sectoral Themes (CST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773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6400"/>
                </a:solidFill>
                <a:latin typeface="Tahoma"/>
              </a:rPr>
              <a:t>FLANDERS POLICY ON CROSS SECTORAL T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637000"/>
            <a:ext cx="3168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1.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574e"/>
                </a:solidFill>
                <a:latin typeface="Tahoma"/>
              </a:rPr>
              <a:t>Study possible threat to viability of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574e"/>
                </a:solidFill>
                <a:latin typeface="Tahoma"/>
              </a:rPr>
              <a:t>Focus on prevention &amp; awa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437000"/>
            <a:ext cx="3311640" cy="16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2. G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574e"/>
                </a:solidFill>
                <a:latin typeface="Tahoma"/>
              </a:rPr>
              <a:t>Gender equality/ affirmative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574e"/>
                </a:solidFill>
                <a:latin typeface="Tahoma"/>
              </a:rPr>
              <a:t>Women empowerment: training, education &amp; capacity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574e"/>
                </a:solidFill>
                <a:latin typeface="Tahoma"/>
              </a:rPr>
              <a:t>Gender &amp; HIV/A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4508640"/>
            <a:ext cx="36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3. </a:t>
            </a:r>
            <a:r>
              <a:rPr b="1" lang="en-US" sz="2000" spc="-1" strike="noStrike">
                <a:solidFill>
                  <a:srgbClr val="f864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ustainable </a:t>
            </a:r>
            <a:r>
              <a:rPr b="1" lang="en-US" sz="2000" spc="-1" strike="noStrike">
                <a:solidFill>
                  <a:srgbClr val="f864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86400"/>
                </a:solidFill>
                <a:latin typeface="Tahoma"/>
              </a:rPr>
              <a:t>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574e"/>
                </a:solidFill>
                <a:latin typeface="Tahoma"/>
              </a:rPr>
              <a:t>Integration of </a:t>
            </a: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environmental</a:t>
            </a:r>
            <a:r>
              <a:rPr b="0" lang="en-US" sz="1600" spc="-1" strike="noStrike">
                <a:solidFill>
                  <a:srgbClr val="5e574e"/>
                </a:solidFill>
                <a:latin typeface="Tahoma"/>
              </a:rPr>
              <a:t>, social and economic issues in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e574e"/>
                </a:solidFill>
                <a:latin typeface="Tahoma"/>
              </a:rPr>
              <a:t>SD in all sectors of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2565360"/>
            <a:ext cx="3095640" cy="1511280"/>
          </a:xfrm>
          <a:prstGeom prst="ellipse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365720"/>
            <a:ext cx="3529080" cy="1655640"/>
          </a:xfrm>
          <a:prstGeom prst="ellipse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221000"/>
            <a:ext cx="4105440" cy="1800360"/>
          </a:xfrm>
          <a:prstGeom prst="ellipse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700360" y="3933720"/>
            <a:ext cx="431640" cy="503280"/>
          </a:xfrm>
          <a:prstGeom prst="line">
            <a:avLst/>
          </a:prstGeom>
          <a:ln w="9360">
            <a:solidFill>
              <a:srgbClr val="5e574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5227560"/>
            <a:ext cx="863280" cy="1800"/>
          </a:xfrm>
          <a:prstGeom prst="line">
            <a:avLst/>
          </a:prstGeom>
          <a:ln w="9360">
            <a:solidFill>
              <a:srgbClr val="5e574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074920" y="3933720"/>
            <a:ext cx="360360" cy="503280"/>
          </a:xfrm>
          <a:prstGeom prst="line">
            <a:avLst/>
          </a:prstGeom>
          <a:ln w="9360">
            <a:solidFill>
              <a:srgbClr val="5e574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72360" y="2852640"/>
            <a:ext cx="1511280" cy="368280"/>
          </a:xfrm>
          <a:prstGeom prst="rect">
            <a:avLst/>
          </a:prstGeom>
          <a:noFill/>
          <a:ln w="9360">
            <a:solidFill>
              <a:srgbClr val="5e57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6021360"/>
            <a:ext cx="1511280" cy="368280"/>
          </a:xfrm>
          <a:prstGeom prst="rect">
            <a:avLst/>
          </a:prstGeom>
          <a:noFill/>
          <a:ln w="9360">
            <a:solidFill>
              <a:srgbClr val="5e57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852640"/>
            <a:ext cx="1511280" cy="368280"/>
          </a:xfrm>
          <a:prstGeom prst="rect">
            <a:avLst/>
          </a:prstGeom>
          <a:noFill/>
          <a:ln w="9360">
            <a:solidFill>
              <a:srgbClr val="5e57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Check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 Black"/>
              </a:rPr>
              <a:t>PCM - Procedures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Identificatio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177336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6400"/>
                </a:solidFill>
                <a:latin typeface="Tahoma"/>
              </a:rPr>
              <a:t>Administrative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386064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Pro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328464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project imple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89360"/>
            <a:ext cx="1366560" cy="936720"/>
          </a:xfrm>
          <a:prstGeom prst="ellipse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3141720"/>
            <a:ext cx="216072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284640"/>
            <a:ext cx="194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VOB - SA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2924280"/>
            <a:ext cx="3673440" cy="252072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3141720"/>
            <a:ext cx="187164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443700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4292640"/>
            <a:ext cx="1657440" cy="10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242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27640" y="2421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mish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0" y="2924280"/>
            <a:ext cx="3097080" cy="26654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5013360"/>
            <a:ext cx="1511280" cy="865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5084640"/>
            <a:ext cx="194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ahoma"/>
              </a:rPr>
              <a:t>Facilitat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(eventu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4149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4720" y="44370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ahoma"/>
              </a:rPr>
              <a:t>Flanders Technical experts if necessa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4292640"/>
            <a:ext cx="2590920" cy="1081080"/>
          </a:xfrm>
          <a:prstGeom prst="ellipse">
            <a:avLst/>
          </a:prstGeom>
          <a:noFill/>
          <a:ln w="9360">
            <a:solidFill>
              <a:srgbClr val="5e57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8720" y="5013360"/>
            <a:ext cx="503280" cy="287280"/>
          </a:xfrm>
          <a:prstGeom prst="line">
            <a:avLst/>
          </a:prstGeom>
          <a:ln w="9360">
            <a:solidFill>
              <a:srgbClr val="5e574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634920" y="4941360"/>
            <a:ext cx="505080" cy="358920"/>
          </a:xfrm>
          <a:prstGeom prst="line">
            <a:avLst/>
          </a:prstGeom>
          <a:ln w="9360">
            <a:solidFill>
              <a:srgbClr val="5e574e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4149720"/>
            <a:ext cx="180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95640" y="4149720"/>
            <a:ext cx="1800360" cy="0"/>
          </a:xfrm>
          <a:prstGeom prst="line">
            <a:avLst/>
          </a:prstGeom>
          <a:ln w="9360">
            <a:solidFill>
              <a:srgbClr val="5e57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12:59:00Z</dcterms:created>
  <dc:creator>Huib Huyse</dc:creator>
  <dc:description/>
  <dc:language>en-US</dc:language>
  <cp:lastModifiedBy>WB</cp:lastModifiedBy>
  <cp:lastPrinted>2002-02-19T15:04:15Z</cp:lastPrinted>
  <dcterms:modified xsi:type="dcterms:W3CDTF">2003-03-13T14:51:03Z</dcterms:modified>
  <cp:revision>246</cp:revision>
  <dc:subject/>
  <dc:title>VVOB in de were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8083319</vt:r8>
  </property>
  <property fmtid="{D5CDD505-2E9C-101B-9397-08002B2CF9AE}" pid="3" name="_AuthorEmail">
    <vt:lpwstr>jjd.vvob@iafrica.com</vt:lpwstr>
  </property>
  <property fmtid="{D5CDD505-2E9C-101B-9397-08002B2CF9AE}" pid="4" name="_AuthorEmailDisplayName">
    <vt:lpwstr>Jean-Jacques Dohogne</vt:lpwstr>
  </property>
  <property fmtid="{D5CDD505-2E9C-101B-9397-08002B2CF9AE}" pid="5" name="_EmailSubject">
    <vt:lpwstr>roadshow</vt:lpwstr>
  </property>
</Properties>
</file>