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948480"/>
            <a:ext cx="868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4848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94848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94848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94848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94848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394848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0" y="394848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948480"/>
            <a:ext cx="868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3948480"/>
            <a:ext cx="868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4848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000" y="394848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394848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5840" y="394848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02720" y="394848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94848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94848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948480"/>
            <a:ext cx="868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5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808080"/>
                </a:solidFill>
                <a:latin typeface="Arial"/>
              </a:rPr>
              <a:t>      </a:t>
            </a:r>
            <a:fld id="{509EDE54-7F6E-435C-9DAC-BCB9EB340E0A}" type="slidenum">
              <a:rPr b="1" lang="nl-NL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95280" y="6172200"/>
            <a:ext cx="76201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4300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administratie buitenlands bele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ontvangst federale stagiair-attach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home_vlag" descr=""/>
          <p:cNvPicPr/>
          <p:nvPr/>
        </p:nvPicPr>
        <p:blipFill>
          <a:blip r:embed="rId2"/>
          <a:stretch/>
        </p:blipFill>
        <p:spPr>
          <a:xfrm>
            <a:off x="228600" y="6058080"/>
            <a:ext cx="914400" cy="79992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479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4792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Kennismaking met de Vlaamse O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tvangst van de stagiair-attach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 maart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4. Convenants met de gemeenten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) enkele principe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gangspunt :  specifieke OS-rol voor de gemeen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aatschappelijk draagvlak + lokale capaciteitsopbou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ulminatie in duurzame Noord/Zuid-zusterb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rkwijze 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lgemeen :  pilootproject (3 jaar) &gt; decreet (200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convenant Vlaamse overheid met elke geselecteerde geme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egeleiding en vorming i.s.m. VVS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cc00"/>
                </a:solidFill>
                <a:latin typeface="Arial"/>
              </a:rPr>
              <a:t>http://www.vvsg.be/Europa/teksten/vlaams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2666880"/>
            <a:ext cx="0" cy="4572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4. Convenants met de gemeenten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) in de praktij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3 :  budget 1.745.000 eu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venants met de gemeenten (1.595.000 eur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dersteuning VVSG (150.000 eur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elnemende gemeenten 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1-2002 :  21 conven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jaar 2002 :  + 10 conven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en voorbeeld uit de praktijk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5. Sensibilisatie en educatie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) enkele principe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elstelling :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breding van het maatschappelijk draagvlak - gevoelig maken voor de N/Z-problemati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ctiviteit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projec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interne sensibilis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jongerenuitwisselingen (vanaf 200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rkwijze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criteria + oproep projecten (2002 &amp; 2003) &gt; decreet (200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cc00"/>
                </a:solidFill>
                <a:latin typeface="Arial"/>
              </a:rPr>
              <a:t>www2.vlaanderen.be/ned/sites/buitenland/Ontwikkelingssamenwerking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5. Sensibilisatie en educatie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) in de praktij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3 : budget 1.534.000 eu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8 geselecteerde projecten uit de eerste oproep (20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0 ingediende projecten bij de tweede oproep (200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en voorbeeld uit de praktijk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6. Noodhulp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cties in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R Congo (Goma) :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xfam Solidariteit (130.000 eur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alestina :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xfam Solidariteit + VIC (504.150 eur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Zuidelijk Afrika (Zambia) :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Rode Kruis (517.303 eur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Joegoslavië (Kosovo) :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alkanactie (848.152 eur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&gt; volgens de procedures die ook DGOS volg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7. Multilaterale samenwerking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cties in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onds bij de UNESCO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750.000 eur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onds bij de IAO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750.000 eur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raining Mozambikaanse ambtenaren bij WTO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100.000 eur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dersteuning UNAIDS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(500.000 eur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8. VVOB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003 :  1.322.000 eu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ructurele financi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werking &amp; secretariaat VVOB in Bruss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uitbouw vertegenwoordiging Z-Afrika, ter ondersteuning Vlaamse 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cc00"/>
                </a:solidFill>
                <a:latin typeface="Arial"/>
              </a:rPr>
              <a:t>www.vvob.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cc00"/>
                </a:solidFill>
                <a:latin typeface="Arial"/>
              </a:rPr>
              <a:t>www.vvob.be/nieuws/VVOB_jaarverslag_2001.pd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Overzicht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DA in Vlaand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eigen OS-instrumentar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ouvernementele/directe samenwe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nvenants met de gemeen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ensibilisering &amp; ontwikkelingseducat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oodhu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7.  Multilaterale samenwe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8.  VV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1. ODA in Vlaanderen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1447920"/>
            <a:ext cx="8610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) Evolutie van de Vlaamse ODA (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 euro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219320" y="2027160"/>
          <a:ext cx="6097320" cy="39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27160"/>
                    <a:ext cx="6097320" cy="39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 flipV="1">
            <a:off x="3581280" y="2895120"/>
            <a:ext cx="1828800" cy="83844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1. ODA in Vlaanderen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295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) Samenstelling van de Vlaamse ODA in 2001 (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 euro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905120"/>
            <a:ext cx="4724640" cy="40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ouvernementele/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- verticale OS-begro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- horizontale begro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- studie en beur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- gemeentelijke conven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- sensibilisering &amp; educa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ultilate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oodhul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toelage VV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TOTA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1828800"/>
            <a:ext cx="2743200" cy="45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868.604,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4.236.221,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0.244.934,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70.946,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831.492,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537.649,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858.804,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288.734,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3.537.387,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486400"/>
            <a:ext cx="739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2438280"/>
            <a:ext cx="23623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2743200"/>
            <a:ext cx="23623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429000"/>
            <a:ext cx="25146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4191120"/>
            <a:ext cx="20574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5257800"/>
            <a:ext cx="33526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4876920"/>
            <a:ext cx="38862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4495680"/>
            <a:ext cx="36576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3809880"/>
            <a:ext cx="20574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1. ODA in Vlaanderen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1295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) Samenstelling van de Vlaamse ODA in 2001 (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 %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3880" y="1798560"/>
          <a:ext cx="609768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98560"/>
                    <a:ext cx="60976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2. Een eigen OS-instrumentarium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) beleidska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leidsnota :  voor de hele legislat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cc00"/>
                </a:solidFill>
                <a:latin typeface="Arial"/>
              </a:rPr>
              <a:t>www2.vlaanderen.be/ned/sites/regering/beleidsnota/beleidsnota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leidsbrief :  jaarlij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cc00"/>
                </a:solidFill>
                <a:latin typeface="Arial"/>
              </a:rPr>
              <a:t>www2.vlaanderen.be/ned/sites/beleidsbrieven/overzicht_beleidsbrieven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grotingsdocumen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cc00"/>
                </a:solidFill>
                <a:latin typeface="Arial"/>
              </a:rPr>
              <a:t>www2.vlaanderen.be/ned/sites/financien/begrotingsdecreten/recent_goedgekeurde_begrotingsde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+  in voorbereiding :  decretaal ka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2. Een eigen OS-instrumentarium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b) aansturing, opvolging en uitvo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igen minister (sinds 199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fzonderlijke begroting (12.2, sinds 20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igen administratie :  aBB - afdeling Buiten Euro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VOB :  in ZA rol van ondersteunend agentsch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+  in voorbereiding :  hervorming administratie "BBB" (200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cc00"/>
                </a:solidFill>
                <a:latin typeface="Arial"/>
              </a:rPr>
              <a:t>http://www2.vlaanderen.be/ned/sites/bbb/new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3. Gouvernementele samenwerking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) enkele principe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ografische concentratie :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Zuid-Afrika, Marokko, Mozambiq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hematische concentratie :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nieuwe) klemtoon op duurzame ontwikkeling, gelijke kansen, HIV/AIDS-preven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rizontale dimensie :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aximale participatie in Vlaanderen &gt; breed maatschappelijk draagvl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"partnership" &amp; "ownership" :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zamenlijke (landen-)strategieno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ternationale methodologie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PC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000f"/>
            </a:gs>
            <a:gs pos="50000">
              <a:srgbClr val="a50021"/>
            </a:gs>
            <a:gs pos="100000">
              <a:srgbClr val="4c00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3. Gouvernementele samenwerking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) in de praktij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3 :  budget 10 mio eu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 Zuid-Afrika: 7,5 m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 Marokko: 1,5 m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 Mozambique: 1 m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"horizontaal" budget : ± 5 m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0% van de totale vastleggingen in Zuid-Afrik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en voorbeeld uit de praktijk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3:47:28Z</dcterms:created>
  <dc:creator>tom dekeyzer</dc:creator>
  <dc:description/>
  <dc:language>en-US</dc:language>
  <cp:lastModifiedBy>tom dekeyzer</cp:lastModifiedBy>
  <cp:lastPrinted>2003-03-13T12:59:54Z</cp:lastPrinted>
  <dcterms:modified xsi:type="dcterms:W3CDTF">2003-03-13T13:00:46Z</dcterms:modified>
  <cp:revision>18</cp:revision>
  <dc:subject/>
  <dc:title>Geen diatitel</dc:title>
</cp:coreProperties>
</file>