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      </a:t>
            </a:r>
            <a:fld id="{5D72959E-3A5C-435D-93C7-6762EBD07F2F}" type="slidenum">
              <a:rPr b="1" lang="nl-NL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72200"/>
            <a:ext cx="7620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dministratie buitenlands bel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ntvangst federale stagiair-attach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_vlag" descr=""/>
          <p:cNvPicPr/>
          <p:nvPr/>
        </p:nvPicPr>
        <p:blipFill>
          <a:blip r:embed="rId2"/>
          <a:stretch/>
        </p:blipFill>
        <p:spPr>
          <a:xfrm>
            <a:off x="228600" y="6058080"/>
            <a:ext cx="914400" cy="799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Kennismaking met de Vlaamse O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tvangst van de stagiair-attach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maart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4. Convenants met de gemeent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gangspunt :  specifieke OS-rol voor de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atschappelijk draagvlak + lokale capaciteitsopbou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ulminatie in duurzame Noord/Zuid-zuster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rkwijze 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:  pilootproject (3 jaar) &gt; decreet (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onvenant Vlaamse overheid met elke geselecteerde geme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geleiding en vorming i.s.m. VV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http://www.vvsg.be/Europa/teksten/vlaam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66688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4. Convenants met de gemeent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 budget 1.745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ants met de gemeenten (1.595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dersteuning VVSG (1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lnemende gemeenten 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1-2002 :  21 conve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jaar 2002 :  + 10 conve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5. Sensibilisatie en educati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stelling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breding van het maatschappelijk draagvlak - gevoelig maken voor de N/Z-problemati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tiviteit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ojec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terne sensibilis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jongerenuitwisselingen (vanaf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rkwijz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riteria + oproep projecten (2002 &amp; 2003) &gt; decreet (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buitenland/Ontwikkelingssamenwerking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5. Sensibilisatie en educati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budget 1.534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 geselecteerde projecten uit de eerste oproep (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 ingediende projecten bij de tweede oproep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 Noodhul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cties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 Congo (Goma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xfam Solidariteit (13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lestina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xfam Solidariteit + VIC (504.15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uidelijk Afrika (Zambia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de Kruis (517.303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oegoslavië (Kosovo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alkanactie (848.152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&gt; volgens de procedures die ook DGOS vol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7. Multilatera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cties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onds bij de UNESC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7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onds bij de IA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7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raining Mozambikaanse ambtenaren bij WT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10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 UNAID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(50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8. VVOB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003 :  1.322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ructurele financi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rking &amp; secretariaat VVOB in Bru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bouw vertegenwoordiging Z-Afrika, ter ondersteuning Vlaamse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cc00"/>
                </a:solidFill>
                <a:latin typeface="Arial"/>
              </a:rPr>
              <a:t>www.vvob.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cc00"/>
                </a:solidFill>
                <a:latin typeface="Arial"/>
              </a:rPr>
              <a:t>www.vvob.be/nieuws/VVOB_jaarverslag_2001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verzich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DA in Vlaan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eigen OS-instrumenta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ouvernementele/directe samen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venants met de gemeen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ensibilisering &amp; ontwikkelingsedu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oodh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7.  Multilaterale samen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8.  VV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44792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) Evolutie van de Vlaamse ODA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eur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2027160"/>
          <a:ext cx="6097320" cy="39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27160"/>
                    <a:ext cx="60973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3581280" y="2895120"/>
            <a:ext cx="1828800" cy="8384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Samenstelling van de Vlaamse ODA in 2001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eur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05120"/>
            <a:ext cx="472464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ouvernementele/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verticale OS-begr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- horizontale begr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- studie en beur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gemeentelijke con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sensibilisering &amp; educ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ultilat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oodhu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oelage 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828800"/>
            <a:ext cx="27432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68.604,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.236.221,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.244.934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70.946,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31.492,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537.649,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58.804,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288.734,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.537.387,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864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43828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74320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429000"/>
            <a:ext cx="2514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19112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257800"/>
            <a:ext cx="3352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87692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495680"/>
            <a:ext cx="3657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) Samenstelling van de Vlaamse ODA in 2001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%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7985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985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. Een eigen OS-instrumentariu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beleidsk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leidsnota :  voor de hele legisla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regering/beleidsnota/beleidsnot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leidsbrief :  jaarlij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beleidsbrieven/overzicht_beleidsbrieve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grotings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financien/begrotingsdecreten/recent_goedgekeurde_begrotingsd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+  in voorbereiding :  decretaal k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. Een eigen OS-instrumentariu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) aansturing, opvolging e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gen minister (sinds 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zonderlijke begroting (12.2, sinds 2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gen administratie :  aBB - afdeling Buiten Euro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VOB :  in ZA rol van ondersteunend agentsc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+  in voorbereiding :  hervorming administratie "BBB"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http://www2.vlaanderen.be/ned/sites/bbb/ne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3. Gouvernemente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ografische concentrat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uid-Afrika, Marokko, Mozamb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matische concentrat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nieuwe) klemtoon op duurzame ontwikkeling, gelijke kansen, HIV/AIDS-prev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rizontale dimens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ximale participatie in Vlaanderen &gt; breed maatschappelijk draagvl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"partnership" &amp; "ownership"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zamenlijke (landen-)strategien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ternationale methodologie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PC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3. Gouvernemente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 budget 10 mio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Zuid-Afrika: 7,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Marokko: 1,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Mozambique: 1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"horizontaal" budget : ± 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van de totale vastleggingen in Zuid-Afri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3:47:28Z</dcterms:created>
  <dc:creator>tom dekeyzer</dc:creator>
  <dc:description/>
  <dc:language>en-US</dc:language>
  <cp:lastModifiedBy>tom dekeyzer</cp:lastModifiedBy>
  <cp:lastPrinted>2003-03-13T12:59:54Z</cp:lastPrinted>
  <dcterms:modified xsi:type="dcterms:W3CDTF">2003-03-13T13:00:46Z</dcterms:modified>
  <cp:revision>18</cp:revision>
  <dc:subject/>
  <dc:title>Geen diatitel</dc:title>
</cp:coreProperties>
</file>