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1CF7-506A-467A-BFB4-65E2766C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2949840"/>
            <a:ext cx="822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41E4-E63A-4073-B625-5095008B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7999-5C0E-4561-993D-3B177F1C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160020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160020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294984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294984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294984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1F80-D267-45A8-AAE9-6CE6604C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96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7601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97164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7601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96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7601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33FB-EA34-43E0-AD47-B7178CC7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0284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2949840"/>
            <a:ext cx="822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2949840"/>
            <a:ext cx="822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0284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8240" y="160020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0680" y="160020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294984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8240" y="294984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0680" y="2949840"/>
            <a:ext cx="264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646E-3E6B-4FE9-9F8C-791616FB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F6F4-F058-4BED-B87C-54D4077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F442-7FBC-47EC-9983-87E8CCF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7164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7601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62080-A5F6-4314-AF52-CEEE8C6C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8C80-FA3B-47F4-91EA-C2270694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294984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ED05-B9CE-401A-8E3D-2F56634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2949840"/>
            <a:ext cx="8229600" cy="12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1933-E433-4418-8104-EE84518B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7164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1280" y="664488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500680" y="6660720"/>
            <a:ext cx="414360" cy="13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lstStyle>
            <a:lvl1pPr marL="21600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34BB-A52E-4D47-A313-D231BCA69A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83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9600" cy="25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90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687720" y="6668640"/>
            <a:ext cx="1444680" cy="133560"/>
          </a:xfrm>
          <a:prstGeom prst="rect">
            <a:avLst/>
          </a:prstGeom>
          <a:noFill/>
          <a:ln w="0">
            <a:noFill/>
          </a:ln>
        </p:spPr>
        <p:txBody>
          <a:bodyPr lIns="36360" rIns="36360" tIns="18360" bIns="18360" anchor="ctr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RU     Document C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home_vlag" descr=""/>
          <p:cNvPicPr/>
          <p:nvPr/>
        </p:nvPicPr>
        <p:blipFill>
          <a:blip r:embed="rId2"/>
          <a:stretch/>
        </p:blipFill>
        <p:spPr>
          <a:xfrm>
            <a:off x="7916760" y="38160"/>
            <a:ext cx="9144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5257800"/>
            <a:ext cx="350532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7601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ctr">
              <a:spcBef>
                <a:spcPts val="451"/>
              </a:spcBef>
              <a:tabLst>
                <a:tab algn="l" pos="0"/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0440" algn="ctr">
              <a:buClr>
                <a:srgbClr val="000000"/>
              </a:buClr>
              <a:buFont typeface="Arial"/>
              <a:buChar char="-"/>
              <a:tabLst>
                <a:tab algn="l" pos="0"/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0480" algn="ctr">
              <a:buClr>
                <a:srgbClr val="000000"/>
              </a:buClr>
              <a:buFont typeface="Arial"/>
              <a:buChar char="·"/>
              <a:tabLst>
                <a:tab algn="l" pos="0"/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20880" algn="ctr">
              <a:buClr>
                <a:srgbClr val="000000"/>
              </a:buClr>
              <a:buFont typeface="Arial"/>
              <a:buChar char="·"/>
              <a:tabLst>
                <a:tab algn="l" pos="0"/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20880">
              <a:spcBef>
                <a:spcPts val="45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20880">
              <a:spcBef>
                <a:spcPts val="45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4114800"/>
            <a:ext cx="777240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Beter Bestuurlijk Beleid -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organisatie van de Vlaamse overheid</a:t>
            </a:r>
            <a:br>
              <a:rPr sz="2000"/>
            </a:br>
            <a:br>
              <a:rPr sz="20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Beleidsdomein Buitenlands Beleid &amp; Internationale Samenwerking</a:t>
            </a:r>
            <a:br>
              <a:rPr sz="1800"/>
            </a:br>
            <a:br>
              <a:rPr sz="18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14 maart 2003</a:t>
            </a:r>
            <a:br>
              <a:rPr sz="1600"/>
            </a:br>
            <a:r>
              <a:rPr b="1" lang="nl-BE" sz="1800" spc="-1" strike="noStrike">
                <a:solidFill>
                  <a:srgbClr val="fddc51"/>
                </a:solidFill>
                <a:latin typeface="Arial"/>
              </a:rPr>
              <a:t>___________________________________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00440" y="518148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62"/>
              </a:spcBef>
              <a:buNone/>
              <a:tabLst>
                <a:tab algn="l" pos="0"/>
                <a:tab algn="l" pos="76010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2"/>
              </a:spcBef>
              <a:buNone/>
              <a:tabLst>
                <a:tab algn="l" pos="0"/>
                <a:tab algn="l" pos="76010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0592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24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6640" y="519120"/>
            <a:ext cx="712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anderingstraject Buitenlands Beleid &amp; Internationale Samenwerk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290760"/>
            <a:ext cx="76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512800"/>
            <a:ext cx="7924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torale invulling beleidsdom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jaar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keuring Vlaamse regering december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120" y="182808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ver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240" y="4494240"/>
            <a:ext cx="700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tekening migrati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ing veranderingsmanager juli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enen rapport uiterlijk juli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0592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24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640" y="519120"/>
            <a:ext cx="712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anderingstraject Buitenlands Beleid &amp; Internationale Samenwerk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290760"/>
            <a:ext cx="76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819440"/>
            <a:ext cx="7924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één beleidsdomein, drie beleidsvel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itenlands Beleid &amp; Internationale Samenw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itenlands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ationale Ha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ationale Samenwe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ntwikkelingssamenwe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0592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24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6640" y="519120"/>
            <a:ext cx="712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anderingstraject Buitenlands Beleid &amp; Internationale Samenwerk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3290760"/>
            <a:ext cx="76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099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00200" y="1295280"/>
          <a:ext cx="7250040" cy="47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95280"/>
                    <a:ext cx="725004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ogram van het ministerie BB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oedgekeurd door de Vlaamse regering op 7/12/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39640"/>
            <a:ext cx="3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3581280"/>
            <a:ext cx="2361960" cy="19051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581280"/>
            <a:ext cx="236232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657600"/>
            <a:ext cx="2209680" cy="1447920"/>
          </a:xfrm>
          <a:prstGeom prst="rect">
            <a:avLst/>
          </a:prstGeom>
          <a:solidFill>
            <a:srgbClr val="3a75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INTERNATIONALE HAN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(Flanders Investment &amp; T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657600"/>
            <a:ext cx="2210040" cy="1447920"/>
          </a:xfrm>
          <a:prstGeom prst="rect">
            <a:avLst/>
          </a:prstGeom>
          <a:solidFill>
            <a:srgbClr val="b3c4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INTERNATIONALE SAMENWE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676520"/>
            <a:ext cx="2286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352680"/>
            <a:ext cx="51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20574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09680"/>
            <a:ext cx="2514600" cy="30492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rategische adviesra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38560" y="3581280"/>
            <a:ext cx="23241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14880" y="3657600"/>
            <a:ext cx="2171520" cy="1447920"/>
          </a:xfrm>
          <a:prstGeom prst="rect">
            <a:avLst/>
          </a:prstGeom>
          <a:solidFill>
            <a:srgbClr val="3a75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DEPARTEMENT BUITENLANDS BELEID &amp; INTERNATIONALE SAMENWE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440" y="502920"/>
            <a:ext cx="70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Veranderingstraject Buitenlands Beleid &amp; Internationale Samenwerking</a:t>
            </a: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626184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(*) wordt opgericht na goedkeuring van de wet defederalisering ontwikkelingssamenwe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5791320"/>
            <a:ext cx="4343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nagementondersteunende Dien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5943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02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705720" y="5943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5120" y="312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010280" y="312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2590920"/>
            <a:ext cx="1905120" cy="533160"/>
          </a:xfrm>
          <a:prstGeom prst="ellipse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actgro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nation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2590920"/>
            <a:ext cx="1904760" cy="533160"/>
          </a:xfrm>
          <a:prstGeom prst="ellipse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verlegra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nation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amenwe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590920"/>
            <a:ext cx="2286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Beleidsra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ogram van het departement BB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voorstel ambtelijke projectgroe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39640"/>
            <a:ext cx="3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3581280"/>
            <a:ext cx="236196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581280"/>
            <a:ext cx="236232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3657600"/>
            <a:ext cx="2209680" cy="457200"/>
          </a:xfrm>
          <a:prstGeom prst="rect">
            <a:avLst/>
          </a:prstGeom>
          <a:solidFill>
            <a:srgbClr val="3a75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BEL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657600"/>
            <a:ext cx="2210040" cy="457200"/>
          </a:xfrm>
          <a:prstGeom prst="rect">
            <a:avLst/>
          </a:prstGeom>
          <a:solidFill>
            <a:srgbClr val="3a75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BELEIDS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676520"/>
            <a:ext cx="22860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Leidend Ambtenaar De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3352680"/>
            <a:ext cx="51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20574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2209680"/>
            <a:ext cx="19047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ecretaria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94360" y="4317840"/>
            <a:ext cx="1168560" cy="40644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94360" y="4800600"/>
            <a:ext cx="1168560" cy="38088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Bilat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4360" y="5257800"/>
            <a:ext cx="1168560" cy="38088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Multilat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63640" y="4191120"/>
            <a:ext cx="2031840" cy="68580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Beleidsontwikk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209680"/>
            <a:ext cx="2057400" cy="45720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63640" y="4952880"/>
            <a:ext cx="2031840" cy="60984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Kennisbeh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38560" y="3581280"/>
            <a:ext cx="236232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14880" y="3657600"/>
            <a:ext cx="2209680" cy="457200"/>
          </a:xfrm>
          <a:prstGeom prst="rect">
            <a:avLst/>
          </a:prstGeom>
          <a:solidFill>
            <a:srgbClr val="3a75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BEHEERS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6400" y="4800600"/>
            <a:ext cx="2031840" cy="76212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Beheerscont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800" y="502920"/>
            <a:ext cx="703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Veranderingstraject Buitenlands Beleid &amp; Internationale Samenwe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2743200"/>
            <a:ext cx="2057400" cy="45720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Begroting De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63640" y="5638680"/>
            <a:ext cx="2031840" cy="60984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Juridische Z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4317840"/>
            <a:ext cx="685800" cy="40644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15200" y="4826160"/>
            <a:ext cx="685800" cy="58392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900" spc="-1" strike="noStrike">
                <a:solidFill>
                  <a:srgbClr val="000000"/>
                </a:solidFill>
                <a:latin typeface="Arial"/>
              </a:rPr>
              <a:t>Vert. VR</a:t>
            </a:r>
            <a:r>
              <a:rPr b="1" lang="nl-BE" sz="900" spc="-1" strike="noStrike">
                <a:solidFill>
                  <a:srgbClr val="d10016"/>
                </a:solidFill>
                <a:latin typeface="Arial"/>
              </a:rPr>
              <a:t> </a:t>
            </a:r>
            <a:r>
              <a:rPr b="1" lang="nl-BE" sz="900" spc="-1" strike="noStrike">
                <a:solidFill>
                  <a:srgbClr val="000000"/>
                </a:solidFill>
                <a:latin typeface="Arial"/>
              </a:rPr>
              <a:t>buiten-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94360" y="5715000"/>
            <a:ext cx="1473120" cy="533520"/>
          </a:xfrm>
          <a:prstGeom prst="rect">
            <a:avLst/>
          </a:prstGeom>
          <a:solidFill>
            <a:srgbClr val="fddc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ternatio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amenwerking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633816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* wordt een IVA na goedkeuring van de wet defederalisering ontwikkelingssamenwe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952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4495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809520"/>
            <a:ext cx="8305560" cy="27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Beter Bestuurlijk Beleid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 krachtlijnen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BE" sz="1600" spc="-1" strike="noStrike">
                <a:solidFill>
                  <a:srgbClr val="fddc51"/>
                </a:solidFill>
                <a:latin typeface="Arial"/>
              </a:rPr>
              <a:t>________________________________________________________________________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6640" y="519120"/>
            <a:ext cx="47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er Bestuurlijk Beleid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chtlij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809880"/>
            <a:ext cx="830556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6640" y="519120"/>
            <a:ext cx="47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er Bestuurlijk Beleid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chtlij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78956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ugdelijk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stiging politiek pri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ponsabilisering lijn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mogene beleidsdom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809880"/>
            <a:ext cx="830556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6640" y="519120"/>
            <a:ext cx="47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er Bestuurlijk Beleid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chtlij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208240"/>
            <a:ext cx="815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nsten van de minister-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ddc51"/>
                </a:solidFill>
                <a:latin typeface="Arial"/>
              </a:rPr>
              <a:t>Buitenlands Beleid &amp; Internationale Samen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enschappen en technologische innov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uurs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 en begr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ijs en 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 en volks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ultuur, jeugd, sport en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e, werkgelegenheid en toe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dbouw en viss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milieu en n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te, wonen en onroerend erfgo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80" y="1447200"/>
            <a:ext cx="82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13 homogene beleidsdomeinen / minis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60840" y="3287880"/>
            <a:ext cx="1029960" cy="1123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17960" y="3287880"/>
            <a:ext cx="1031760" cy="1123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76880" y="3287880"/>
            <a:ext cx="1033560" cy="1123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34000" y="3287880"/>
            <a:ext cx="1033560" cy="1123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000" y="3287880"/>
            <a:ext cx="1031760" cy="1123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3360" y="3287880"/>
            <a:ext cx="1030320" cy="1123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4320" y="5032440"/>
            <a:ext cx="1032120" cy="10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5032440"/>
            <a:ext cx="1030320" cy="10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46640" y="5032440"/>
            <a:ext cx="1031760" cy="10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03760" y="5032440"/>
            <a:ext cx="1031760" cy="10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2680" y="5032440"/>
            <a:ext cx="1033560" cy="10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21600" y="5032440"/>
            <a:ext cx="1031760" cy="10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92920" y="3287880"/>
            <a:ext cx="1032120" cy="1123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000" y="2165400"/>
            <a:ext cx="85820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98600" y="226044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000" y="2039760"/>
            <a:ext cx="8578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000" y="918720"/>
            <a:ext cx="4346640" cy="1120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89640" y="918720"/>
            <a:ext cx="4232160" cy="1120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46640" y="1417680"/>
            <a:ext cx="22888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73520" y="1508040"/>
            <a:ext cx="199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aamse re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12920" y="2664000"/>
            <a:ext cx="147600" cy="2368440"/>
            <a:chOff x="1312920" y="2664000"/>
            <a:chExt cx="147600" cy="2368440"/>
          </a:xfrm>
        </p:grpSpPr>
        <p:sp>
          <p:nvSpPr>
            <p:cNvPr id="116" name=""/>
            <p:cNvSpPr/>
            <p:nvPr/>
          </p:nvSpPr>
          <p:spPr>
            <a:xfrm>
              <a:off x="1388160" y="2664000"/>
              <a:ext cx="1440" cy="2212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12920" y="4871880"/>
              <a:ext cx="147600" cy="16056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0"/>
                  </a:moveTo>
                  <a:lnTo>
                    <a:pt x="48" y="101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0040" y="2664000"/>
            <a:ext cx="149400" cy="2368440"/>
            <a:chOff x="2570040" y="2664000"/>
            <a:chExt cx="149400" cy="2368440"/>
          </a:xfrm>
        </p:grpSpPr>
        <p:sp>
          <p:nvSpPr>
            <p:cNvPr id="119" name=""/>
            <p:cNvSpPr/>
            <p:nvPr/>
          </p:nvSpPr>
          <p:spPr>
            <a:xfrm>
              <a:off x="2645280" y="2664000"/>
              <a:ext cx="1080" cy="2212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0040" y="4871880"/>
              <a:ext cx="149400" cy="16056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0" y="0"/>
                  </a:moveTo>
                  <a:lnTo>
                    <a:pt x="48" y="101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27520" y="2664000"/>
            <a:ext cx="149040" cy="2368440"/>
            <a:chOff x="3827520" y="2664000"/>
            <a:chExt cx="149040" cy="2368440"/>
          </a:xfrm>
        </p:grpSpPr>
        <p:sp>
          <p:nvSpPr>
            <p:cNvPr id="122" name=""/>
            <p:cNvSpPr/>
            <p:nvPr/>
          </p:nvSpPr>
          <p:spPr>
            <a:xfrm>
              <a:off x="3903840" y="2664000"/>
              <a:ext cx="1440" cy="2212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27520" y="4871880"/>
              <a:ext cx="149040" cy="16056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0"/>
                  </a:moveTo>
                  <a:lnTo>
                    <a:pt x="48" y="101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86440" y="2664000"/>
            <a:ext cx="150480" cy="2368440"/>
            <a:chOff x="5086440" y="2664000"/>
            <a:chExt cx="150480" cy="2368440"/>
          </a:xfrm>
        </p:grpSpPr>
        <p:sp>
          <p:nvSpPr>
            <p:cNvPr id="125" name=""/>
            <p:cNvSpPr/>
            <p:nvPr/>
          </p:nvSpPr>
          <p:spPr>
            <a:xfrm>
              <a:off x="5163120" y="2664000"/>
              <a:ext cx="1800" cy="2212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86440" y="4871880"/>
              <a:ext cx="150480" cy="16056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0"/>
                  </a:moveTo>
                  <a:lnTo>
                    <a:pt x="48" y="101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343560" y="2664000"/>
            <a:ext cx="150840" cy="2368440"/>
            <a:chOff x="6343560" y="2664000"/>
            <a:chExt cx="150840" cy="2368440"/>
          </a:xfrm>
        </p:grpSpPr>
        <p:sp>
          <p:nvSpPr>
            <p:cNvPr id="128" name=""/>
            <p:cNvSpPr/>
            <p:nvPr/>
          </p:nvSpPr>
          <p:spPr>
            <a:xfrm>
              <a:off x="6419880" y="2664000"/>
              <a:ext cx="1440" cy="2212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43560" y="4871880"/>
              <a:ext cx="150840" cy="16056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0" y="0"/>
                  </a:moveTo>
                  <a:lnTo>
                    <a:pt x="48" y="101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602480" y="2664000"/>
            <a:ext cx="149400" cy="2368440"/>
            <a:chOff x="7602480" y="2664000"/>
            <a:chExt cx="149400" cy="2368440"/>
          </a:xfrm>
        </p:grpSpPr>
        <p:sp>
          <p:nvSpPr>
            <p:cNvPr id="131" name=""/>
            <p:cNvSpPr/>
            <p:nvPr/>
          </p:nvSpPr>
          <p:spPr>
            <a:xfrm>
              <a:off x="7678800" y="2664000"/>
              <a:ext cx="1440" cy="2212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02480" y="4871880"/>
              <a:ext cx="149400" cy="16056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0"/>
                  </a:moveTo>
                  <a:lnTo>
                    <a:pt x="48" y="101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38360" y="2664000"/>
            <a:ext cx="150480" cy="623880"/>
            <a:chOff x="738360" y="2664000"/>
            <a:chExt cx="150480" cy="623880"/>
          </a:xfrm>
        </p:grpSpPr>
        <p:sp>
          <p:nvSpPr>
            <p:cNvPr id="134" name=""/>
            <p:cNvSpPr/>
            <p:nvPr/>
          </p:nvSpPr>
          <p:spPr>
            <a:xfrm>
              <a:off x="814320" y="2664000"/>
              <a:ext cx="1800" cy="46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8360" y="3125880"/>
              <a:ext cx="15048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0"/>
                  </a:moveTo>
                  <a:lnTo>
                    <a:pt x="48" y="102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998720" y="2664000"/>
            <a:ext cx="149040" cy="623880"/>
            <a:chOff x="1998720" y="2664000"/>
            <a:chExt cx="149040" cy="623880"/>
          </a:xfrm>
        </p:grpSpPr>
        <p:sp>
          <p:nvSpPr>
            <p:cNvPr id="137" name=""/>
            <p:cNvSpPr/>
            <p:nvPr/>
          </p:nvSpPr>
          <p:spPr>
            <a:xfrm>
              <a:off x="2073960" y="2664000"/>
              <a:ext cx="1440" cy="46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8720" y="3125880"/>
              <a:ext cx="1490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0"/>
                  </a:moveTo>
                  <a:lnTo>
                    <a:pt x="48" y="102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55840" y="2664000"/>
            <a:ext cx="149400" cy="623880"/>
            <a:chOff x="3255840" y="2664000"/>
            <a:chExt cx="149400" cy="623880"/>
          </a:xfrm>
        </p:grpSpPr>
        <p:sp>
          <p:nvSpPr>
            <p:cNvPr id="140" name=""/>
            <p:cNvSpPr/>
            <p:nvPr/>
          </p:nvSpPr>
          <p:spPr>
            <a:xfrm>
              <a:off x="3332160" y="2664000"/>
              <a:ext cx="1440" cy="46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5840" y="3125880"/>
              <a:ext cx="14940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0" y="0"/>
                  </a:moveTo>
                  <a:lnTo>
                    <a:pt x="48" y="102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13320" y="2664000"/>
            <a:ext cx="151920" cy="623880"/>
            <a:chOff x="4513320" y="2664000"/>
            <a:chExt cx="151920" cy="623880"/>
          </a:xfrm>
        </p:grpSpPr>
        <p:sp>
          <p:nvSpPr>
            <p:cNvPr id="143" name=""/>
            <p:cNvSpPr/>
            <p:nvPr/>
          </p:nvSpPr>
          <p:spPr>
            <a:xfrm>
              <a:off x="4590360" y="2664000"/>
              <a:ext cx="1440" cy="46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13320" y="3125880"/>
              <a:ext cx="15192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0"/>
                  </a:moveTo>
                  <a:lnTo>
                    <a:pt x="48" y="102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772240" y="2664000"/>
            <a:ext cx="150480" cy="623880"/>
            <a:chOff x="5772240" y="2664000"/>
            <a:chExt cx="150480" cy="623880"/>
          </a:xfrm>
        </p:grpSpPr>
        <p:sp>
          <p:nvSpPr>
            <p:cNvPr id="146" name=""/>
            <p:cNvSpPr/>
            <p:nvPr/>
          </p:nvSpPr>
          <p:spPr>
            <a:xfrm>
              <a:off x="5848920" y="2664000"/>
              <a:ext cx="1800" cy="46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72240" y="3125880"/>
              <a:ext cx="15048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0" y="0"/>
                  </a:moveTo>
                  <a:lnTo>
                    <a:pt x="48" y="102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031160" y="2664000"/>
            <a:ext cx="149040" cy="623880"/>
            <a:chOff x="7031160" y="2664000"/>
            <a:chExt cx="149040" cy="623880"/>
          </a:xfrm>
        </p:grpSpPr>
        <p:sp>
          <p:nvSpPr>
            <p:cNvPr id="149" name=""/>
            <p:cNvSpPr/>
            <p:nvPr/>
          </p:nvSpPr>
          <p:spPr>
            <a:xfrm>
              <a:off x="7107120" y="2664000"/>
              <a:ext cx="1800" cy="46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1160" y="3125880"/>
              <a:ext cx="14904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0" y="0"/>
                  </a:moveTo>
                  <a:lnTo>
                    <a:pt x="48" y="102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288280" y="2664000"/>
            <a:ext cx="150840" cy="623880"/>
            <a:chOff x="8288280" y="2664000"/>
            <a:chExt cx="150840" cy="623880"/>
          </a:xfrm>
        </p:grpSpPr>
        <p:sp>
          <p:nvSpPr>
            <p:cNvPr id="152" name=""/>
            <p:cNvSpPr/>
            <p:nvPr/>
          </p:nvSpPr>
          <p:spPr>
            <a:xfrm>
              <a:off x="8364600" y="2664000"/>
              <a:ext cx="1440" cy="46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88280" y="3125880"/>
              <a:ext cx="1508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0"/>
                  </a:moveTo>
                  <a:lnTo>
                    <a:pt x="48" y="102"/>
                  </a:lnTo>
                  <a:lnTo>
                    <a:pt x="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920" y="333684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iensten van de minister-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35268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uitenlands beleid en internat. samen-we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3526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eten-schappen en technol. inno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3685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tuurs-z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35268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nanciën en begro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10552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ultuur, jeugd, sport en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51022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e, werk-gelegenheid en toeris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510552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andbouw en visseri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51055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eefmilieu en natu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3526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derwijs en v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335268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elzijn en volks-gezond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51055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5105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uimte, wonen en onroerend erfg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4100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ter Bestuurlijk Beleid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rachtlij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3809880"/>
            <a:ext cx="830556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6640" y="519120"/>
            <a:ext cx="47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er Bestuurlijk Beleid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chtlij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76920"/>
            <a:ext cx="8153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cheid tussen beleids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eleids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eidsondersteuning </a:t>
            </a:r>
            <a:r>
              <a:rPr b="0" lang="nl-NL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rndeparte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eidsuitvoering        </a:t>
            </a:r>
            <a:r>
              <a:rPr b="0" lang="nl-NL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elfstandig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tsc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6160" y="1218240"/>
            <a:ext cx="79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eidsraad per homogeen beleidsdom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3809880"/>
            <a:ext cx="830556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6640" y="519120"/>
            <a:ext cx="47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er Bestuurlijk Beleid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chtlij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356560"/>
            <a:ext cx="8305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ager-mandaathouder, rechtstreeks aangestuu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sondersteu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suitvoering m.b.t. taken die niet verzelfstandi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agementondersteunende dienst (MOD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751760"/>
            <a:ext cx="31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art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3809880"/>
            <a:ext cx="830556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6640" y="519120"/>
            <a:ext cx="476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er Bestuurlijk Beleid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chtlij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883680"/>
            <a:ext cx="8458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ern verzelfstandigde agentschappen (EVA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suitvo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overeenkomst tussen minister en raad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gen rechtspersoonlijkhe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640" y="1065960"/>
            <a:ext cx="62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zelfstandigde agent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8640" y="1720440"/>
            <a:ext cx="8117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rn verzelfstandigde agentschappen (IVA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suitvo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overeenkomst tussen minist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ager-mandaath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f zonder rechtspersoonlijk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9520"/>
            <a:ext cx="830556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Veranderingstrajec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Buitenlands Beleid &amp; Internationale Samenwerking</a:t>
            </a:r>
            <a:br>
              <a:rPr sz="2400"/>
            </a:br>
            <a:r>
              <a:rPr b="1" lang="nl-BE" sz="2400" spc="-1" strike="noStrike">
                <a:solidFill>
                  <a:srgbClr val="fddc51"/>
                </a:solidFill>
                <a:latin typeface="Arial"/>
              </a:rPr>
              <a:t>________________________________________________</a:t>
            </a:r>
            <a:br>
              <a:rPr sz="24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91960" indent="-291960">
              <a:spcBef>
                <a:spcPts val="876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6640" y="519120"/>
            <a:ext cx="712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anderingstraject Buitenlands Beleid &amp; Internationale Samenwerk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06:48:36Z</dcterms:created>
  <dc:creator>Peter Vanneste</dc:creator>
  <dc:description/>
  <dc:language>en-US</dc:language>
  <cp:lastModifiedBy>Reggerbe</cp:lastModifiedBy>
  <cp:lastPrinted>2003-03-10T12:47:08Z</cp:lastPrinted>
  <dcterms:modified xsi:type="dcterms:W3CDTF">2003-03-12T08:11:11Z</dcterms:modified>
  <cp:revision>97</cp:revision>
  <dc:subject>Best-Practice Presentation</dc:subject>
  <dc:title>Begeleiding transitietraject BBB  BB / IS Scope Departement</dc:title>
</cp:coreProperties>
</file>