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C3E-E8AA-4A37-895C-5627EE83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090-9B79-45A7-B57F-A0BD7D2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DE7-82E1-4584-B8BE-778DEE9D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2B4-C41B-4B5E-9901-173E3918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C4FB-19F1-44FF-86EE-87F27F9F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551B-2306-4B26-B115-A77A517C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2995-489B-4C15-A62D-03997DE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CAD3-8E22-42A1-BA7A-8A4ACF7D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F642-0EAC-4660-9201-E3C976E2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D75-A1DF-4D2F-ABBC-4A5D44A4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400B-F74F-49C1-8056-C0A0C10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876-1ED4-436A-8360-333430C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CFFB-A59E-4281-A83F-C689C86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D46-1920-4E2D-BC7D-F6B6AB0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579-7D3F-4866-A694-5565907C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7A7-ABF4-4384-96AC-01B05DE9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1417-DE26-4AAD-9624-6294B44D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39F-49D2-4A24-A440-696E3363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B4C-F11D-4D32-A687-51123C9A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355-5953-4DF5-B0D1-6E77455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A66-EBDD-4461-B7A7-5965610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65F-2906-44CB-924F-8654A59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7D7-79A9-4399-9A5D-01AC9EB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C99-EB41-4EC3-8352-960B1D2A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57200" cy="6477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BA4-3BC7-441B-96DF-3F6703E9EBFF}" type="slidenum"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Copy%20(2)%20of%20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572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278-E143-494E-890F-0C49140D0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Copy%20(2)%20of%20logo" descr=""/>
          <p:cNvPicPr/>
          <p:nvPr/>
        </p:nvPicPr>
        <p:blipFill>
          <a:blip r:embed="rId2"/>
          <a:stretch/>
        </p:blipFill>
        <p:spPr>
          <a:xfrm>
            <a:off x="3581280" y="457200"/>
            <a:ext cx="1600200" cy="1355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ff33"/>
                </a:solidFill>
                <a:latin typeface="Times New Roman"/>
              </a:rPr>
              <a:t>Financiële Samenwerking</a:t>
            </a:r>
            <a:endParaRPr b="0" lang="en-US" sz="4400" spc="-1" strike="noStrike">
              <a:solidFill>
                <a:srgbClr val="ccff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asisbegrippen in het kader van de Belgische ontwikkelingssamenwerking, praktijk e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1 : PRPE/Health - Mozamb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hulp aan het Ministerie van het Plan en Financiën om de 'value for money'-analyse te organise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advies over specifieke referentietermen voor de 'value for money'-analy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hulp bij de keuze van het auditkantoo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 verwezenlijkingen in de driemaandelijkse verslagen volgen; de verslagen van de partners analyseren en evaluere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 (maandelijkse) externe controle volgen, analyseren en evaluere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maandelijkse vergaderingen en overl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 rapportering van de 'value for money' analyse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handtekeningsbevoegdheid waarnemen op gezamelijke rekening met MPF/D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samen met het MPF/DNT zorgen voor het vrijmaken van de middelen nadat de betalingsopdracht gegeven is door MPF/DNC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samen met het MPF/DNT zorgen voor het stijven van de gezamenlijke reken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1 : PRPE/Health - Mozambiq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in geval van problemen begeleidende maatregelen voorstell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eelnemen aan technische vergaderingen met de donoren en het partnerl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GOS regelmatig informeren over technische zaken met het oog op de voorbereiding van politieke/strategische discussies die door DGOS moeten worden gevoerd (technische inpu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algemeen financieel en administratief beheer volgens de regels van de Belgische administra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technische follow-up vanuit Bruss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2 : Defensor del Pueblo - Boliv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-ordina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pstartf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aanvragen storting van verschillende schijv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pvolging storti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indf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institutional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elnem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nitoring en evalu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eelname aan gezamelijke evalua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pvolging van ontwikkeling van monitor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rapportering opvol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rapportering analyse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Voorbeeld 2 : Defensor del Pueblo - Boliv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Technische assistentie en backstopp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de represent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Bruss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deelname aan technische werkgroe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financiële en administratieve opvol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de represent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vanuit Bruss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informatieoverdracht D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Overmaken van de rapportering en voorzien van opmerkingen en aanbeveli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Pooling - donormee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imes New Roman"/>
              </a:rPr>
              <a:t>Afsluiting   administratief, technisch, financie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5. Aandachtspunten algem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electie van partner en instru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bsorptiecapacit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Kwalitatieve aud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Conditionalitei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Negatieve macro-economische effec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5. Aandachtspunten voor Belgi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ialoog mbt het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dentificatie en formul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Minimale transparante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nvesteren in 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Financiële Samenwer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Basisbegri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Financiële samenwerking en de projectcycl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Procedures enkele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De rol van BT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oorbeel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andachtspu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1. Basisbegripp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lgem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Donor voorzien financiering voor activiteiten die door de partner worden uitgevoe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strume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Budgethulp (algemene of sectorië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Basket Fu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Schuldvermind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Hulp aan de betalingsba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Tegenwaardefond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trategieë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rgumenten en proble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1. Basisbegripp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Algem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Instrumen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Strategieë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ector Wide Approaches of SW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SPA of Strategic Partnership with Af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Bilaterale, multilaterale, bi-multilate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Argumenten en probl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1. Basisbegripp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Argumente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Coördinatie – Ownership  -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Problemen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Eligibiliteit – selec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Fungibilit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Conditionalit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imes New Roman"/>
              </a:rPr>
              <a:t>Earmarking – conditionaliteit - monito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2. Financiële Samenwerking en de projectcyc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dentificatie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olitieke besli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Formulerings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Verificatie en verfijning van opvolgingsmethod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Uitvoerings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fhankelijk van de institutionele capaciteit en de aard van de samenwerking (zie voorbee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Evalu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3. Procedures enkele elemen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1ste beheers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Geen specifieke proced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Goedkeuring van het Kabinet van Begr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Via rekeningen in medebeh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Selectie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2de beheerscontrac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Apparte basisallocatie – directe st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Expertise overeenkomst ipv tenuitvoeringsovereenkom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Onduidelijkheid over taken, verantwoordelijkheden e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Times New Roman"/>
              </a:rPr>
              <a:t>4. De rol van B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Heeft BTC een rol te spel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Juridisch k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Inhoudelijke coherentie in bilaterale samewe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artnership en samenwe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Welke taken kan BTC realiser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Opvolging van het bele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Financiële opvol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Resultaten opvol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Technische ondersteu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Participatie in donorcoördina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imes New Roman"/>
              </a:rPr>
              <a:t>Overzicht dossi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133720"/>
            <a:ext cx="762012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438280"/>
          <a:ext cx="7086600" cy="37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7086600" cy="3783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5:29:31Z</dcterms:created>
  <dc:creator>avanbauw</dc:creator>
  <dc:description/>
  <dc:language>en-US</dc:language>
  <cp:lastModifiedBy>Van Bauwel</cp:lastModifiedBy>
  <dcterms:modified xsi:type="dcterms:W3CDTF">2003-03-12T08:44:55Z</dcterms:modified>
  <cp:revision>27</cp:revision>
  <dc:subject/>
  <dc:title>PowerPoint Presentation</dc:title>
</cp:coreProperties>
</file>