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65CA-141F-476C-B250-9D772978B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7A97-2547-48A5-B7DF-9EECC957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433C-8EBF-4443-9E54-F47B19A8A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F887-16FE-4417-9A26-14560F27F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9AFB-4C28-4754-A286-823EAE8EB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1B1E-E18A-49ED-A15B-AA97D54F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8AAF-31AC-4474-824B-099735CD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DF2E-7275-48D7-BA55-2BB93A30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6D11-D136-4985-970A-2FF58DB3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563C-069A-4F0D-84B4-F47B0715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36E1-FB72-453F-AEBF-899A2849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CA33-D009-46EF-93C8-921EDDF8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B2DF-512E-467E-B59E-BBACAAA8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4DE8-B25A-49C8-A1F0-BCB5DD68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7991-D5A6-46AE-9690-30DE5C08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19C4-D8B1-4579-944C-E503C87F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E418-989F-4E16-92D7-165F8AB20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D059-C89B-43CA-8BFE-73FDC598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C619-8194-4858-9695-61382BD9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7B50-1C7E-4AD8-9453-521CDDCB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64C1-ED92-48BA-B654-6E654D9C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688F-E431-425E-B756-D3DA6DFB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0511-D86C-4DF8-9BCE-4044E08B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C10F-52A2-41DE-8A25-A9592112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228600"/>
            <a:ext cx="457200" cy="6477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CBB1-8DE4-4F69-8877-FC69F78C50BB}" type="slidenum">
              <a:rPr b="0" lang="en-US" sz="1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Copy%20(2)%20of%20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457200" cy="38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F35E-7C91-442F-9DF9-CE4C779F6C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Copy%20(2)%20of%20logo" descr=""/>
          <p:cNvPicPr/>
          <p:nvPr/>
        </p:nvPicPr>
        <p:blipFill>
          <a:blip r:embed="rId2"/>
          <a:stretch/>
        </p:blipFill>
        <p:spPr>
          <a:xfrm>
            <a:off x="3581280" y="457200"/>
            <a:ext cx="1600200" cy="13557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ff33"/>
                </a:solidFill>
                <a:latin typeface="Times New Roman"/>
              </a:rPr>
              <a:t>Financiële Samenwerking</a:t>
            </a:r>
            <a:endParaRPr b="0" lang="en-US" sz="44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Basisbegrippen in het kader van de Belgische ontwikkelingssamenwerking, praktijk en proced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ffffff"/>
                </a:solidFill>
                <a:latin typeface="Times New Roman"/>
              </a:rPr>
              <a:t>Voorbeeld 1 : PRPE/Health - Mozambiqu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hulp aan het Ministerie van het Plan en Financiën om de 'value for money'-analyse te organiser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advies over specifieke referentietermen voor de 'value for money'-analy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hulp bij de keuze van het auditkantoor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de verwezenlijkingen in de driemaandelijkse verslagen volgen; de verslagen van de partners analyseren en evaluere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de (maandelijkse) externe controle volgen, analyseren en evaluere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maandelijkse vergaderingen en overle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de rapportering van de 'value for money' analyser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handtekeningsbevoegdheid waarnemen op gezamelijke rekening met MPF/D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samen met het MPF/DNT zorgen voor het vrijmaken van de middelen nadat de betalingsopdracht gegeven is door MPF/DNC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samen met het MPF/DNT zorgen voor het stijven van de gezamenlijke rekenin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ffffff"/>
                </a:solidFill>
                <a:latin typeface="Times New Roman"/>
              </a:rPr>
              <a:t>Voorbeeld 1 : PRPE/Health - Mozambiqu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in geval van problemen begeleidende maatregelen voorstelle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deelnemen aan technische vergaderingen met de donoren en het partnerland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DGOS regelmatig informeren over technische zaken met het oog op de voorbereiding van politieke/strategische discussies die door DGOS moeten worden gevoerd (technische input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algemeen financieel en administratief beheer volgens de regels van de Belgische administrat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technische follow-up vanuit Bruss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ffffff"/>
                </a:solidFill>
                <a:latin typeface="Times New Roman"/>
              </a:rPr>
              <a:t>Voorbeeld 2 : Defensor del Pueblo - Boliv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-ordinat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opstartf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aanvragen storting van verschillende schijv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opvolging stortin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eindf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terinstitutional Committe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deelneme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onitoring en evaluat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deelname aan gezamelijke evalua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opvolging van ontwikkeling van monitoring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rapportering opvol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rapportering analyser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ffffff"/>
                </a:solidFill>
                <a:latin typeface="Times New Roman"/>
              </a:rPr>
              <a:t>Voorbeeld 2 : Defensor del Pueblo - Boliv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Times New Roman"/>
              </a:rPr>
              <a:t>Technische assistentie en backstoppi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Vanuit de representat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vanuit Bruss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deelname aan technische werkgroep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Times New Roman"/>
              </a:rPr>
              <a:t>financiële en administratieve opvolg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vanuit de representat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vanuit Bruss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Times New Roman"/>
              </a:rPr>
              <a:t>informatieoverdracht DG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Overmaken van de rapportering en voorzien van opmerkingen en aanbevelin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Times New Roman"/>
              </a:rPr>
              <a:t>Pooling - donormeet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Times New Roman"/>
              </a:rPr>
              <a:t>Afsluiting   administratief, technisch, financie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ff"/>
                </a:solidFill>
                <a:latin typeface="Times New Roman"/>
              </a:rPr>
              <a:t>5. Aandachtspunten algem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Selectie van partner en instrumen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Absorptiecapacite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Kwalitatieve aud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Conditionalitei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Negatieve macro-economische effec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ff"/>
                </a:solidFill>
                <a:latin typeface="Times New Roman"/>
              </a:rPr>
              <a:t>5. Aandachtspunten voor België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Dialoog mbt het pro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Identificatie en formul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Minimale transparante proced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Investeren in kenn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ff"/>
                </a:solidFill>
                <a:latin typeface="Times New Roman"/>
              </a:rPr>
              <a:t>Financiële Samenwerk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Basisbegripp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Financiële samenwerking en de projectcyclu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Procedures enkele elemen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De rol van BTC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Voorbeeld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Aandachtspun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ffffff"/>
                </a:solidFill>
                <a:latin typeface="Times New Roman"/>
              </a:rPr>
              <a:t>1. Basisbegripp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Algem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Donor voorzien financiering voor activiteiten die door de partner worden uitgevoe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Instrumen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Budgethulp (algemene of sectorië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Basket Fun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Schuldvermind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Hulp aan de betalingsbal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Tegenwaardefonds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Strategieë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Argumenten en problem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ffffff"/>
                </a:solidFill>
                <a:latin typeface="Times New Roman"/>
              </a:rPr>
              <a:t>1. Basisbegripp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imes New Roman"/>
              </a:rPr>
              <a:t>Algeme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imes New Roman"/>
              </a:rPr>
              <a:t>Instrument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imes New Roman"/>
              </a:rPr>
              <a:t>Strategieë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Sector Wide Approaches of SW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SPA of Strategic Partnership with Afr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Bilaterale, multilaterale, bi-multilater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imes New Roman"/>
              </a:rPr>
              <a:t>Argumenten en proble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ff"/>
                </a:solidFill>
                <a:latin typeface="Times New Roman"/>
              </a:rPr>
              <a:t>1. Basisbegripp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Argumenten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imes New Roman"/>
              </a:rPr>
              <a:t>Coördinatie – Ownership  - Accoun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Problemen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imes New Roman"/>
              </a:rPr>
              <a:t>Eligibiliteit – select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imes New Roman"/>
              </a:rPr>
              <a:t>Fungibilite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imes New Roman"/>
              </a:rPr>
              <a:t>Conditionalitei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imes New Roman"/>
              </a:rPr>
              <a:t>Earmarking – conditionaliteit - monitor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ffffff"/>
                </a:solidFill>
                <a:latin typeface="Times New Roman"/>
              </a:rPr>
              <a:t>2. Financiële Samenwerking en de projectcyclu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Identificatief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Politieke besli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Formuleringsf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Verificatie en verfijning van opvolgingsme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Uitvoeringsf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Afhankelijk van de institutionele capaciteit en de aard van de samenwerking (zie voorbeel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Evaluat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ffffff"/>
                </a:solidFill>
                <a:latin typeface="Times New Roman"/>
              </a:rPr>
              <a:t>3. Procedures enkele element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1ste beheerscontr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Geen specifieke procedur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Goedkeuring van het Kabinet van Begro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Via rekeningen in medebehe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Selectiecrite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2de beheerscontrac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Apparte basisallocatie – directe stor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Expertise overeenkomst ipv tenuitvoeringsovereenkom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imes New Roman"/>
              </a:rPr>
              <a:t>Onduidelijkheid over taken, verantwoordelijkheden en proced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ffffff"/>
                </a:solidFill>
                <a:latin typeface="Times New Roman"/>
              </a:rPr>
              <a:t>4. De rol van BT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Heeft BTC een rol te spelen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Juridisch k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Inhoudelijke coherentie in bilaterale samewer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Partnership en samenwer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Welke taken kan BTC realiseren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Opvolging van het bele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Financiële opvolg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Resultaten opvolg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Technische ondersteu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Participatie in donorcoördinat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ff"/>
                </a:solidFill>
                <a:latin typeface="Times New Roman"/>
              </a:rPr>
              <a:t>Overzicht dossi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133720"/>
            <a:ext cx="7620120" cy="4353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066680" y="2438280"/>
          <a:ext cx="7086600" cy="378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438280"/>
                    <a:ext cx="7086600" cy="37832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15:29:31Z</dcterms:created>
  <dc:creator>avanbauw</dc:creator>
  <dc:description/>
  <dc:language>en-US</dc:language>
  <cp:lastModifiedBy>Van Bauwel</cp:lastModifiedBy>
  <dcterms:modified xsi:type="dcterms:W3CDTF">2003-03-12T08:44:55Z</dcterms:modified>
  <cp:revision>27</cp:revision>
  <dc:subject/>
  <dc:title>PowerPoint Presentation</dc:title>
</cp:coreProperties>
</file>