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2932-71C0-4C54-883E-D405D3653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4A80-3F90-4B55-867C-DB1BE537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8AB2-54FB-42E5-BA63-0EC848E3F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6012-7350-4AA5-A149-6AB048727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B042-AC5A-4CEA-AB28-4EF7BACA6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C02D-9B38-44F7-BBED-586B69A0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4F2E-B4DE-42C2-8FE3-94BB8794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5208-CAAF-4222-BD4B-7B2C4EE6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8F74-455A-4940-9DAA-56EB1038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6687-141A-4665-8CA6-80A3C1A9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2CFE-0200-4E2D-B00D-9277A6EA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1687-3049-4A8F-B8A4-79F6562F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B6BC-4F77-433E-BD4E-3271CEB6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08D3-3911-428F-BD45-18A0E7CB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3718-E0F0-49C8-88B8-C8EC6FA0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221A-30C8-429E-9349-C618C2F1C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BC63-A4E7-404C-8BDA-691944711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58EF-1BA7-44BA-A3E1-3174B39E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06E9-B013-49DB-AE63-1E5A41AD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5EE9-7265-4615-9463-F03C8193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D31E-CEDE-4B08-BBE3-F0239934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6599-04F0-4AE5-BC68-ADD0FE28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3274-F676-40C4-882C-5F2CE288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A390-07FE-4017-977D-3FDB6726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63B8-0586-4E97-A5B0-449FAE9C4D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CEF9-03FE-4F35-8912-CB039CBBFB1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SECTOR-WIDE APPROACHES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IN THE HEALTH SECTO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(IN UGANDA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KEY CHARACTERISTIC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r. Martinus Desmet,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PN, WHO Country Office - Ugand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B721-B280-47CC-B82F-5E333C8926D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) GOVT &amp; DONORS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OVER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OLICY, STRUCTURES &amp; SYSTEMS NOT YET FULLY IN PL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ACCOUNTABILITY 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LINKS WITH BROADER GOVT POLICIES, GOVT BUDGET PRO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DON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RELUCTANT TO GO INTO BUDGET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nl-NL" sz="1800" spc="-1" strike="noStrike">
                <a:solidFill>
                  <a:srgbClr val="000000"/>
                </a:solidFill>
                <a:latin typeface="Tahoma"/>
              </a:rPr>
              <a:t>(funding is not the only  poi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MANAGERS’ MORE THAN HEALTH PROFESSION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DONORS + GOVER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NEW CONCEPT, NEEDS INTER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TOO MUCH ‘PROCESS-ORIENTED’ AT NATIONAL (DISTRICT ?)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NO KNOWLEDGE OF DONOR DEPENDENCY RAT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CC89-FA20-4200-B061-9F7469AB07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2) LINK WITH NATIONAL BUDGET FRAME &amp; PRSP/PRSC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55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Tahoma"/>
              </a:rPr>
              <a:t>TRENDS IN HEALTH FINANCING MECHANISM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PROJECT VS SECTOR SUPPORT; OTHER SOURCES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OVER TIME: ‘REMAINING’ % OF TOTAL BUDGET FROM PRO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EXTRA-BUDGETARY’ / FUNDS UNACCOUNTED FO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Tahoma"/>
              </a:rPr>
              <a:t>TENSION ‘SECTOR’ - ‘TOTAL’ GOVT BUDGET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TOTAL GOVT BUDGET = OWN RESOURCES + HIPC I/II + OVERALL BUDGET SUPPORT + SECTOR-SPECIFIC BUDGET SUPPO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BUDGET ALLOCATION PROCESS: PARTICIPATORY GOVT / CIVIL SOC / DONORS / PARLIA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FUNGIBILITY OF DONOR FUNDS/ ROLE NATIONAL BAN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DONOR DEPENDENCY RATIO ?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Tahoma"/>
              </a:rPr>
              <a:t>ESTABLISHMENT ‘POVERTY ACTION FUND’ </a:t>
            </a: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= SPECIFIC ACTIVITIES IN DEFINED SECTORS FUNDED BY HIPC RETURNS + SPECIFIC DONOR CONTRIBITIONS (fungibility !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092E-51D6-4C70-87C2-59FB2AA55A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2) LINK WITH NATIONAL BUDGET FRAME &amp; PEAP PRSP/PRSC (2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104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55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Tahoma"/>
              </a:rPr>
              <a:t>IMPACT GLOBAL INITIATIV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NON-ADDITIONAL TO SECTOR BUDGET CEILING / “DISRUPTIV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EXCHANGED AGAINST LESS TIGHT BUDGET COMPON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55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Tahoma"/>
              </a:rPr>
              <a:t>SWAp STRUCTUR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Mid-Term Review, Health Policy Advisory Committee, Health Development Partners Grou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55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Tahoma"/>
              </a:rPr>
              <a:t>NEED FOR CLOSE COLLABORATION BETWE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TECHNICAL EXPERTISE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 ‘</a:t>
            </a: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POLITICAL/ DIPLOMATIC’ LEVELS OF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ahoma"/>
              </a:rPr>
              <a:t>REPRESENTATION’ OF DONOR COUN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.g. Presidential proposal for budget cuts so as to cover extra-ordinary defense expenditure. / Presidential proposal to increase with 25% the No. Of distric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475B-32B6-48EE-8A8F-7C73DA7496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2) LINK WITH NATIONAL BUDGET FRAME &amp; PEAP PRSP/PRSC (3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Tahoma"/>
              </a:rPr>
              <a:t>PEAP / PRSP VERY BROAD ! 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Macro-economic; Governance; Income of the Poor; Quality of Life of the Po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Poor vs Non-poor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Tahoma"/>
              </a:rPr>
              <a:t>FROM NATIONAL PLAN ----&gt; PRSP ----&gt; PRSC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HEALTH SECTOR WITHIN “PILAR 4” OF POVERTY ERADICATION ACTION PLAN (“PEAP”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PEAP = PRS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PRSP AS THE BASIS FOR PRS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Tahoma"/>
              </a:rPr>
              <a:t>OUTCOME OF HEALTH SWAp in PRSC PROC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HSSP TARGETS AND MTR ‘UNDERTAKINGS’ USED AS BENCHMARKS IN THE POLICY MATRIX OF PRSC TO MONITOR PROGRESS MA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A680-3AAA-41B1-A063-7785B7A956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4. CONTRIBUTION OF BELGIUM 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676520" y="29714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- NATION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- DISTRIC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AD51-C5A9-4B5B-9790-F72E20228F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lack"/>
              </a:rPr>
              <a:t>Contribution of Belgium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 Black"/>
              </a:rPr>
              <a:t>National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OAL ?? (linked to sectors in Country Strategy Paper, Indicative Country Program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Participation in SWAp structures (HAPC, HDP group, MTR, Working Groups, ICC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WHO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HOW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Participation in PRSC process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WHO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HOW 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EA85-8610-46DD-B993-39237687DF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lack"/>
              </a:rPr>
              <a:t>Contribution of Belgium (2)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 Black"/>
              </a:rPr>
              <a:t>District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OAL 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In district coordination structures (esp. When decentralised governmen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WHO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HOW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In operational activit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WHO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HOW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2083-2617-4C56-BE85-517CFD5B3E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11A9-16FA-4917-89E3-95BFFA0A16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64800" y="21337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Common definitions of SW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hat SWAp really is (should b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Challe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elgian contribution to SW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D48E-42B7-419A-BBBB-B1B14CE379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. COMMON DEFINI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676520" y="29714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lack"/>
              </a:rPr>
              <a:t>- from policy to polic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lack"/>
              </a:rPr>
              <a:t>- a proces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DA4E-E8D8-479A-8BF7-ED707E4A92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lack"/>
              </a:rPr>
              <a:t>SWAp’s - DEFINIT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nl-NL" sz="2800" spc="-1" strike="noStrike">
                <a:solidFill>
                  <a:srgbClr val="000000"/>
                </a:solidFill>
                <a:latin typeface="Tahoma"/>
              </a:rPr>
              <a:t>All significant funding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 for the sector suppor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6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 a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gle sector policy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nditure program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6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vernment leadersh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6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adopting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mon approache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across the se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6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progress towards relying on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vernment procedure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disburs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funds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6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WHO (2000) “Sector-wide Approaches for Health Development”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6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SWAp = a proces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69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broadening &amp; deapening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licy dialog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69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more sector funds into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-ordinated arrangement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69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developing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mon procedure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based on those of gover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69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-----&gt; focus on the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intended direction of chang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69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ather than just the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level of attai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B998-56BC-4C5C-9C33-1217D4BBAF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2. WHAT SWAp REALLY IS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(or should be)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lack"/>
              </a:rPr>
              <a:t>- not only fund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lack"/>
              </a:rPr>
              <a:t>- efficiency / effectivenes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4823-48BC-45ED-AA8B-DC374119C6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ULTIMATE GOAL OF A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Health SWAp 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ONLY A PROCES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LTIMATE PURPOS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E EFFICIENCY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CREASED  AND IMPROVE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T THE SAME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1390-58D9-4E45-AE3B-C20403F9C2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So: What are the </a:t>
            </a:r>
            <a:r>
              <a:rPr b="1" i="1" lang="nl-NL" sz="3600" spc="-1" strike="noStrike">
                <a:solidFill>
                  <a:srgbClr val="000000"/>
                </a:solidFill>
                <a:latin typeface="Arial"/>
              </a:rPr>
              <a:t>keys</a:t>
            </a: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 in a</a:t>
            </a:r>
            <a:br>
              <a:rPr sz="3600"/>
            </a:b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Health SWAp to increase efficiency 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83920" y="1523520"/>
            <a:ext cx="85597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ahoma"/>
              </a:rPr>
              <a:t>GOVT USE PARTNERSHIP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ahoma"/>
              </a:rPr>
              <a:t>CONSENSUS BUILDING AROUN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1) “SOLID PIECE” of </a:t>
            </a:r>
            <a:r>
              <a:rPr b="1" lang="nl-NL" sz="32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- Evidence-based; based on ORGANISATIONAL PRINCIPLES for SERVICE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2) Common </a:t>
            </a:r>
            <a:r>
              <a:rPr b="1" lang="nl-NL" sz="3200" spc="-1" strike="noStrike">
                <a:solidFill>
                  <a:srgbClr val="000000"/>
                </a:solidFill>
                <a:latin typeface="Tahoma"/>
              </a:rPr>
              <a:t>PLANNING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 de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- activity packages by level; 5-yr/1yr, incl. COSTING &amp; FIN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3) ‘Adapted’ </a:t>
            </a:r>
            <a:r>
              <a:rPr b="1" lang="nl-NL" sz="3200" spc="-1" strike="noStrike">
                <a:solidFill>
                  <a:srgbClr val="000000"/>
                </a:solidFill>
                <a:latin typeface="Tahoma"/>
              </a:rPr>
              <a:t>FUNDING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 arrang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(not only ‘common basket’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EC17-5D0C-4EA0-9057-A5A25D80FF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Health SWAp </a:t>
            </a:r>
            <a:r>
              <a:rPr b="1" i="1" lang="nl-NL" sz="4000" spc="-1" strike="noStrike">
                <a:solidFill>
                  <a:srgbClr val="000000"/>
                </a:solidFill>
                <a:latin typeface="Arial"/>
              </a:rPr>
              <a:t>keys</a:t>
            </a: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 for increased efficiency (Cont’d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4) Reliable </a:t>
            </a:r>
            <a:r>
              <a:rPr b="1" lang="nl-NL" sz="3200" spc="-1" strike="noStrike">
                <a:solidFill>
                  <a:srgbClr val="000000"/>
                </a:solidFill>
                <a:latin typeface="Tahoma"/>
              </a:rPr>
              <a:t>MONITO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- on input, process &amp;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5) Continuous </a:t>
            </a:r>
            <a:r>
              <a:rPr b="1" lang="nl-NL" sz="3200" spc="-1" strike="noStrike">
                <a:solidFill>
                  <a:srgbClr val="000000"/>
                </a:solidFill>
                <a:latin typeface="Tahoma"/>
              </a:rPr>
              <a:t>EVALUATION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 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- at “Health District” &amp; national level; regular meetings with all invol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6) Accountable resources </a:t>
            </a:r>
            <a:r>
              <a:rPr b="1" lang="nl-NL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 &amp; </a:t>
            </a:r>
            <a:r>
              <a:rPr b="1" lang="nl-NL" sz="3200" spc="-1" strike="noStrike">
                <a:solidFill>
                  <a:srgbClr val="000000"/>
                </a:solidFill>
                <a:latin typeface="Tahoma"/>
              </a:rPr>
              <a:t>ACCOUNTING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 procedu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1160-B531-4398-84B5-7A793C398F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3.CHALLEN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599840" y="2590560"/>
            <a:ext cx="67057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lack"/>
              </a:rPr>
              <a:t>- Donors &amp; Gov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lack"/>
              </a:rPr>
              <a:t>- Link with national budget frame &amp; PRSP/PRSC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lack"/>
              </a:rPr>
              <a:t>- Decentralisa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C61A-07A4-4EA6-B41C-EB403DC4C6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2T11:26:29Z</dcterms:created>
  <dc:creator>Client 98</dc:creator>
  <dc:description/>
  <dc:language>en-US</dc:language>
  <cp:lastModifiedBy>Client 98</cp:lastModifiedBy>
  <cp:lastPrinted>2003-03-02T17:31:34Z</cp:lastPrinted>
  <dcterms:modified xsi:type="dcterms:W3CDTF">2003-03-02T18:16:49Z</dcterms:modified>
  <cp:revision>66</cp:revision>
  <dc:subject/>
  <dc:title>SECTOR-WIDE APPROACHES IN THE HEALTH SECTOR (IN UGANDA)</dc:title>
</cp:coreProperties>
</file>