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3F12-02A4-433C-B537-6358482C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F22D-85E8-4858-9814-B289F560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C49-BFA3-4D22-A9C8-F4C40CC7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E6D-3F6C-4E52-BCAA-D503065F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8018-9CC6-49AF-9082-8B70CAB7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C033-418E-4B61-AC2F-60E6510F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2CE2-3F6F-41EA-BE01-19FEC6F9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B135-F933-403B-8029-637F31D6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3AD1-4419-4510-86DA-308497D0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70AD-5A6F-4652-82CE-FC8C8D26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FE91-BA94-4A80-8CF8-BB431DA0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200A-D006-4BCA-9C33-3FD3DBDF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5D5C-47F2-4472-B472-C6C5E0E1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B834-01F8-48A1-951A-E43CBA56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0C2A-1D77-4BD9-AA63-EB3A5D41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C28A-A87D-47E6-ABE7-76A72168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8501-6750-4612-A68B-E46439DE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9E7-54CD-47FA-A149-C4947323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8E4-2A2E-4E2E-8AC0-34D1804E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FD1-E846-4C17-A78D-A76D6CB3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A05-42E5-4A49-A0D8-C928D1C2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D210-0B26-46DD-86B6-BF4E7E2D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C2C1-12AD-486A-BCF1-87BA22BD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1BA-447A-4568-A38B-1624E3FF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E929-B018-4345-A379-20ABBEE05F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798F-B740-41A9-ABBD-B923C7FE95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ECTOR-WIDE APPROACHES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IN THE HEALTH SECT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(IN UGANDA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KEY CHARACTERISTIC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. Martinus Desmet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PN, WHO Country Office - Ugand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2F34-8EC0-43C7-A0EA-01473716DC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) GOVT &amp; DONORS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OLICY, STRUCTURES &amp; SYSTEMS NOT YET FULLY IN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ACCOUNTABILITY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INKS WITH BROADER GOVT POLICIES, GOVT BUDGET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ON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RELUCTANT TO GO INTO BUDGET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nl-NL" sz="1800" spc="-1" strike="noStrike">
                <a:solidFill>
                  <a:srgbClr val="000000"/>
                </a:solidFill>
                <a:latin typeface="Tahoma"/>
              </a:rPr>
              <a:t>(funding is not the only  poi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ANAGERS’ MORE THAN HEALTH PROFESSION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ONORS + GOVER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NEW CONCEPT, NEEDS INTER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TOO MUCH ‘PROCESS-ORIENTED’ AT NATIONAL (DISTRICT ?)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NO KNOWLEDGE OF DONOR DEPENDENCY RAT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5AF-52DC-4090-977D-DD602745DA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) LINK WITH NATIONAL BUDGET FRAME &amp; PRSP/PRS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ahoma"/>
              </a:rPr>
              <a:t>TRENDS IN HEALTH FINANCING MECHANIS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PROJECT VS SECTOR SUPPORT; OTHER SOURCES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OVER TIME: ‘REMAINING’ % OF TOTAL BUDGET FROM PRO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EXTRA-BUDGETARY’ / FUNDS UNACCOUNTED F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ahoma"/>
              </a:rPr>
              <a:t>TENSION ‘SECTOR’ - ‘TOTAL’ GOVT BUDGET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TOTAL GOVT BUDGET = OWN RESOURCES + HIPC I/II + OVERALL BUDGET SUPPORT + SECTOR-SPECIFIC BUDGET SUPP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BUDGET ALLOCATION PROCESS: PARTICIPATORY GOVT / CIVIL SOC / DONORS / PARLIA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FUNGIBILITY OF DONOR FUNDS/ ROLE NATIONAL BAN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DONOR DEPENDENCY RATIO ?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ahoma"/>
              </a:rPr>
              <a:t>ESTABLISHMENT ‘POVERTY ACTION FUND’ </a:t>
            </a: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= SPECIFIC ACTIVITIES IN DEFINED SECTORS FUNDED BY HIPC RETURNS + SPECIFIC DONOR CONTRIBITIONS (fungibility !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45F-BD0F-4688-B75B-82DE59FBBC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) LINK WITH NATIONAL BUDGET FRAME &amp; PEAP PRSP/PRSC (2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ahoma"/>
              </a:rPr>
              <a:t>IMPACT GLOBAL INITIATIV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NON-ADDITIONAL TO SECTOR BUDGET CEILING / “DISRUPTIV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EXCHANGED AGAINST LESS TIGHT BUDGET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ahoma"/>
              </a:rPr>
              <a:t>SWAp STRUCTU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Mid-Term Review, Health Policy Advisory Committee, Health Development Partners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ahoma"/>
              </a:rPr>
              <a:t>NEED FOR CLOSE COLLABORATION BETW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TECHNICAL EXPERTISE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 ‘</a:t>
            </a: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POLITICAL/ DIPLOMATIC’ LEVELS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REPRESENTATION’ OF DONOR COUN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.g. Presidential proposal for budget cuts so as to cover extra-ordinary defense expenditure. / Presidential proposal to increase with 25% the No. Of distri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7F8-A336-4340-907F-5D46B9D8A4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) LINK WITH NATIONAL BUDGET FRAME &amp; PEAP PRSP/PRSC (3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ahoma"/>
              </a:rPr>
              <a:t>PEAP / PRSP VERY BROAD ! 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Macro-economic; Governance; Income of the Poor; Quality of Life of the Po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Poor vs Non-poor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ahoma"/>
              </a:rPr>
              <a:t>FROM NATIONAL PLAN ----&gt; PRSP ----&gt; PRSC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HEALTH SECTOR WITHIN “PILAR 4” OF POVERTY ERADICATION ACTION PLAN (“PEAP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PEAP = PRS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PRSP AS THE BASIS FOR PRS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ahoma"/>
              </a:rPr>
              <a:t>OUTCOME OF HEALTH SWAp in PRSC PRO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HSSP TARGETS AND MTR ‘UNDERTAKINGS’ USED AS BENCHMARKS IN THE POLICY MATRIX OF PRSC TO MONITOR PROGRESS MA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12F-D588-4A8E-A2B2-AF78A48218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. CONTRIBUTION OF BELGIUM 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2971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- NATION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- DISTRI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97DD-7327-40D7-B514-753EA2B7D6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Contribution of Belgium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National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OAL ?? (linked to sectors in Country Strategy Paper, Indicative Country Program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Participation in SWAp structures (HAPC, HDP group, MTR, Working Groups, ICC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HO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Participation in PRSC proces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HO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OW 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AF5-8664-42A7-B9A0-A16E88DA5A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Contribution of Belgium (2)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District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OAL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In district coordination structures (esp. When decentralised governme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HO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In operational activ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HO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564-5B10-4AD3-B68F-645BE086D9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B3CE-42C8-49FC-B318-18143AE5D7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64800" y="21337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ommon definitions of S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hat SWAp really is (should b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lgian contribution to S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B34-E382-4B81-B5DA-D823ED55D4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. COMMON DEFINI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520" y="2971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- from policy to polic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- a proce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D042-EFD3-44AC-878D-103F08AB65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SWAp’s - DEFINI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nl-NL" sz="2800" spc="-1" strike="noStrike">
                <a:solidFill>
                  <a:srgbClr val="000000"/>
                </a:solidFill>
                <a:latin typeface="Tahoma"/>
              </a:rPr>
              <a:t>All significant funding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for the sector suppor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a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gle sector policy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diture program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vernment leadersh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adopting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 approach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across the s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progress towards relying on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vernment procedur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disburs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funds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WHO (2000) “Sector-wide Approaches for Health Development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6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SWAp = a pro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broadening &amp; deapening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licy dialog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more sector funds into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-ordinated arrangement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developing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cedur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based on those of gover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-----&gt; focus on the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intended direction of chang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ather than just the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level of attai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977-5904-49C0-BA47-0778CB2A3E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2. WHAT SWAp REALLY I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(or should be)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- not only fund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- efficiency / effectivene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6441-766A-414D-B275-4F21C64835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ULTIMATE GOAL OF A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Health SWAp 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ONLY A PROCES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LTIMATE PURPOS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 EFFICIENCY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REASED  AND IMPROVE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 THE SAME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D1F-A7D5-4817-AF5B-B0805C5E26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So: What are the </a:t>
            </a:r>
            <a:r>
              <a:rPr b="1" i="1" lang="nl-NL" sz="3600" spc="-1" strike="noStrike">
                <a:solidFill>
                  <a:srgbClr val="000000"/>
                </a:solidFill>
                <a:latin typeface="Arial"/>
              </a:rPr>
              <a:t>keys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 in a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Health SWAp to increase efficiency 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3920" y="1523520"/>
            <a:ext cx="8559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ahoma"/>
              </a:rPr>
              <a:t>GOVT USE PARTNERSHIP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ahoma"/>
              </a:rPr>
              <a:t>CONSENSUS BUILDING AROUN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1) “SOLID PIECE” of </a:t>
            </a:r>
            <a:r>
              <a:rPr b="1" lang="nl-NL" sz="32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- Evidence-based; based on ORGANISATIONAL PRINCIPLES for SERVICE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2) Common </a:t>
            </a:r>
            <a:r>
              <a:rPr b="1" lang="nl-NL" sz="3200" spc="-1" strike="noStrike">
                <a:solidFill>
                  <a:srgbClr val="000000"/>
                </a:solidFill>
                <a:latin typeface="Tahoma"/>
              </a:rPr>
              <a:t>PLANNING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 de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- activity packages by level; 5-yr/1yr, incl. COSTING &amp; FIN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) ‘Adapted’ </a:t>
            </a:r>
            <a:r>
              <a:rPr b="1" lang="nl-NL" sz="3200" spc="-1" strike="noStrike">
                <a:solidFill>
                  <a:srgbClr val="000000"/>
                </a:solidFill>
                <a:latin typeface="Tahoma"/>
              </a:rPr>
              <a:t>FUNDING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 arrang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(not only ‘common basket’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ADB-F6B4-4473-B29E-30E3EE8BFD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Health SWAp </a:t>
            </a:r>
            <a:r>
              <a:rPr b="1" i="1" lang="nl-NL" sz="4000" spc="-1" strike="noStrike">
                <a:solidFill>
                  <a:srgbClr val="000000"/>
                </a:solidFill>
                <a:latin typeface="Arial"/>
              </a:rPr>
              <a:t>keys</a:t>
            </a: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 for increased efficiency (Cont’d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4) Reliable </a:t>
            </a:r>
            <a:r>
              <a:rPr b="1" lang="nl-NL" sz="3200" spc="-1" strike="noStrike">
                <a:solidFill>
                  <a:srgbClr val="000000"/>
                </a:solidFill>
                <a:latin typeface="Tahoma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- on input, process &amp;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5) Continuous </a:t>
            </a:r>
            <a:r>
              <a:rPr b="1" lang="nl-NL" sz="3200" spc="-1" strike="noStrike">
                <a:solidFill>
                  <a:srgbClr val="000000"/>
                </a:solidFill>
                <a:latin typeface="Tahoma"/>
              </a:rPr>
              <a:t>EVALUATION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 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- at “Health District” &amp; national level; regular meetings with all invol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6) Accountable resources </a:t>
            </a:r>
            <a:r>
              <a:rPr b="1" lang="nl-NL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1" lang="nl-NL" sz="3200" spc="-1" strike="noStrike">
                <a:solidFill>
                  <a:srgbClr val="000000"/>
                </a:solidFill>
                <a:latin typeface="Tahoma"/>
              </a:rPr>
              <a:t>ACCOUNTING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 proced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D805-0A6F-4C86-92C8-2BE8DC3D4E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3.CHALLEN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99840" y="2590560"/>
            <a:ext cx="67057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- Donors &amp; Gov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- Link with national budget frame &amp; PRSP/PRS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- Decentralis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5D28-C683-4508-B444-1D472D35A5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11:26:29Z</dcterms:created>
  <dc:creator>Client 98</dc:creator>
  <dc:description/>
  <dc:language>en-US</dc:language>
  <cp:lastModifiedBy>Client 98</cp:lastModifiedBy>
  <cp:lastPrinted>2003-03-02T17:31:34Z</cp:lastPrinted>
  <dcterms:modified xsi:type="dcterms:W3CDTF">2003-03-02T18:16:49Z</dcterms:modified>
  <cp:revision>66</cp:revision>
  <dc:subject/>
  <dc:title>SECTOR-WIDE APPROACHES IN THE HEALTH SECTOR (IN UGANDA)</dc:title>
</cp:coreProperties>
</file>