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395-DACA-4834-B140-D12DD650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D27-5B97-4A30-9E7D-02C2B304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D11-B865-4B78-91D8-874E5DB0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A8E-23CA-41A1-B468-C5992091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C5A-D786-431E-9EB3-F9696928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827-E556-4AB2-821A-69237EDE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BD2-6027-4041-B936-97D9E62C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3B6-20BE-4EDC-B531-7058B92F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A55-94D3-4C8E-A3A2-4A613CE6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6CC-CBAA-4F32-BD65-D97C07A8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41F-C160-42F3-89F1-D3F0DE06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89F-09FA-45F1-A46A-E26E6D57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F6AA-EB11-40A2-98B3-0AFE72B76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Chart 1: Trends in Health Financing Mechanisms in Uganda (at 2000/01 prices, Ugandan Shill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92280" y="1676520"/>
          <a:ext cx="8051760" cy="46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6520"/>
                    <a:ext cx="805176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17:43:32Z</dcterms:created>
  <dc:creator>Client 98</dc:creator>
  <dc:description/>
  <dc:language>en-US</dc:language>
  <cp:lastModifiedBy>Client 98</cp:lastModifiedBy>
  <dcterms:modified xsi:type="dcterms:W3CDTF">2003-03-02T18:04:21Z</dcterms:modified>
  <cp:revision>2</cp:revision>
  <dc:subject/>
  <dc:title>Chart 1: Trends in Health Financing Mechanisms in Uganda (at 2000/01 prices)</dc:title>
</cp:coreProperties>
</file>