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000" spc="-1" strike="noStrike">
                <a:solidFill>
                  <a:srgbClr val="ccff5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y to speak for 10 min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tal issue – quality as well as quantity of 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5680" y="380520"/>
            <a:ext cx="86979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6040" y="1699920"/>
            <a:ext cx="84470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040" y="4182480"/>
            <a:ext cx="84470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5680" y="380520"/>
            <a:ext cx="86979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6040" y="1699920"/>
            <a:ext cx="4122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4680" y="1699920"/>
            <a:ext cx="4122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6040" y="4182480"/>
            <a:ext cx="4122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4680" y="4182480"/>
            <a:ext cx="4122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5680" y="380520"/>
            <a:ext cx="86979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6040" y="1699920"/>
            <a:ext cx="27198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2280" y="1699920"/>
            <a:ext cx="27198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8520" y="1699920"/>
            <a:ext cx="27198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6040" y="4182480"/>
            <a:ext cx="27198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2280" y="4182480"/>
            <a:ext cx="27198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8520" y="4182480"/>
            <a:ext cx="27198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5680" y="380520"/>
            <a:ext cx="86979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6040" y="1699920"/>
            <a:ext cx="84470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5680" y="380520"/>
            <a:ext cx="86979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6040" y="1699920"/>
            <a:ext cx="84470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5680" y="380520"/>
            <a:ext cx="86979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6040" y="1699920"/>
            <a:ext cx="41220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4680" y="1699920"/>
            <a:ext cx="41220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5680" y="380520"/>
            <a:ext cx="86979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5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5680" y="380520"/>
            <a:ext cx="86979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5680" y="380520"/>
            <a:ext cx="86979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6040" y="1699920"/>
            <a:ext cx="4122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4680" y="1699920"/>
            <a:ext cx="41220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6040" y="4182480"/>
            <a:ext cx="4122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5680" y="380520"/>
            <a:ext cx="86979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6040" y="1699920"/>
            <a:ext cx="41220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4680" y="1699920"/>
            <a:ext cx="4122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4680" y="4182480"/>
            <a:ext cx="4122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5680" y="380520"/>
            <a:ext cx="86979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6040" y="1699920"/>
            <a:ext cx="4122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4680" y="1699920"/>
            <a:ext cx="4122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040" y="4182480"/>
            <a:ext cx="844704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5680" y="380520"/>
            <a:ext cx="86979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5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6040" y="1699920"/>
            <a:ext cx="84470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169040" y="0"/>
            <a:ext cx="1974960" cy="22096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4771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7c80"/>
                </a:solidFill>
                <a:latin typeface="Times New Roman"/>
              </a:rPr>
              <a:t>Réunion Bruxelles Mars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7596360" y="333360"/>
            <a:ext cx="10191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S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3123720"/>
            <a:ext cx="8139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ff50"/>
                </a:solidFill>
                <a:latin typeface="Arial"/>
              </a:rPr>
              <a:t>Harmoniser autour des processus nationaux</a:t>
            </a:r>
            <a:endParaRPr b="1" lang="en-US" sz="3600" spc="-1" strike="noStrike">
              <a:solidFill>
                <a:srgbClr val="ccff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5680" y="380520"/>
            <a:ext cx="86979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ff50"/>
                </a:solidFill>
                <a:latin typeface="Arial"/>
              </a:rPr>
              <a:t>Mais aussi…</a:t>
            </a:r>
            <a:endParaRPr b="1" lang="en-US" sz="40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6040" y="1341000"/>
            <a:ext cx="84470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Arial"/>
              </a:rPr>
              <a:t>Développement parallèle de matrices de mesures/indicateur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66ccff"/>
                </a:solidFill>
                <a:latin typeface="Arial"/>
              </a:rPr>
              <a:t>(ex Rwanda, Ouganda, Burkina)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Arial"/>
              </a:rPr>
              <a:t>Multiplication des missions et rapports</a:t>
            </a:r>
            <a:br>
              <a:rPr sz="3200"/>
            </a:br>
            <a:r>
              <a:rPr b="0" lang="fr-FR" sz="2400" spc="-1" strike="noStrike">
                <a:solidFill>
                  <a:srgbClr val="66ccff"/>
                </a:solidFill>
                <a:latin typeface="Arial"/>
              </a:rPr>
              <a:t>( ex Tanzanie, Ouganda, Burkina...)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Arial"/>
              </a:rPr>
              <a:t>Pas de lien entre le calendrier des revues du PRSP et les cycles budgétair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66ccff"/>
                </a:solidFill>
                <a:latin typeface="Arial"/>
              </a:rPr>
              <a:t>(Burkina, Tanzanie, Ouganda...)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Arial"/>
              </a:rPr>
              <a:t>Incohérence entre cycle du DSRP et revues des appuis budgétaires </a:t>
            </a:r>
            <a:r>
              <a:rPr b="0" lang="fr-FR" sz="2400" spc="-1" strike="noStrike">
                <a:solidFill>
                  <a:srgbClr val="66ccff"/>
                </a:solidFill>
                <a:latin typeface="Arial"/>
              </a:rPr>
              <a:t>(partout...)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58920" y="4076640"/>
            <a:ext cx="2736720" cy="287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ppuis budg. bilatérau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5680" y="380520"/>
            <a:ext cx="86979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ff50"/>
                </a:solidFill>
                <a:latin typeface="Arial"/>
              </a:rPr>
              <a:t>Exemple ….</a:t>
            </a:r>
            <a:endParaRPr b="1" lang="en-US" sz="36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1987560"/>
            <a:ext cx="0" cy="4321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903320"/>
            <a:ext cx="8650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Q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Q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Q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Q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58920" y="2060640"/>
            <a:ext cx="2735280" cy="2984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udg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4441680"/>
            <a:ext cx="2739960" cy="358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apport annuel DS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58920" y="3645000"/>
            <a:ext cx="2736720" cy="28872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ission FMI PRG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58920" y="5734080"/>
            <a:ext cx="2736720" cy="28728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ission FMI PRG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58920" y="4797360"/>
            <a:ext cx="2736720" cy="287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ission BM PRS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2781360"/>
            <a:ext cx="2736720" cy="287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ission BM PRS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58920" y="5445000"/>
            <a:ext cx="2736720" cy="2876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ission BM PRS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3068640"/>
            <a:ext cx="2736720" cy="287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ppuis budg. bilatér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55680" y="6021360"/>
            <a:ext cx="2739960" cy="287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vues sectorie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87960" y="1989000"/>
            <a:ext cx="546120" cy="4319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vues des proj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58920" y="5157720"/>
            <a:ext cx="2736720" cy="287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ppuis budg. bilatérau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2349360"/>
            <a:ext cx="2736720" cy="287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ables ron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5680" y="380520"/>
            <a:ext cx="86979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ff50"/>
                </a:solidFill>
                <a:latin typeface="Arial"/>
              </a:rPr>
              <a:t>Il est possible de changer : </a:t>
            </a:r>
            <a:br>
              <a:rPr sz="3600"/>
            </a:br>
            <a:r>
              <a:rPr b="1" lang="fr-FR" sz="3600" spc="-1" strike="noStrike">
                <a:solidFill>
                  <a:srgbClr val="ccff50"/>
                </a:solidFill>
                <a:latin typeface="Arial"/>
              </a:rPr>
              <a:t>leçons des missions </a:t>
            </a:r>
            <a:endParaRPr b="1" lang="en-US" sz="36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6040" y="2286000"/>
            <a:ext cx="844704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Arial"/>
              </a:rPr>
              <a:t>Passer du document SRP au processus SRP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Arial"/>
              </a:rPr>
              <a:t>Annualiser les matrices d’indicateurs et de mesures politiqu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Arial"/>
              </a:rPr>
              <a:t>Une revue annuelle : leçons de l ’année passée et orientation pour le futur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Arial"/>
              </a:rPr>
              <a:t>Cohérente avec le cycle budgétair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5680" y="304920"/>
            <a:ext cx="8697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ff50"/>
                </a:solidFill>
                <a:latin typeface="Arial"/>
              </a:rPr>
              <a:t>Il est possible de changer : leçons des missions </a:t>
            </a:r>
            <a:r>
              <a:rPr b="1" lang="fr-FR" sz="3600" spc="-1" strike="noStrike">
                <a:solidFill>
                  <a:srgbClr val="ccff50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ccff5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699920"/>
            <a:ext cx="86979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Arial"/>
              </a:rPr>
              <a:t>Utiliser les revues annuelles du SRP (et les revues sectorielles) pour dialoguer et faire les engagements financier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Arial"/>
              </a:rPr>
              <a:t>Utiliser le cadre de la revue annuelle du PRS (partie de la matrice d ’indicateurs et de mesures politiques) pour les conditionnalités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Arial"/>
              </a:rPr>
              <a:t>Utiliser la revue annuelle pour effectuer les revues des appuis budgétaires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58920" y="4076640"/>
            <a:ext cx="2736720" cy="287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nor Budget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5680" y="380520"/>
            <a:ext cx="86979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ff50"/>
                </a:solidFill>
                <a:latin typeface="Arial"/>
              </a:rPr>
              <a:t>Cycle cohérent de la SRP?</a:t>
            </a:r>
            <a:endParaRPr b="1" lang="en-US" sz="40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1987560"/>
            <a:ext cx="0" cy="4321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1903320"/>
            <a:ext cx="8650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Q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Q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Q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Q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2060640"/>
            <a:ext cx="2735280" cy="2984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udget &amp; MT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4437000"/>
            <a:ext cx="2739960" cy="358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SP Report &amp; 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3645000"/>
            <a:ext cx="2736720" cy="28872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MF PRGF 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5734080"/>
            <a:ext cx="2736720" cy="28728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MF PRGF 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58920" y="4797360"/>
            <a:ext cx="2736720" cy="287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B PRSC 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58920" y="2781360"/>
            <a:ext cx="2736720" cy="287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B PRSC 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5445000"/>
            <a:ext cx="2736720" cy="2876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B PRSC 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3068640"/>
            <a:ext cx="2736720" cy="287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nor Budget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55680" y="6021360"/>
            <a:ext cx="2739960" cy="287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ctor revi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5157720"/>
            <a:ext cx="2736720" cy="287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nor Budget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2349360"/>
            <a:ext cx="2736720" cy="287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nor CG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85080" y="1859040"/>
            <a:ext cx="865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Q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Q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Q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Q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12000" y="1916280"/>
            <a:ext cx="0" cy="4321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2205000"/>
            <a:ext cx="2808000" cy="360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udg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773360"/>
            <a:ext cx="4356000" cy="4680000"/>
          </a:xfrm>
          <a:prstGeom prst="rect">
            <a:avLst/>
          </a:prstGeom>
          <a:solidFill>
            <a:srgbClr val="9900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3505320"/>
            <a:ext cx="2743200" cy="99036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vue du DS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vues des appuis FMI, BM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UE bilateraux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2743200"/>
            <a:ext cx="2743200" cy="3808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vue sectoriel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5680" y="380520"/>
            <a:ext cx="86979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ff50"/>
                </a:solidFill>
                <a:latin typeface="Arial"/>
              </a:rPr>
              <a:t>Qu’est ce que le PSA ?</a:t>
            </a:r>
            <a:endParaRPr b="1" lang="en-US" sz="40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6040" y="1699920"/>
            <a:ext cx="84470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Forum informel de donneurs créé il y a 15 an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éunissant BM, FMI, UE, BAD, bilatéraux, PNUD, CAD …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lénière et Groupe Techniqu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D ’abord autour de l ’ajustement structur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volutions récentes :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ien étroit avec voix africaines (CEA)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Attention aux DSRP, particulièrement appuis budgétair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5680" y="380520"/>
            <a:ext cx="86979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ff50"/>
                </a:solidFill>
                <a:latin typeface="Arial"/>
              </a:rPr>
              <a:t>Objectifs des missions </a:t>
            </a:r>
            <a:endParaRPr b="1" lang="en-US" sz="40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6040" y="1676520"/>
            <a:ext cx="84470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xaminer ce qui peut changer après  les DSRP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afin de renforcer les processus nationaux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t d’harmoniser les appuis des bailleurs de fonds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mprendre les problèmes (gouvernement et donateurs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dentifier des solutions concrètes et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changements nécessaires pour y parvenir en particulier pour les appuis budgétair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apporter aux sièges, PSA, CAD…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4648320"/>
            <a:ext cx="8534520" cy="1600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5680" y="533520"/>
            <a:ext cx="86979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ff50"/>
                </a:solidFill>
                <a:latin typeface="Arial"/>
              </a:rPr>
              <a:t>De nombreux problèmes dans la mise en œuvre des aides</a:t>
            </a:r>
            <a:endParaRPr b="1" lang="en-US" sz="40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8680" y="1752480"/>
            <a:ext cx="8697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Arial"/>
              </a:rPr>
              <a:t>Coût élevé dû aux différentes procédur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Arial"/>
              </a:rPr>
              <a:t>Demandes multiples et parfois incohérent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Arial"/>
              </a:rPr>
              <a:t>Lenteur et imprévisibilité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Arial"/>
              </a:rPr>
              <a:t>Manque de transparenc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Arial"/>
              </a:rPr>
              <a:t>Méfiances réciproqu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Arial"/>
              </a:rPr>
              <a:t>Affaiblissement des systèmes nationaux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Arial"/>
              </a:rPr>
              <a:t>Perversion des systèmes de responsabilisation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752480"/>
            <a:ext cx="8534520" cy="2952720"/>
          </a:xfrm>
          <a:prstGeom prst="rect">
            <a:avLst/>
          </a:prstGeom>
          <a:solidFill>
            <a:srgbClr val="000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43640" y="5373720"/>
            <a:ext cx="2514600" cy="129528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Times New Roman"/>
              </a:rPr>
              <a:t>Problème  </a:t>
            </a:r>
            <a:br>
              <a:rPr sz="2800"/>
            </a:br>
            <a:r>
              <a:rPr b="1" lang="en-GB" sz="2800" spc="-1" strike="noStrike">
                <a:solidFill>
                  <a:srgbClr val="ffff66"/>
                </a:solidFill>
                <a:latin typeface="Times New Roman"/>
              </a:rPr>
              <a:t>de l’a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5680" y="380520"/>
            <a:ext cx="86979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ff50"/>
                </a:solidFill>
                <a:latin typeface="Arial"/>
              </a:rPr>
              <a:t>Le cercle vicieux</a:t>
            </a:r>
            <a:endParaRPr b="1" lang="en-US" sz="40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2514600"/>
            <a:ext cx="1749600" cy="2174760"/>
          </a:xfrm>
          <a:custGeom>
            <a:avLst/>
            <a:gdLst>
              <a:gd name="textAreaLeft" fmla="*/ 234360 w 1749600"/>
              <a:gd name="textAreaRight" fmla="*/ 1515240 w 1749600"/>
              <a:gd name="textAreaTop" fmla="*/ 380520 h 2174760"/>
              <a:gd name="textAreaBottom" fmla="*/ 1576800 h 217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648320" y="2362320"/>
            <a:ext cx="1981080" cy="2071440"/>
          </a:xfrm>
          <a:custGeom>
            <a:avLst/>
            <a:gdLst>
              <a:gd name="textAreaLeft" fmla="*/ 265320 w 1981080"/>
              <a:gd name="textAreaRight" fmla="*/ 1715760 w 1981080"/>
              <a:gd name="textAreaTop" fmla="*/ 362880 h 2071440"/>
              <a:gd name="textAreaBottom" fmla="*/ 1502280 h 20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464832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éveloppement de systèmes parrallè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134136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ystèmes gouvernementaux fa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263700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ffaiblissement des systèmes nation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04812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Méfiances des dona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43640" y="5373720"/>
            <a:ext cx="2514600" cy="129528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Times New Roman"/>
              </a:rPr>
              <a:t>Problè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Times New Roman"/>
              </a:rPr>
              <a:t>de l’a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5680" y="380520"/>
            <a:ext cx="86979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ff50"/>
                </a:solidFill>
                <a:latin typeface="Arial"/>
              </a:rPr>
              <a:t>Casser ce cycle</a:t>
            </a:r>
            <a:endParaRPr b="1" lang="en-US" sz="40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5680" y="1844640"/>
            <a:ext cx="8697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Appuyer des stratégies nationales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Renforcer des états capables de rendre compt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Dialogue centré sur les objectifs et les résultat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Apporter des appuis cohérents aux stratégi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qui renforcent les capacités de l ’Etat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dans un contexte d ’obligations réciproqu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5680" y="380520"/>
            <a:ext cx="86979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ff50"/>
                </a:solidFill>
                <a:latin typeface="Arial"/>
              </a:rPr>
              <a:t>Documents de Stratégie de Réduction de la Pauvreté</a:t>
            </a:r>
            <a:endParaRPr b="1" lang="en-US" sz="40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04560"/>
            <a:ext cx="844704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66"/>
                </a:solidFill>
                <a:latin typeface="Arial"/>
              </a:rPr>
              <a:t>Conçu comme un nouveau partenari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66"/>
                </a:solidFill>
                <a:latin typeface="Arial"/>
              </a:rPr>
              <a:t>Les DSRP sont une opportunité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rincipe d ’ownership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adre de développement global à moyen term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orienté sur les résultat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adre pour l ’utilisation des ressources nationales et extérieur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7" dur="1" fill="hold"/>
                                  <p:tgtEl>
                                    <p:spTgt spid="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5680" y="380520"/>
            <a:ext cx="86979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ff50"/>
                </a:solidFill>
                <a:latin typeface="Arial"/>
              </a:rPr>
              <a:t>Nous sommes à un moment critique</a:t>
            </a:r>
            <a:endParaRPr b="1" lang="en-US" sz="40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6040" y="1699920"/>
            <a:ext cx="41464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ff33"/>
                </a:solidFill>
                <a:latin typeface="Arial"/>
              </a:rPr>
              <a:t>risqu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rocessus additionn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lus de conditions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lus de rapports, de missions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Moins de coordin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Développement de processus parallèl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00360" y="1699920"/>
            <a:ext cx="4392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ff33"/>
                </a:solidFill>
                <a:latin typeface="Arial"/>
              </a:rPr>
              <a:t>opportunité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Modifie le cadre des relations autour des processus nationaux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hérence des revu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imitation des condition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Harmonisations des appuis extérieur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73160" y="5716440"/>
            <a:ext cx="7056360" cy="936720"/>
          </a:xfrm>
          <a:prstGeom prst="horizontalScroll">
            <a:avLst>
              <a:gd name="adj" fmla="val 12500"/>
            </a:avLst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DSRP : plus de contraintes ou un vrai chang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5680" y="380520"/>
            <a:ext cx="86979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ff50"/>
                </a:solidFill>
                <a:latin typeface="Arial"/>
              </a:rPr>
              <a:t>Quelques progrès</a:t>
            </a:r>
            <a:endParaRPr b="1" lang="en-US" sz="4000" spc="-1" strike="noStrike">
              <a:solidFill>
                <a:srgbClr val="ccff5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6040" y="1699920"/>
            <a:ext cx="84470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Arial"/>
              </a:rPr>
              <a:t>Alignement des stratégies d ’assistance   ^^aux pays avec les DSRP</a:t>
            </a:r>
            <a:br>
              <a:rPr sz="3200"/>
            </a:br>
            <a:r>
              <a:rPr b="0" lang="fr-FR" sz="2400" spc="-1" strike="noStrike">
                <a:solidFill>
                  <a:srgbClr val="66ccff"/>
                </a:solidFill>
                <a:latin typeface="Arial"/>
              </a:rPr>
              <a:t>(BM, UE, GB ….)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Arial"/>
              </a:rPr>
              <a:t>Cadre commun pour des appuis budgétaires</a:t>
            </a:r>
            <a:br>
              <a:rPr sz="3200"/>
            </a:br>
            <a:r>
              <a:rPr b="0" lang="fr-FR" sz="2400" spc="-1" strike="noStrike">
                <a:solidFill>
                  <a:srgbClr val="66ccff"/>
                </a:solidFill>
                <a:latin typeface="Arial"/>
              </a:rPr>
              <a:t>(Malawi, Mozambique, Burkina, Ouganda, Ghana …)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Arial"/>
              </a:rPr>
              <a:t>Volonté de limiter les conditionnalités</a:t>
            </a:r>
            <a:br>
              <a:rPr sz="3200"/>
            </a:br>
            <a:r>
              <a:rPr b="0" lang="fr-FR" sz="2400" spc="-1" strike="noStrike">
                <a:solidFill>
                  <a:srgbClr val="66ccff"/>
                </a:solidFill>
                <a:latin typeface="Arial"/>
              </a:rPr>
              <a:t>(FMI, BM, UE …)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</cp:lastModifiedBy>
  <dcterms:modified xsi:type="dcterms:W3CDTF">2003-03-03T07:24:36Z</dcterms:modified>
  <cp:revision>433</cp:revision>
  <dc:subject/>
  <dc:title>PowerPoint Presentation</dc:title>
</cp:coreProperties>
</file>