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48DD-98AB-4A8D-847C-545EAB90D3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repayments of principal and interest actually servi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whether defaulting on its debt service or not is immaterial to our arg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6E4-AB47-42DA-AFB7-9E6DC760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E84-8A8D-4E8E-BEA1-BCA9E164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14B-7A36-4E07-B4B9-B1A6A5A7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B74E-B520-4038-97F1-3E5151E2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6E0-2803-4442-AC71-DB8015A0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DB8-05CB-4759-A588-5E2BFD56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E8F-0A86-41F6-850A-40746584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BC4-1CEA-47C1-8A3D-0D9118F2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7B28-7CAF-4A53-9E29-148016AB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1B1-35D8-44C7-8CA6-FCF9196F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66F-5EF1-47CE-9291-FC2D5EC8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A87-20E2-460D-A7B7-D8D3A801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3395-12DE-460D-8197-C2E1AE93D3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H</a:t>
            </a:r>
            <a:r>
              <a:rPr b="1" lang="en-GB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IPC Expenditures, Ownership and the Role of Donors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Robrecht Ren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University of Antwer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08000"/>
                </a:solidFill>
                <a:latin typeface="Times New Roman"/>
              </a:rPr>
              <a:t>All in all, one would expect a substantial effort at debt cancell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imes New Roman"/>
              </a:rPr>
              <a:t>Does HIPC live up to the expec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08000"/>
                </a:solidFill>
                <a:latin typeface="Times New Roman"/>
              </a:rPr>
              <a:t>II. Characteristics of HIPC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459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08000"/>
                </a:solidFill>
                <a:latin typeface="Times New Roman"/>
              </a:rPr>
              <a:t>HIPC II eligibility criteri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low-income 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unsustainable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track record of sustained adjus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up to decision point: 3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up to completion point: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PR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08000"/>
                </a:solidFill>
                <a:latin typeface="Times New Roman"/>
              </a:rPr>
              <a:t>Unsustainable deb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2486160" cy="78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525780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08000"/>
                </a:solidFill>
                <a:latin typeface="Times New Roman"/>
              </a:rPr>
              <a:t>Situation September 2002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26 countries reached their decision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of which 6 countries their completion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debt relief of &gt; $40 billion (nomi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debt as a per cent of GDP from 56% to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debt service requirements cut by one-th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$1.3 billion annual sav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08000"/>
                </a:solidFill>
                <a:latin typeface="Times New Roman"/>
              </a:rPr>
              <a:t>III. Some topics for discuss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Is debt relief really addition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Should donors extend deeper debt relief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Is the conditionality rig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08000"/>
                </a:solidFill>
                <a:latin typeface="Times New Roman"/>
              </a:rPr>
              <a:t>Is aid additional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virtual or illusory resour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compared to effective debt service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compared to contractual debt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additional to other 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EURO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a glorified accounting excerci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808000"/>
                </a:solidFill>
                <a:latin typeface="Times New Roman"/>
              </a:rPr>
              <a:t>Fungibility could undermine additionality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74962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are of Debt Relief in DAC Members' Total Net ODA in 2000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77724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A from DAC countri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billion US$ - 1998 prices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19200" y="1981080"/>
            <a:ext cx="610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nl-BE" sz="4400" spc="-1" strike="noStrike">
                <a:solidFill>
                  <a:srgbClr val="808000"/>
                </a:solidFill>
                <a:latin typeface="Times New Roman"/>
              </a:rPr>
              <a:t>   </a:t>
            </a:r>
            <a:r>
              <a:rPr b="0" lang="nl-BE" sz="4400" spc="-1" strike="noStrike">
                <a:solidFill>
                  <a:srgbClr val="808000"/>
                </a:solidFill>
                <a:latin typeface="Times New Roman"/>
              </a:rPr>
              <a:t>I. Introduc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Financial flows between low-income countries and public donors consist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outflows of debt service payments</a:t>
            </a: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inflows of grant aid and new lo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resulting in considerable net inflo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08000"/>
                </a:solidFill>
                <a:latin typeface="Times New Roman"/>
              </a:rPr>
              <a:t>Should donors go further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by moving the cut-off date forward in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by redefining sustainabi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by radically cancelling all public debt to low-income count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08000"/>
                </a:solidFill>
                <a:latin typeface="Times New Roman"/>
              </a:rPr>
              <a:t>The sustainability debat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present definition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arbit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non developm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proposal by anti-debt campaig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consider debt relief as an aid instr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take MDGs seri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define sustainability with respect to fiscal spending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08000"/>
                </a:solidFill>
                <a:latin typeface="Times New Roman"/>
              </a:rPr>
              <a:t>Which conditionality for HIPC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ex ante: adjustment plus pro-poor sp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ex post: pro-poor expenditure 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virtual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compreh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who should do the track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808000"/>
                </a:solidFill>
                <a:latin typeface="Times New Roman"/>
              </a:rPr>
              <a:t>Financial condition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01680" y="1981080"/>
            <a:ext cx="494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Notwithstanding positive net transfers and high loan concessionalit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many recipients have difficulty servicing their old deb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while facing severe administrative and managerial constraints in absorbing new ai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suggesting a recurrent fiscal constr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and a mismatch of aid instruments (project aid versus budget support) and financial conditions (soft loans versus gran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08000"/>
                </a:solidFill>
                <a:latin typeface="Times New Roman"/>
              </a:rPr>
              <a:t>Debt relief is</a:t>
            </a:r>
            <a:br>
              <a:rPr sz="4400"/>
            </a:br>
            <a:r>
              <a:rPr b="0" lang="nl-BE" sz="4400" spc="-1" strike="noStrike">
                <a:solidFill>
                  <a:srgbClr val="808000"/>
                </a:solidFill>
                <a:latin typeface="Times New Roman"/>
              </a:rPr>
              <a:t>akin to budget suppor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and has similar 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relieves the recurrent fiscal constr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enhances fiscal ow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has low transaction costs for the recip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and then some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is predic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is not  pro-cycl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reduces debt overh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808000"/>
                </a:solidFill>
                <a:latin typeface="Times New Roman"/>
              </a:rPr>
              <a:t>Debt relief</a:t>
            </a:r>
            <a:br>
              <a:rPr sz="3600"/>
            </a:br>
            <a:r>
              <a:rPr b="0" lang="nl-BE" sz="3600" spc="-1" strike="noStrike">
                <a:solidFill>
                  <a:srgbClr val="808000"/>
                </a:solidFill>
                <a:latin typeface="Times New Roman"/>
              </a:rPr>
              <a:t>as an instrument of aid makes extra sense in view of the fact that</a:t>
            </a:r>
            <a:r>
              <a:rPr b="0" lang="nl-BE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LICs might be unable to absorb the extra new aid required to achieve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donor public opinion favours debt cancellation over identical new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808000"/>
                </a:solidFill>
                <a:latin typeface="Times New Roman"/>
              </a:rPr>
              <a:t>Extra ODA to achieve MDG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687384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08000"/>
                </a:solidFill>
                <a:latin typeface="Times New Roman"/>
              </a:rPr>
              <a:t>Debt relief also has some disadvantages, such as                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moral hazar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adverse selec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imes New Roman"/>
              </a:rPr>
              <a:t>and it raises complex issues of creditor burden sha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0:50:44Z</dcterms:created>
  <dc:creator>College</dc:creator>
  <dc:description/>
  <dc:language>en-US</dc:language>
  <cp:lastModifiedBy>Een tevreden Microsoft Office-gebruiker</cp:lastModifiedBy>
  <dcterms:modified xsi:type="dcterms:W3CDTF">2003-02-17T16:34:12Z</dcterms:modified>
  <cp:revision>39</cp:revision>
  <dc:subject/>
  <dc:title>HIPC Expenditures, Ownership and the Role of Donors </dc:title>
</cp:coreProperties>
</file>